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477-55AE-468C-8B9F-96AF63D7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C05-467C-450E-AE40-FEF3AFFE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26E-8899-4224-B20F-0AAFC07A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9C6-C8CC-4099-B67C-F519D439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A751-E8CE-4646-BBF7-79F34791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7CC5-987B-4C50-BB3B-C03C895B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8CDA-7CD9-4040-BBB7-818B838E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860B-A7E6-4B93-9A4B-6EAFA4B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E2CD-6906-4B3B-98B2-02F52E32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904C-7699-4CC8-9913-41D3DF58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F594-7402-4569-BD17-3728BF1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8D3-98A8-4786-BAF2-0A1D22FD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547E-593F-4E3E-83C1-04D1F16A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CE69-A2D5-4448-9072-57F91B5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9827-B0CC-4984-8C30-DCE0BD8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40A0-4931-4362-AC34-DE6E7453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5716-F782-45E5-9719-4DDDA953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0A7-1DF0-43DD-A022-EB3E3946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C4F-566F-4D72-9344-C846A89C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584-B426-4498-A732-1CFD6517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C56-F755-4FDF-B715-D6ED2E6C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4E1-C063-4401-B6B6-E95E6BFE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2B0-7565-44FE-B4FB-649ECB41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247-9255-41BB-9B43-0F5E416B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7515-AE78-44B9-8800-1564ABC846F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6A1A-DC7D-4FB0-9F97-1DAE98F3155B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800" spc="-1" strike="noStrike">
                <a:solidFill>
                  <a:srgbClr val="ffffcc"/>
                </a:solidFill>
                <a:latin typeface="Tahoma"/>
              </a:rPr>
              <a:t>الادوية المضادة للميكروبات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تحدث التفاعلات الفور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خلال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ثانية بعد الاعطاء حقناً و تتكون من الحك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urit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ch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اخدرار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nes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أزي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ez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حم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ver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وذم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em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شر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ticar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. قد تقود إلى هبوط الضغط و الصدم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ck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فقد الوعي والموت . و يبدو أن تفاعل فرط التحسس للبنسلينات متواسطاً بأضداد الغلوبولينات المناعي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g Eantibodies )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ظهر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التفاعلات المعجل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عد ساعة واحدة إل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ساعة من إعطاء الدواء و تتكون على نحو رئيسي من الشرى ( الانتبار )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أما التفاعلات المتأخرة فهي أكثر شيوعاً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البنسلينات نصف التخليقية و تظهر بع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ساعة إلى عدة أسابيع من إعطاء الدواء و تتكون على نحو رئيسي من أطفاح جلد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 rash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أو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زو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zo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لك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phalex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الطيف الضيق مشابه للطيف الواسع للبنسلينات ؛ حساس للبيتا - لاكتاماز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ثان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كلو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c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امندول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mand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وكيست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oxit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فعالية متزايدة تجاه الجراثيم سالبة الغرام ؛ ثبات متزايد 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ثالث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وتاكس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otax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تازيد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tazid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سيفترياكسو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triax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أوسع في الطيف و أكثر مقاومة للبيتا - لاكتاماز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جيل الرابع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يفيبيم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fep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يفبيروم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fpiro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فعالية تجاه (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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) غرام و خاصة تجاه الزائفة الزنجار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seudomanas aeroginosa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و الجراثيم سلبية الغرام المقاومة لتعدد الأدوي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phalosporin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سيفالوسبور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إعطاء بعض هذه الأدوية عن طريق الفم ( مثل السيفالكسين و السيفاكلور 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نفذ سيفالوسبورينات الجيل الثالث ( و بعض سيفالوسبورينات الجيل الثاني ) عبر الجهاز العصبي المركزي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يمكن استعمالها لمعالجة التهاب السحايا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ingiti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تعمل سيفالوسبورينات الجيل الثالث على نحو كبير في معالجة و اتقاء عداوي مرضى المستشفيات . أما سيفالوسبورينات الجيل الرابع فهي حديثة جداً وهي مصممة لاستهداف الجراثيم المقاومة للأدوية المتعدد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هي عادةً غير سامة نسبي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يوجد بعض الأرجية المتصالب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 - allerg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 البنسلينا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إن لبعض السيفالوسبورينات تأثيرات مضادة للفيتام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 نزف 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- تسبب بعض السيفالوسبورينات استجابة مشابهة للتي يحدثها ثنائي السلفير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ulfira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سبب أنها تقيِّد أكسدة الكحول ، مما يؤدي إلى تراكم الأسيتالدهي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rbapenems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اربابينمات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ي أحدث صنف من المضادات الحيوية من مجموعة البيتا - لاكتام تحوي الايميبي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ipene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ميروبين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opene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يعطى كلاً منهما عن طريق الحقن داخل الوريد فقط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عدّ الايميبينم مع السيلاستات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lastat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ضاد حيوي من مجموعة البيتا - لاكتام ذو طيف عريض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ايميبينم مضاد حيوي يتحمله بالديببتيداز الكلو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nal dipeptid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ظهارة الأنبوب الدان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ximal Renal epitheliu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في الكلية إلى مستقلب سام نوعاً ما و غير فعال كمضاد للمكروبات . يثبط السيلاستاتين الديببتيداز الكلوي ، و لهذا فإن المركبين الاثنين يعطيان دائماً مع بعضهما . أما الميروبينم فهو أكثر ثباتاً تجاه الببتيداز الكلوي و لا يحتاج إلى مشاركة إعطاؤه مع السيلاستاتين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nobactams </a:t>
            </a:r>
            <a:r>
              <a:rPr b="1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أحاديات الحلقة البيتالاكتامية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أزتريونام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ztreona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ركب الوحيد المتوافر حالياً هو الأزتريونا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أزتريونام دواء ممتاز للجراثيم سالبة الغرام الهوائية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 gram - negativ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؛ بما في فيها الزوائ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eudomona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، لكنه غير فعال ضد الجراثيم إيجابية الغر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عد الأزتريونام مثالاً للطيف الضيق عالي المقاومة لفعل البيتالاكتاماز . إن التيجيمونا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gemonam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هو أحد الأدوية التجريبية في هذا الصنف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عديدات الببتيد</a:t>
            </a:r>
            <a:r>
              <a:rPr b="1" lang="ar-SA" sz="40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Polypeptides</a:t>
            </a: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ancomycin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انكوميسين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فانكوميسين و مشابهه القريب الأحدث ، التيكوبلام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coplam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ما من الببتيدات السكر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ycopetide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ي تثبط تخليق الجدار الخلوي بمنع بلمرة الببتيدوغليكان الحلق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الفانكوميسين فعالاً فقط ضد الجراثيم إيجابية الغرام يمتص على نحو ضعيف جداً عن طريق الف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كان الفانكوميسين يعتبر " الرصاصة الفضيه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lver bull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لمكوّرات العنقودية المقاومة للميثيسلين . أما الان فقد أصبحت العنقوديات مقاومة للفانكوميس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أن يسبب الفانكوميسين تسمماً أذن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etoxici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تمداً على الجرعة ، و الذي يؤدي إلى الطن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nnitu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صَمَمْ للتوترات العالية ، و فقد السمع ومن المحتمل الصَممْ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** </a:t>
            </a:r>
            <a:r>
              <a:rPr b="1" lang="ar-SA" sz="3200" spc="-1" strike="noStrike" u="sng">
                <a:solidFill>
                  <a:srgbClr val="ffffcc"/>
                </a:solidFill>
                <a:uFillTx/>
                <a:latin typeface="Tahoma"/>
              </a:rPr>
              <a:t>الباسيتراسين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Bacitracin</a:t>
            </a: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0" lang="ar-SY" sz="2800" spc="-1" strike="noStrike" u="sng">
                <a:solidFill>
                  <a:srgbClr val="ffffcc"/>
                </a:solidFill>
                <a:uFillTx/>
                <a:latin typeface="Tahoma"/>
              </a:rPr>
              <a:t>        </a:t>
            </a:r>
            <a:r>
              <a:rPr b="0" lang="ar-SA" sz="2800" spc="-1" strike="noStrike" u="sng">
                <a:solidFill>
                  <a:srgbClr val="ffffcc"/>
                </a:solidFill>
                <a:uFillTx/>
                <a:latin typeface="Tahoma"/>
              </a:rPr>
              <a:t>هو مزيج من عديدات الببتيد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اسيتراسين هو مزيج من عديدات الببتيد يثبط تخليق الجدار الخلوي و يستعمل موضعي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رتبط الباسيتراسين مع الحامل الشحمي الذي ينقل طلائ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ursor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جدار الخلية إلى جدار خلية نامي . و لهذا يمكن أن يصنف كمثبط لتخليق جدار الخلية . و بسبب أن للباسيتراسين سمية كلوية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hrotoxicity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، فإنه يستعمل يستعمل فقط موضعي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مثبطات تخليق البروتين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tein Synthesis inhibit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ملامح العام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أمينوغليكوزيد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تتراسيكلين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ماكروليد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كلورامفينيكو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كليندامي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ملامح العام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رتبط مثبطات تخليق البروتين إما مع الوحيدات الريبوسومية ( الريباس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5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تتداخل مع انتساخ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criptio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رنا المرسال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N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إلى بروت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ختلف الوحيدات الريبوسومية الجرثومية عن تلك الثديية . وهذا يؤخذ بعين الاعتبار لانتقائية الأدوية تجاه الجراثي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رتبط أسماء أصناف مثبطات تخليق البروتين بالبنية الكيميائية للمركبات في كل مجموعة و تعد الأمينوغليكوزيدات فقط كمبيدة للجراث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terisidal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بقية هي كابحات جراث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deriosta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علق المقاومة لهذه الأدوية بإنقاص قبط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tak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أدوية أو تعديل الوحيدات الريبوسوم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طلب هذه الأدوية الارتباط مع بروتين داخل الخلايا الوحيدات الريبوسومية ، ولهذا تحتاج الأدوية لأن تدخل إلى داخل الخلية . و الطريق الرئيسي للمقاومة للجراثيم هو حصر حركة الأدوية إلى داخل الخل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أدوية المضادة للميكروب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ثبطات تخليق جدار الخل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ثبطات تخليق البروت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مناهضات الفو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الكينولات و مطهرات المسلك البول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الأدوية المستخدمة في السلّ و الجذ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minoglycosides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جنت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وبر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br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أميكا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ik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كانا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a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نيو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نيتل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ilmi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ستربتومي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احظ أن أسماء هذه الأدوية تنتهي بـ " ميس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باستثناء الأميكا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ika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لكن دواء الكليندا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da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كل الماكروليدات ( إريثروميسين ، كلاريثروميسين ) تنتهي أيضاً بـ " ميس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 فلا بد من تمييز هذه الأصناف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عد الأمينوغليكوزيدات مضادات مكروبية عريضة الطيف ومع ذلك فإن الجراثيم اللاهوائ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erob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هي بشكل عام مقاومة لها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تخدم بعض الجراثيم نظام نقل يعتمد على الأكسجين لجلب الأمينوغليكوزيدات إلى داخل الخلية . الجراثيم اللاهوائية ( التي لا يكون الاستقلاب لديها معتمداً على الأكسجين ) لا تملك مثل هذا النظام . و لهذا فإنها مقاومة للأمينوغليكوزيدات بشكل عام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متص الأمينوغليكوزيدات على نحو ضعيف في السبيل المعدي المعو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نبغي إعطاء معظم الأمينوغليكوزيدات عن طريق الحقن . فهي مركبات عالية القطبية ولا ذوابة نسبياً في الدهن وهي لا تنفذ فورياً إلى معظم الخلايا دون مساعدة من البنسلينات أو من أي نظام للنقل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مينوغليكوزيدات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ستخدم التآز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ergis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ين البنسلينات و الأمينوغليكوزيدات في المعالجة الكيميائية . تسبب البنسلينات شذوذات في جدار الخلية مما يسمح بدخول الأمينوغيليكوزيدات إلى داخل الجرثومة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سبب الأمينوغليكوزيدات سمية أذنية و سمية كلوية و سمية عصبية عضلية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هامش المأموني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 هذه الأدوية صغير . و هذا يعني أن التركيز السام هو أعلى بقليل فقط من التركيز العلاج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أن يكون الانسمام الأذني سمع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ditor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دهليزيا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stibular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عاً . تشمل الأعراض الطن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nnitu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صمم و الدوا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tigo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أو عدم الاستقرار في المشية ، و فقد السمع للتواترات العالية . تنتج السمية السمعية من تخرب انتقائي للخلايا المشعرة الخارجية القوقعي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تعلق السمية الكلوية بالقبط السريع للدواء من قبل خلايا الأنبوب الداني .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 عندها تموت خلايا الأنبوب الداني . و إن السمية الكلوية الحادة قابلة للإصلاح </a:t>
            </a: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نتج السمية العصبية من إحصار الاطلاق السابق للمشب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ynap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لأسيتيل كولين في الموصل العصبي العضلي . يوجد بعض الإحصار خلف المشب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synaptic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و هذا يقود إلى الضعف و يمكن أن يقود إلى خمود تنفس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راسيكل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tracycl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ورتتراسيكلين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tetra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يميكلوسيكلين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eclu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وكسي سيكلين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xy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ينوسيكلين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o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وكسي تتراسيكل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xytetracyc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السهل تمييز هذه الأدوية بسبب أنها تنتهي بـ " سيكلين 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c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بالمشابهة مع الأمينو غليكوزيدات ، فإن التتراسيكلينات تتراكم في الهيولى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بوساطة نظام نقل معتمد على الطاقة . و لا يتواجد نظام النقل هذا في الخلايا الثدي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دث المقاومة للتتراسيكلينات عندما تتحول الجراثيم بطفرة تحدث عليها مما يجعلها غير قادرة على مراكمة الدواء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تراسيكلينات مضادات حيوية واسعة الطيف . تعد التتراسيكلينات مفيدة في معالجة الكائنات الحية سالبة الغرام و إيجابية الغرام و اللاهوائيات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جد للتتراسيكلينات أيضاً استعمال في الأمراض الريكتسية ( حمى الجبال الصخرية المبقعة )  و أمراض المتدثر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amydial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كوليرا و داء لاي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Lyme’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[ الملتوي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irochets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] و الالتهاب الرئوي بالمفطورات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coplasma pneumonia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ُخِلّ الطعام بامتصاص التتراسيكلينا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etracyclin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تتراسيكلين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خِلّ الطعام بامتصاص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خل الطعام بامتصاص التتراسيكلينات باستثناء الدوكسي سيكلين و المينوسيكلين . تكوِّن التتراسيكلينات خلاب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lat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ا ذوابة مع الكالسيوم ، و المغنزيوم و غيرها .. و لهذا لا ينصح باستعمال مضادات الحموض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acid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عند تناول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ترابط التتراسسيكلينات بظهور تلوين في الأسنان . وتأخر نمو العظم و التحسس الضوئ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tosensitivity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تعلق التأثيرات الثانوية الرئيسية للتتراسيكلينات بتضمينها داخل الأسنان و العظم . و تسبب تبدل لون الأسنان و تستطيع تأخير نمو العظم . و لهذه الأسباب ، فإنه لا ينصح بها للاستعمال عند الأطفال أو النساء الحوامل و توجد إصابات متزايدة بتفاعل حَرْق شمسي غير طبيعي عند الذين يأخذون التتراسيكلينات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acrolides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ماكروليدات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ر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y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ز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zi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كلاريثرومي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ithromy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متص الاريثروميسين عموماً و أقربائه عن طريق الفم رغم تداخل الطعام و إنها تنفرغ في الصفراء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اريثروميسين و أقربائه ذوي استخدام خاص في معالجة المرضى المصابين بعداوى المفطور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coplasm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التهاب الرئو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neumon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عداوى المتدثرات و الدفتري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hther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شاهوق ( السعال الديكي 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us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لمكروليدات تأثيرات جانبية قليلة و الشائع منها الانزعاج المعدي المعو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loramphenicol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لورامفينيكول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كلورامفينيكول هو مضاد حيوي عريض الطيف ، و فعال ضد معظم الجراثيم الهوائية و اللاهوائية ، باستثناء الزائفة الزنجا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رابط استخدام الكلورامفينيكول مع خمود نقي العظم و فقر الدم اللاتنسج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astic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ذي يكون مميتاً عادةً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رك استعمال الكلورامفينيكول لمعالجة العداوى المهددة للحياة بسبب تأثيراته الضائرة الخطيرة و المهددة للحياة . لقد تم التبليغ عن الجرعة المرتبطة بإحداث خمود نقي العظم و فقر دم لا تنسجي ذاتي التحساس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osyncratic aplastic anaemi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هو مميت عادةً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بب الكلورامفينيكول إحداث متلازمة الطفل السنجاب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y baby syndrom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تي هي دائماً مميت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ُتص الكلورامفينيكول فموياً ، وينفذ إلى السائل النخاع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F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يعطِّل في الكبد بوساطة الاقتران . و إن الأطفال الذين تكون لديهم مقدرة منخفضة لاقتران الكلورامفينيكول ، ترتفع مستوياته في الدم ، و يحدث لديهم قياء و زرا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anosi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نخفاض حرارة و تنفس متناقص وانخماص مغيِّر للقطر الوعائ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omotor collap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ndamycin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كلينداميسين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دعى هذه الأدوية ( الكلينداميسين و اللينكوسين ) أحياناً اللينكوزاميدات [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cosamid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] اعتماداً على بنيتها الكيميائية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إن الفعالية المضادة للمكروبات للكليداميسين مشابهة لتلك التي للإريثروميس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نفذ الكلينداميسين إلى معظم الأنسجة ، بما فيها العظم ، و له فعالية ضد الجراثيم اللاهوائ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أُدرجَ الكلينداميسين كدواء الاختيار لعداوى السبيل المعدي المعوي اللاهوائية . يترابط استخدام الكلينداميسين مع التهاب القولون الغشائي الكاذب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embranou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بسبب مقاومة المطثية العسير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tridium diffici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لكلينداميسين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ضواد الفولات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lat antagonis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ضواد الفول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سلفاميث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meth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ريميثوبري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methop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كو - تريم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 - trim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سلفيسوكسازو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isoxaz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دياز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diaz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بيريد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pyrid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سالاز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salaz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فاسيتام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acetam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تخدم السلفاسالازين أيضاً لمعالجة أمراض الأمعاء الالتهاب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مثبطات تخليق جدار الخلية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يتالاكتا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نسلين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سيفالوسبورين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كاربابين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حاديات الحلقة البيالاكتامية ( أزتريونام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يدات الببت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فانكومي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باسيترا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ولات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000" spc="-1" strike="noStrike">
                <a:solidFill>
                  <a:srgbClr val="ffffcc"/>
                </a:solidFill>
                <a:latin typeface="Tahoma"/>
              </a:rPr>
              <a:t>لضواد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آلية الفعل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لا تستطيع الجراثيم أن تمتص حمض الفوليك . بل يجب صنعه اعتباراً من الـ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BA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حمض البارا-أمينوبنزويك و البتيريدين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teridin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الغلوتام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lutam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. و بالنسبة للبشر ، يعد حمض الفوليك فيتاميناً ، و لا نستطيع تخليقه . وهذا مما يجعل مسلك الاستقلاب هدفاً جيداً و انتقائياً للعوامل المضادة للمكروبات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وناميد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lfonamides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التريميثوبريم يثبطان تخليق الفولات في مقرين مختلفي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وناميدات مشابهة بنيوياً لحمض البارا - أمينوبنزويك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BA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تقيِّد تضمين حمض البارا - أمينوبنزويك في حمض ثنائي هيدروالبيتروئيك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hydropteroir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. يمنع التريميثوبريم اختزال ثنائي هيدروفول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hydrofol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إلى رباعي هيدروفولات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tra hydrofolate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من خلال تثبيط مختزلة إنزيم ثنائي هيدروفولات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يوجد هذا الانزيم عند البشر ، و لكن التريميثوبريم له إلفة منخفضة للانزيم البشري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إن مشاركة السلفوناميدات مع التريميثوبريم لها فعل تآزري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ynergistic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و نادراً ما يستخدمان كلاً بمفرده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لفاميثوكسازول هو سلفاناميد يستخدم بالمشاركة مع التريميثيوم بريم بسبب أن لهما عمري نصف متوافقين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فولات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lat antagonis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Tahoma"/>
              </a:rPr>
              <a:t>الملامح المنتقا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ن مضادات الغولات هذه هي عوامل عريضة الطيف فعالة ضد الكائنات الحية إيجابية الغرام و سلبيتها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دعى مشاركة السلفاميثوكسازول مع التريميثوبريم كو-تريموكسازول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-trimoxazol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ومن المحتمل أنها الأكثر استخداماً من هذه المجموعة . تستخدم لمعالجة عداوى المسلك البولي والرئ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عدّ الكينولونات مجموعة مضادة للجراثيم جديدة نسبياً حيث كانت بالأصل مستخدمة لمعالجة المرضى المصابين بعداوى المسلك البولي على نحو أول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ين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يفوفلوكساسين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o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ور 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floxacin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و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سبار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rfloxac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روفافلوكساس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vafloxa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مت دراسة هذه الأدوية في فئة منفصلة لأن لها بنية مختلفة و آلية فعل مختلفة ، فهي تثبط جيراز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A gyr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و بالنالي ، تخليق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جيراز الدنا هو إنزيم جرثومي مسؤول عن انفكاك و فرط التفا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coiling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دنا 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. و هذا هو الصنف الوحيد من ضمادات الجراثيم الذي يثبط تكرّر ( تنسُّخ )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 replicat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هذا الأسلوب أكثر شيوعاً لمضادات الفيروسات و الأدوية المضادة للسرطا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ثبط الكينولونات تخليق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خلال فعل نوعي على جيراز الدنا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 gyr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كينولونات و مطهرات المسلك البولي</a:t>
            </a:r>
            <a:br>
              <a:rPr sz="40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Quinolones and urinary tract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antisep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ذه الأدوية عريضة الطيف . لقد كان حمض النالييكسيك الدواء الأول المتوافر بكونه مطهراً فعالاً للمسك البولي ( حيث يعقم البول ) . إن الأدوية الأحدث في هذه المجموعة مفيدة لمجال واسع من العداوى الجرثومية ، بما فيها عداوى المسلك التنفسي السفلي و عدامة العظام و المفاصل ، و التهاب البروستاتة . و بعضها فعال ضد الزائفة الزنجا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eudomonas aeruginos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فعالة عن طريق الف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استعمال الأكثر شيوعاً لهذه الأدوية هو عداوى المسلك البول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قد وجد أن للعديد من هذه العوامل استعمالاً في التوقية و المعالجة للمرضى المصابين بإسهال المسافر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نظراً لأن هذه الأدوية جديدة نسبياً فإن الاستطبابات لاستخدامها يمكن أن تتبدل مع السنين إذ سيستمر ظهور عوامل جديد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thenamine </a:t>
            </a:r>
            <a:r>
              <a:rPr b="0" lang="ar-SA" sz="4000" spc="-1" strike="noStrike">
                <a:solidFill>
                  <a:srgbClr val="ffffcc"/>
                </a:solidFill>
                <a:latin typeface="Tahoma"/>
              </a:rPr>
              <a:t>الميثينامين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تحمله الميثينامين في الوسط الحامضي إلى الفورمالدهيد و الأمونيا . يعد الفورمالدهيد مميتاً للجراثيم . و يستخدم في عداوى المسلك البول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دوية المستخدمة في التدرن و الجذا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تنظيم الص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ايزونياز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ريفامب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بيرازينام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ايثامبوتو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الدايس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أدوية المستخدمة في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و الجذا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تنظيم الص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تفطرات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cobacteria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تي تسبب التدرن ( السل ) ذات نمو بطيئ جداً ، و لهذا يتوجب الاستمرار بالمعالجة لمدة طويلة من الزمن نسبياً . وبغية منع صَحْو الذراري المقاومة فإنه من الحيوي استخدام معالجة توليفية مع عاملين اثنين ( و حتى أربعة ) على الأقل و التي يكون الجرثوم حساساً تجاه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قسم هذه الأدوية غالباً إلى مجموعتين : أدوية الخط ألأول و أدوية الخط الثاني ، و لأجل معظم الغايات ، فإن معرفة أدوية الخط ألأول تُعدّ كاف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أدوية الخط الأول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يزونيازيد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niaz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يرازيناميد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yrazinam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ريفامبي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famp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يثامبيوتول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ambutol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ستربتوميسين</a:t>
            </a:r>
            <a:r>
              <a:rPr b="0" lang="ar-SY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ptomyc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أدوية الخط الثاني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1" lang="ar-SY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ا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لتدرن </a:t>
            </a:r>
            <a:r>
              <a:rPr b="0" lang="ar-SY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مض أمينوساليسيلي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i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inosalicy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بريوميسين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reo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يثيونامي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ionam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ناميس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a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ينولونات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nol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يفابوت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but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يوميسي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omy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مدة المعالجة المختارة حالياً ( خاضعة للتبديل ) هي شهرين اثنين من الايزونيازيد و الريفامبين و البيرازيناميد ، تُتبَع بالايزونيازيد و الريفامبين لمدة أربعة أشهر . و أحياناً يضاف الايثامبيوتول إلى نظام الشهرين البدئيي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مثبطات تخليق جدار الخلية</a:t>
            </a:r>
            <a:r>
              <a:rPr b="1" i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مل البنسلينات و السيفالوسبورينات و الفانكوميسين و الأزتريونام من خلال تثبيط تخليق جدار الخلية الجرثوم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 algn="r" rtl="1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الخطوة النهائية في تخليق الجدار الخلوي هي الارتباط المتصالب لطيقان الببتيدو غليكان المتجاورة بعملية تدعى نقل الببت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eptidat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تعد البنسلينات و السيفالوسبورينات متشابهة بنيوياً مع القسم الانتهائي لطيقان الببتيدوغليكان ، و تستطيع التنافس عليها و ترتبط مع الانزيمات التي تحفز ناقلة الببتيد و الارتباط المتصالب . تدعى هذه الانزيمات بروتينات ربط البنسلينات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icillin - binding protein PBP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يؤدي التداخل مع هذه الانزيمات إلى تكوّن جدار خلية ضعيف بنيوياً ، و جراثيم ذات أشكال غير طبيعية و بالنهاية موت الجراثي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oniazid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الايزونيازيد</a:t>
            </a: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ثبط الايزونيازيد تخليق الأحماض الميكوليكية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لك الايزونيازيد بنية بسيطة جداً و يعمل على المتفطرات من خلال تثبيط تخليق الأحماض الميكوليكية الموجودة على نحو فريد في المتفطرات . إن الأحماض الميكوليكية هي مكونات غلاف الخلية الجرثوم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وجد من هم سريعي و بطيئي الأستلة للايزونيازي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ذه السمة محدَّدة وراثياً . فالأستلة هي مسلك استقلابي للعديد من الأدوية ، و لكن هذا المسلك هو من الأهيمة بمكان لللايزونيازيد . فالايزونيازيد له عمر نصف أقصر لدى سريعي الأستل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ترابط استعمال الايزونيازيد مع سمية كبدية و اعتلال عصبي محيط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ن التهاب الكبد هو التأثير الجانبي الأكثر وخامة للايزونيازيد . يحدث الخلل الوظيفي للكبد بالايزونيازيد ( حسب قياسه باختبارات وظائف الكبد ) عند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إلى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ن المرضى و يزداد وقوع ذلك مع العمر . و الخلل الوظيفي للكبد قابل للعكس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ibl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لدى معظم المرضى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نتج الاعتلال العصبي المحيطي من عوز البيريدوكس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yridox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يمكن تصحيحه بإضافة البيريدوكس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Rifampin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ريفامبين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يثبط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ريفامب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mp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تخليق الدنا بتكوين مركب ثابت مع بوليميراز الرنا المعتمد على الدنا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رتبط الريفامبين مع الوحيدات بيتا للانزيم بوليميراز الرنا المعتمد على الدنا . و المركب الريبي الذي يتكون غير فعال ، و لهذا يُحصر تخليق الرنا ( الحمض النووي الريب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N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. تنتج المقاومة للريفامبين من طفرة ذات خطوة واحدة تؤدي إلى تبدّل في الوحيدات بيتا </a:t>
            </a:r>
            <a:r>
              <a:rPr b="0" lang="ar-SA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الريفامبين غير فعال فقط ضد التدرن ، إنما أيضاً فعال ضد الجراثيم إيجابية الجرام و سلبيت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ستقلب الريفامبين في الكبد وهو محرِّض فعال لانزيم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-45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 يمكن أن يسبب التهاب الكبد و يلون الافرازات باللون الأحمر البرتقالي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ريفامبين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تم نزع الأسيتيل للريفامبين في الكبد ليتحول إلى مستقلب فعال . ويمكن أن يحدث التهاب الكبد المحرَّض بالدواء الذي يؤدي إلى اليرقا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undic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إضافةً لذلك ، يحرِّض الريفامبين إنزيمات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-45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صفرور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mal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و يمكن أن يؤدي هذا إلى استقلاب متزايد لأي دواء آخر يستقلب أيضاً بهذا النظا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مكن للريفامبين أن يلوِّن البول ، و البراز ، و اللعاب و العرق و الدموع باللون الأحمر البرتقالي . قد يدخل إلى العدسات اللاصق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 lense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ريفابوتين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fabuti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ضاهئاً للريفامبين و له بعض الفعالية ضد المتفطرة السلي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cobacterium tuberculosis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قاومة للريفامبين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yrazinamide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بيرازيناميد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يرازيناميد فعال فقط ضد المتفطرات السلية . إنه يزيد مستويات حمض اليوريك المصل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زيد البيرازينام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تفطرة السلية بالانتشار المنفعل و يتحول إلى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yrazinoic acid ( POA 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وساطة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otinamidase / pyrazinamid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 إن المستقلب الناتج فعال يعمل على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ty acid synthas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يحطم أغشية المتفطرات . تتشارك الطفرات الانتقائية في المورث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segen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مقاومة ال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ZA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المتفطرة السل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يرازيناميد فعال على نحو خاص ضد الجراثيم داخل الخلايا . يحدث فرط حمض يوريك الدم لدى كل المرضى ، و لكن الاصابة بالنقرس السريري نادرة . يترابط استخدام البيرازيناميد أيضاً مع سمية كبد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thambutol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ايثامبيوتو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يمكن أن يسبب الايثامبيوتول التهاب العصب العيني مما يؤدي إلى فقد الابصار المركزي و يُخل بالمقدرة على التمييز بين اللونين الأحمر و الأخضر . يمكن للاريثامبيوتول أن يزيد مستويات حمض اليوريك المصلية كنتيجة للتصفية الكلوية الناقصة لليودات . يمكن أن تؤدي مستويات المصل الزائدة من حمض اليوريك إلى الإصابة بالنقرس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Dapsone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* 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الدابسون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معالجة الجذام هي باحة متخصصة جدا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دابسون الدعامة الأساسية في معالجة الجُذ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prosy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ان الدابسون و لسنوات عديدة الدعامة الرئيسية في معالجة المرضى المصابين بالجذام ، ومع ذلك ، فإن التوصيات الحالية ( خاضعة للتبدل ) هي إمكانية معالجة كل أشكال الجذام بتوليفة من الأدو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ن الدابسون هو مضاهئ بنيوي لتخليق </a:t>
            </a:r>
            <a:r>
              <a:rPr b="0" lang="ar-SY" sz="2800" spc="-1" strike="noStrike">
                <a:solidFill>
                  <a:srgbClr val="ffffff"/>
                </a:solidFill>
                <a:latin typeface="Tahoma"/>
              </a:rPr>
              <a:t>  حمض بارا امينو بنزويك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الريفامبين دواء فعال ضد الجذام و كذلك دواء فعال ضد التدرن . إن الثاليدوماي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lidomid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، الدواء الماسخ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atogenic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هو الدواء الأكثر فعالية لمعالجة الجذام العقدي الحمامي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ythema nodosum leprosum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( حالة تفاعل التهابي مترابطة مع الجذام )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تقسم مثبطات تخليق جدار الخلية إلى مجموعتين اعتماداً على البنية الكيميائية : البيتا - لاكتامات و عديدات الببتيد</a:t>
            </a: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ar-SA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ff"/>
                </a:solidFill>
                <a:uFillTx/>
                <a:latin typeface="Tahoma"/>
              </a:rPr>
              <a:t>البيتالاكتامات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Lact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تُعطِّل بعض الجراثيم المضادات الحيوية من مجموعة البيتا - لاكتام عن طريق إنزيم يفتح حلقة البيتا - لاكتام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تحوي بعض الجراثيم إنزيم البيتا- لاكتاماز ، يستطيع فتح حلقة البيتا - لاكتام مما يعطل المضاد الحيوي . النمط الأكثر شيوعاً في مقاومة الدواء هو نقل بلازميد الراموز الجيني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netic code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لإنزيم البيتا - لاكتام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وجد إنزيمات بيتا - لاكتاماز نوعية للبنسلينات - تدعى البسليناز 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بيتالاكتاماز نوعية للسيفالوسبورينات - تدعى سيفالوسبورين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ff"/>
                </a:solidFill>
                <a:uFillTx/>
                <a:latin typeface="Tahoma"/>
              </a:rPr>
              <a:t>إن تعطيل هذه الأدوية بالبيتا-لاكتاماز يمكن أن يعالج حسب أسلوبين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- إعطاء مثبط للبيتالاكتاما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- بالتعديلات الكيميائية في بنية الدواء ، بحيث يصبح أكثر مقاومة للتعطيل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عد حمض الكلافولاني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vulanic aci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سولباكت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bact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)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ثبطان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لبيتا - لاكتاماز و اللذين يعطيان مع أدوية البيتالاكتام لزيادة فعاليت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وجد أيضاً التازوباكتا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zobac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حمض الكلافولاني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vulanic acid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السولباكت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lbacta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ثبطان للبيتا - لاكتاماز و اللذين يعطيان مع أدوية البيتالاكتام لزيادة فعاليتها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وجد أيضاً التازوباكتا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zobact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الطبيعي</a:t>
            </a:r>
            <a:r>
              <a:rPr b="1" lang="ar-SY" sz="2000" spc="-1" strike="noStrike" u="sng">
                <a:solidFill>
                  <a:srgbClr val="ffffff"/>
                </a:solidFill>
                <a:uFillTx/>
                <a:latin typeface="Tahoma"/>
              </a:rPr>
              <a:t>،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 بنسلين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r>
              <a:rPr b="1" lang="ar-SY" sz="2000" spc="-1" strike="noStrike" u="sng">
                <a:solidFill>
                  <a:srgbClr val="ffffff"/>
                </a:solidFill>
                <a:uFillTx/>
                <a:latin typeface="Tahoma"/>
              </a:rPr>
              <a:t> ، 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بنسلين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V</a:t>
            </a:r>
            <a:r>
              <a:rPr b="0" lang="ar-SY" sz="2000" spc="-1" strike="noStrike">
                <a:solidFill>
                  <a:srgbClr val="ffffff"/>
                </a:solidFill>
                <a:latin typeface="Tahoma"/>
              </a:rPr>
              <a:t> ،         </a:t>
            </a:r>
            <a:r>
              <a:rPr b="0" i="1" lang="ar-SA" sz="2000" spc="-1" strike="noStrike">
                <a:solidFill>
                  <a:srgbClr val="ffffff"/>
                </a:solidFill>
                <a:latin typeface="Tahoma"/>
              </a:rPr>
              <a:t>طيف ضيق ( إيجابية الغرام ) ؛ حساسة للبنسليناز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المقاوم للبنسلينا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ميثيس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thi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كلو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l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ديكلو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icl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ناف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af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أوكساسيلين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x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ضيق ( إيجابية الغرام ) ؛ مخلّقة لكي تكون مقاومة للبنسلينا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ينوبنسللين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وكسيسي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oxi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أمبيسي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picil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ممتد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teded spectrum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مدي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أزلو 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zlo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كاربن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arben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مزلو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ezlo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بيبراسي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iperacill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تيكارسيللين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icacill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طيف عريض ( لها فعالية تجاه بعض سلبية الغرام ) ؛ حساسة للبنسليناز . فعالة ضد الزائفة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seudomonas</a:t>
            </a:r>
            <a:r>
              <a:rPr b="0" i="1" lang="ar-SA" sz="2400" spc="-1" strike="noStrike">
                <a:solidFill>
                  <a:srgbClr val="ffffff"/>
                </a:solidFill>
                <a:latin typeface="Tahoma"/>
              </a:rPr>
              <a:t> ؛ غير فعالة نسبياً ضد الكائنات الحية إيجابية الجرام 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البيتالاكتامات</a:t>
            </a:r>
            <a:r>
              <a:rPr b="1" lang="ar-SA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ahoma"/>
              </a:rPr>
              <a:t>- Lacta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احظ استعراف البنسلينات من خلال النهاية سللي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llin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الامتصاص الفموي لمعظم البنسلينات ضعيفاً ؛ معظم البنسلينات تعبر الحائل الدموي الدماغي فقط إذا كان ملتهب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ُفرَغ البنسلينات بالافرازات النبيبية التي يمكن أن تحصر بالبروبنسيد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en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فرغ البنسلينات ، القسم الأعظم منها ، بالإفراز النبيبي الفعال و إن إحصار الافراز النبيبي هو أسلوب بسيط نسبياً لاطالة فعل الدواء . يمكن إعطاء البروبنسيد بالمشاركة مع البنسلينات ، فيحصر الافراز النبيبي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عد تفاعل فرط التحسس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sensitivity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أثير الضائر الأكثر أهمية للبنسلينات ، و قد يكون مميتاً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مكن لكل البنسلينات أن تبدي تفاعلات أرجية . وقد قسمت هذه التفاعلات إلى ثلاثة أنماط : فورية ( مباشرة 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ediat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، و معجل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ler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و متأخرة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. وإن الفورية هي الأكثر وخام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5T04:56:46Z</dcterms:created>
  <dc:creator>Rashad Murad</dc:creator>
  <dc:description/>
  <dc:language>en-US</dc:language>
  <cp:lastModifiedBy> </cp:lastModifiedBy>
  <dcterms:modified xsi:type="dcterms:W3CDTF">2006-07-18T17:29:37Z</dcterms:modified>
  <cp:revision>6</cp:revision>
  <dc:subject/>
  <dc:title>الادوية المضادجة للميكروبات  </dc:title>
</cp:coreProperties>
</file>