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07B-9D11-45F4-AE94-8BA80848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006-DCF4-49DA-8FB7-F93B8B29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7F7-2AD3-4BC3-B93C-81E295B2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A81-B5EA-4D02-A646-9C76A1BD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52EE-FEB7-4FBF-9703-9C4039C2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2B6A-12A5-42F0-BA67-531E49B7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C6C9-1757-41E9-8340-919CDCCD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55B4-5FE8-40D0-BBCB-875CBF1F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E702-E989-428B-A308-FADEF0C9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A224-FEBE-4441-AAB9-C1BD0EEF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6819-DA48-4ED3-BD39-D48F6669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686-79D4-4377-84E7-BD5AC4B6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3A45-0769-4DD1-932B-468C22A5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78F9-73C7-4406-9E11-B732EF62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7934-FE80-47AE-B7F5-39D1F162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D3FF-E40E-4788-A95F-35931B42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6249-31DF-4058-81E2-1BD30FBE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409-710E-453F-91CB-BBF57523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6AD6-38C9-49B1-953B-9DD4C248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C3A-B597-4F8A-B6B7-3603E99D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AED-64A0-4809-B6DB-19C5E029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228-4F3E-41C2-AF5B-07CA355A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F66-3FBA-4B61-AAD6-9C63C484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00D-9951-4516-9A74-C5969B8D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BCC4-EFAB-4F0A-8D36-CE4A5BACC80F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4272-70DF-444F-99C2-8CE99E5853CF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800" spc="-1" strike="noStrike">
                <a:solidFill>
                  <a:srgbClr val="ffffcc"/>
                </a:solidFill>
                <a:latin typeface="Tahoma"/>
              </a:rPr>
              <a:t>الادوية المضادة للميكروبات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ff"/>
                </a:solidFill>
                <a:uFillTx/>
                <a:latin typeface="Tahoma"/>
              </a:rPr>
              <a:t>تحدث التفاعلات الفور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خلال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ثانية بعد الاعطاء حقناً و تتكون من الحك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urit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ching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اخدرار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nes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أزي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ezing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حمى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ver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وذم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em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شرى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ticari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. قد تقود إلى هبوط الضغط و الصدم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ck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فقد الوعي والموت . و يبدو أن تفاعل فرط التحسس للبنسلينات متواسطاً بأضداد الغلوبولينات المناعي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Ig Eantibodies )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ظهر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Tahoma"/>
              </a:rPr>
              <a:t>التفاعلات المعجل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عد ساعة واحدة إلى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ساعة من إعطاء الدواء و تتكون على نحو رئيسي من الشرى ( الانتبار )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Tahoma"/>
              </a:rPr>
              <a:t>أما التفاعلات المتأخرة فهي أكثر شيوعاً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ع البنسلينات نصف التخليقية و تظهر بع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ساعة إلى عدة أسابيع من إعطاء الدواء و تتكون على نحو رئيسي من أطفاح جلد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in rash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phalosporins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سيفالوسبور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جيل الأو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ازول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zo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الك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phalex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الطيف الضيق مشابه للطيف الواسع للبنسلينات ؛ حساس للبيتا - لاكتاماز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جيل الثاني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اكلو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cl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امندول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mando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وكيست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oxit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فعالية متزايدة تجاه الجراثيم سالبة الغرام ؛ ثبات متزايد 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phalosporins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سيفالوسبور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جيل الثالث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وتاكس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otax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تازيد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tazid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ترياكسو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triax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أوسع في الطيف و أكثر مقاومة للبيتا - لاكتاماز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جيل الرابع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سيفيبيم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efep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سيفبيروم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efpiro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فعالية تجاه (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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) غرام و خاصة تجاه الزائفة الزنجار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seudomanas aeroginosa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و الجراثيم سلبية الغرام المقاومة لتعدد الأدوي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phalosporins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سيفالوسبور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كن إعطاء بعض هذه الأدوية عن طريق الفم ( مثل السيفالكسين و السيفاكلور 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نفذ سيفالوسبورينات الجيل الثالث ( و بعض سيفالوسبورينات الجيل الثاني ) عبر الجهاز العصبي المركزي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يمكن استعمالها لمعالجة التهاب السحايا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ingiti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ستعمل سيفالوسبورينات الجيل الثالث على نحو كبير في معالجة و اتقاء عداوي مرضى المستشفيات . أما سيفالوسبورينات الجيل الرابع فهي حديثة جداً وهي مصممة لاستهداف الجراثيم المقاومة للأدوية المتعدد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هي عادةً غير سامة نسبياً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- يوجد بعض الأرجية المتصالب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ss - allerg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 البنسلينا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- إن لبعض السيفالوسبورينات تأثيرات مضادة للفيتام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( نزف 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- تسبب بعض السيفالوسبورينات استجابة مشابهة للتي يحدثها ثنائي السلفيرا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ulfiram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بسبب أنها تقيِّد أكسدة الكحول ، مما يؤدي إلى تراكم الأسيتالدهيد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rbapenems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كاربابينمات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ي أحدث صنف من المضادات الحيوية من مجموعة البيتا - لاكتام تحوي الايميبي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ipenem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ميروبين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openem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يعطى كلاً منهما عن طريق الحقن داخل الوريد فقط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ُعدّ الايميبينم مع السيلاستاتي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lastati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ضاد حيوي من مجموعة البيتا - لاكتام ذو طيف عريض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ايميبينم مضاد حيوي يتحمله بالديببتيداز الكلو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nal dipeptid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ي ظهارة الأنبوب الدان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ximal Renal epithelium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في الكلية إلى مستقلب سام نوعاً ما و غير فعال كمضاد للمكروبات . يثبط السيلاستاتين الديببتيداز الكلوي ، و لهذا فإن المركبين الاثنين يعطيان دائماً مع بعضهما . أما الميروبينم فهو أكثر ثباتاً تجاه الببتيداز الكلوي و لا يحتاج إلى مشاركة إعطاؤه مع السيلاستاتين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nobactams </a:t>
            </a:r>
            <a:r>
              <a:rPr b="1" lang="ar-SA" sz="2800" spc="-1" strike="noStrike" u="sng">
                <a:solidFill>
                  <a:srgbClr val="ffffcc"/>
                </a:solidFill>
                <a:uFillTx/>
                <a:latin typeface="Tahoma"/>
              </a:rPr>
              <a:t>أحاديات الحلقة البيتالاكتامية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أزتريونام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ztreona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ركب الوحيد المتوافر حالياً هو الأزتريونا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أزتريونام دواء ممتاز للجراثيم سالبة الغرام الهوائية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 gram - negative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؛ بما في فيها الزوائ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eudomona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، لكنه غير فعال ضد الجراثيم إيجابية الغرا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عد الأزتريونام مثالاً للطيف الضيق عالي المقاومة لفعل البيتالاكتاماز . إن التيجيمونا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gemonam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هو أحد الأدوية التجريبية في هذا الصنف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cc"/>
                </a:solidFill>
                <a:uFillTx/>
                <a:latin typeface="Tahoma"/>
              </a:rPr>
              <a:t>عديدات الببتيد</a:t>
            </a:r>
            <a:r>
              <a:rPr b="1" lang="ar-SA" sz="40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Polypeptides</a:t>
            </a:r>
            <a:br>
              <a:rPr sz="4000"/>
            </a:b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ancomycin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الفانكوميسين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فانكوميسين و مشابهه القريب الأحدث ، التيكوبلام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coplam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هما من الببتيدات السكري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ycopetide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تي تثبط تخليق الجدار الخلوي بمنع بلمرة الببتيدوغليكان الحلق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الفانكوميسين فعالاً فقط ضد الجراثيم إيجابية الغرام يمتص على نحو ضعيف جداً عن طريق الف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كان الفانكوميسين يعتبر " الرصاصة الفضيه 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lver bull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للمكوّرات العنقودية المقاومة للميثيسلين . أما الان فقد أصبحت العنقوديات مقاومة للفانكوميسين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كن أن يسبب الفانكوميسين تسمماً أذنيا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etoxicit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تمداً على الجرعة ، و الذي يؤدي إلى الطن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nnitu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صَمَمْ للتوترات العالية ، و فقد السمع ومن المحتمل الصَممْ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cc"/>
                </a:solidFill>
                <a:uFillTx/>
                <a:latin typeface="Tahoma"/>
              </a:rPr>
              <a:t>** </a:t>
            </a:r>
            <a:r>
              <a:rPr b="1" lang="ar-SA" sz="3200" spc="-1" strike="noStrike" u="sng">
                <a:solidFill>
                  <a:srgbClr val="ffffcc"/>
                </a:solidFill>
                <a:uFillTx/>
                <a:latin typeface="Tahoma"/>
              </a:rPr>
              <a:t>الباسيتراسين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Bacitracin</a:t>
            </a:r>
            <a:r>
              <a:rPr b="0" lang="ar-SA" sz="28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0" lang="ar-SY" sz="2800" spc="-1" strike="noStrike" u="sng">
                <a:solidFill>
                  <a:srgbClr val="ffffcc"/>
                </a:solidFill>
                <a:uFillTx/>
                <a:latin typeface="Tahoma"/>
              </a:rPr>
              <a:t>        </a:t>
            </a:r>
            <a:r>
              <a:rPr b="0" lang="ar-SA" sz="2800" spc="-1" strike="noStrike" u="sng">
                <a:solidFill>
                  <a:srgbClr val="ffffcc"/>
                </a:solidFill>
                <a:uFillTx/>
                <a:latin typeface="Tahoma"/>
              </a:rPr>
              <a:t>هو مزيج من عديدات الببتيد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باسيتراسين هو مزيج من عديدات الببتيد يثبط تخليق الجدار الخلوي و يستعمل موضعي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رتبط الباسيتراسين مع الحامل الشحمي الذي ينقل طلائع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cursor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جدار الخلية إلى جدار خلية نامي . و لهذا يمكن أن يصنف كمثبط لتخليق جدار الخلية . و بسبب أن للباسيتراسين سمية كلوية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hrotoxicity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، فإنه يستعمل يستعمل فقط موضعي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مثبطات تخليق البروتين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tein Synthesis inhibito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ملامح العام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أمينوغليكوزيد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تتراسيكلين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ماكروليد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كلورامفينيكو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كليندامي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ملامح العام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رتبط مثبطات تخليق البروتين إما مع الوحيدات الريبوسومية ( الريباسي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05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أو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تتداخل مع انتساخ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criptio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رنا المرسال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NA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إلى بروتين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ختلف الوحيدات الريبوسومية الجرثومية عن تلك الثديية . وهذا يؤخذ بعين الاعتبار لانتقائية الأدوية تجاه الجراثي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رتبط أسماء أصناف مثبطات تخليق البروتين بالبنية الكيميائية للمركبات في كل مجموعة و تعد الأمينوغليكوزيدات فقط كمبيدة للجراث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cterisidal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بقية هي كابحات جراث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deriostatic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تعلق المقاومة لهذه الأدوية بإنقاص قبط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tak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أدوية أو تعديل الوحيدات الريبوسوم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تطلب هذه الأدوية الارتباط مع بروتين داخل الخلايا الوحيدات الريبوسومية ، ولهذا تحتاج الأدوية لأن تدخل إلى داخل الخلية . و الطريق الرئيسي للمقاومة للجراثيم هو حصر حركة الأدوية إلى داخل الخل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أدوية المضادة للميكروب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مثبطات تخليق جدار الخل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مثبطات تخليق البروت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مناهضات الفول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الكينولات و مطهرات المسلك البول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الأدوية المستخدمة في السلّ و الجذا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minoglycosides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مينوغليكوزيدات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جنتا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ta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وبرا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bra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أميكا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ik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كانا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na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نيو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o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نيتل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ilmi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ستربتو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pto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مينوغليكوزيدات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لاحظ أن أسماء هذه الأدوية تنتهي بـ " ميسين 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أو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، باستثناء الأميكا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ika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لكن دواء الكليندامي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damy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كل الماكروليدات ( إريثروميسين ، كلاريثروميسين ) تنتهي أيضاً بـ " ميسين 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 فلا بد من تمييز هذه الأصناف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عد الأمينوغليكوزيدات مضادات مكروبية عريضة الطيف ومع ذلك فإن الجراثيم اللاهوائي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erobic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هي بشكل عام مقاومة لها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ستخدم بعض الجراثيم نظام نقل يعتمد على الأكسجين لجلب الأمينوغليكوزيدات إلى داخل الخلية . الجراثيم اللاهوائية ( التي لا يكون الاستقلاب لديها معتمداً على الأكسجين ) لا تملك مثل هذا النظام . و لهذا فإنها مقاومة للأمينوغليكوزيدات بشكل عا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متص الأمينوغليكوزيدات على نحو ضعيف في السبيل المعدي المعو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نبغي إعطاء معظم الأمينوغليكوزيدات عن طريق الحقن . فهي مركبات عالية القطبية ولا ذوابة نسبياً في الدهن وهي لا تنفذ فورياً إلى معظم الخلايا دون مساعدة من البنسلينات أو من أي نظام للنقل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مينوغليكوزيدات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ستخدم التآز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ergism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بين البنسلينات و الأمينوغليكوزيدات في المعالجة الكيميائية . تسبب البنسلينات شذوذات في جدار الخلية مما يسمح بدخول الأمينوغيليكوزيدات إلى داخل الجرثومة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سبب الأمينوغليكوزيدات سمية أذنية و سمية كلوية و سمية عصبية عضلية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هامش المأموني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t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 هذه الأدوية صغير . و هذا يعني أن التركيز السام هو أعلى بقليل فقط من التركيز العلاج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كن أن يكون الانسمام الأذني سمعيا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ditor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دهليزيا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stibular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اً . تشمل الأعراض الطن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nnitu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صمم و الدوا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rtigo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أو عدم الاستقرار في المشية ، و فقد السمع للتواترات العالية . تنتج السمية السمعية من تخرب انتقائي للخلايا المشعرة الخارجية القوقعي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تعلق السمية الكلوية بالقبط السريع للدواء من قبل خلايا الأنبوب الداني .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 عندها تموت خلايا الأنبوب الداني . و إن السمية الكلوية الحادة قابلة للإصلاح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نتج السمية العصبية من إحصار الاطلاق السابق للمشب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ynaptic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للأسيتيل كولين في الموصل العصبي العضلي . يوجد بعض الإحصار خلف المشب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synaptic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، و هذا يقود إلى الضعف و يمكن أن يقود إلى خمود تنفس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etracyclines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تتراسيكلينات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تراسيكل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tracycl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ورتتراسيكلين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tetra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يميكلوسيكلين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eclu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وكسي سيكلين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xy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ينوسيكلين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o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وكسي تتراسيكل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xytetra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etracyclines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تتراسيكل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السهل تمييز هذه الأدوية بسبب أنها تنتهي بـ " سيكلين 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yc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بالمشابهة مع الأمينو غليكوزيدات ، فإن التتراسيكلينات تتراكم في الهيولى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ytoplasm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بوساطة نظام نقل معتمد على الطاقة . و لا يتواجد نظام النقل هذا في الخلايا الثدي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حدث المقاومة للتتراسيكلينات عندما تتحول الجراثيم بطفرة تحدث عليها مما يجعلها غير قادرة على مراكمة الدواء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تتراسيكلينات مضادات حيوية واسعة الطيف . تعد التتراسيكلينات مفيدة في معالجة الكائنات الحية سالبة الغرام و إيجابية الغرام و اللاهوائيات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جد للتتراسيكلينات أيضاً استعمال في الأمراض الريكتسية ( حمى الجبال الصخرية المبقعة )  و أمراض المتدثرات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lamydial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كوليرا و داء لا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ase Lyme’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[ الملتويات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irochet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] و الالتهاب الرئوي بالمفطورات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coplasma pneumonia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ُخِلّ الطعام بامتصاص التتراسيكلينا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etracyclines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تتراسيكل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ُخِلّ الطعام بامتصاص التتراسيكلينات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خل الطعام بامتصاص التتراسيكلينات باستثناء الدوكسي سيكلين و المينوسيكلين . تكوِّن التتراسيكلينات خلابات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lat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ا ذوابة مع الكالسيوم ، و المغنزيوم و غيرها .. و لهذا لا ينصح باستعمال مضادات الحموض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acid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عند تناول التتراسيكلينات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ترابط التتراسسيكلينات بظهور تلوين في الأسنان . وتأخر نمو العظم و التحسس الضوئ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tosensitivity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تعلق التأثيرات الثانوية الرئيسية للتتراسيكلينات بتضمينها داخل الأسنان و العظم . و تسبب تبدل لون الأسنان و تستطيع تأخير نمو العظم . و لهذه الأسباب ، فإنه لا ينصح بها للاستعمال عند الأطفال أو النساء الحوامل و توجد إصابات متزايدة بتفاعل حَرْق شمسي غير طبيعي عند الذين يأخذون التتراسيكلينات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Macrolides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ماكروليدات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إريثرومي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ythromy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أزيثرومي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zithromy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كلاريثرومي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rithromy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ُمتص الاريثروميسين عموماً و أقربائه عن طريق الفم رغم تداخل الطعام و إنها تنفرغ في الصفراء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الاريثروميسين و أقربائه ذوي استخدام خاص في معالجة المرضى المصابين بعداوى المفطورات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coplasm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التهاب الرئو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neumoni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عداوى المتدثرات و الدفتري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htheri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شاهوق ( السعال الديكي 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tus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لمكروليدات تأثيرات جانبية قليلة و الشائع منها الانزعاج المعدي المعوي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loramphenicol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كلورامفينيكول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كلورامفينيكول هو مضاد حيوي عريض الطيف ، و فعال ضد معظم الجراثيم الهوائية و اللاهوائية ، باستثناء الزائفة الزنجار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eudomonas aerugin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ترابط استخدام الكلورامفينيكول مع خمود نقي العظم و فقر الدم اللاتنسج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astic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ذي يكون مميتاً عادةً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ترك استعمال الكلورامفينيكول لمعالجة العداوى المهددة للحياة بسبب تأثيراته الضائرة الخطيرة و المهددة للحياة . لقد تم التبليغ عن الجرعة المرتبطة بإحداث خمود نقي العظم و فقر دم لا تنسجي ذاتي التحساس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osyncratic aplastic anaemi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هو مميت عادةً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سبب الكلورامفينيكول إحداث متلازمة الطفل السنجاب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y baby syndrom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تي هي دائماً مميت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ُتص الكلورامفينيكول فموياً ، وينفذ إلى السائل النخاع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SF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يعطِّل في الكبد بوساطة الاقتران . و إن الأطفال الذين تكون لديهم مقدرة منخفضة لاقتران الكلورامفينيكول ، ترتفع مستوياته في الدم ، و يحدث لديهم قياء و زرا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anosi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نخفاض حرارة و تنفس متناقص وانخماص مغيِّر للقطر الوعائ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somotor collap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ndamycin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كلينداميسين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دعى هذه الأدوية ( الكلينداميسين و اللينكوسين ) أحياناً اللينكوزاميدات [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cosamid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] اعتماداً على بنيتها الكيميائية 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إن الفعالية المضادة للمكروبات للكليداميسين مشابهة لتلك التي للإريثروميس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نفذ الكلينداميسين إلى معظم الأنسجة ، بما فيها العظم ، و له فعالية ضد الجراثيم اللاهوائ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أُدرجَ الكلينداميسين كدواء الاختيار لعداوى السبيل المعدي المعوي اللاهوائية . يترابط استخدام الكلينداميسين مع التهاب القولون الغشائي الكاذب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eudomembranou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، بسبب مقاومة المطثية العسير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tridium diffici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لكلينداميسين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ضواد الفولات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lat antagonis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ضواد الفول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سلفاميثوكسازو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methoxaz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تريميثوبري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methop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كو - تريموكسازو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 - trimoxaz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سلفيسوكسازو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isoxaz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فادياز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diaz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فابيريد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pyrid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فاسالاز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salaz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فاسيتام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cetam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ستخدم السلفاسالازين أيضاً لمعالجة أمراض الأمعاء الالتهاب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مثبطات تخليق جدار الخلية</a:t>
            </a: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بيتالاكتا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بنسلين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سيفالوسبورين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كاربابين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حاديات الحلقة البيالاكتامية ( أزتريونام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ديدات الببت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فانكومي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باسيترا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الفولات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000" spc="-1" strike="noStrike">
                <a:solidFill>
                  <a:srgbClr val="ffffcc"/>
                </a:solidFill>
                <a:latin typeface="Tahoma"/>
              </a:rPr>
              <a:t>لضواد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آلية الفعل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لا تستطيع الجراثيم أن تمتص حمض الفوليك . بل يجب صنعه اعتباراً من الـ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BA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حمض البارا-أمينوبنزويك و البتيريدين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teridine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و الغلوتامات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lutamate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. و بالنسبة للبشر ، يعد حمض الفوليك فيتاميناً ، و لا نستطيع تخليقه . وهذا مما يجعل مسلك الاستقلاب هدفاً جيداً و انتقائياً للعوامل المضادة للمكروبات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السلفوناميدات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ulfonamides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و التريميثوبريم يثبطان تخليق الفولات في مقرين مختلفي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السلفوناميدات مشابهة بنيوياً لحمض البارا - أمينوبنزويك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BA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و تقيِّد تضمين حمض البارا - أمينوبنزويك في حمض ثنائي هيدروالبيتروئيك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hydropteroir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. يمنع التريميثوبريم اختزال ثنائي هيدروفولات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hydrofolate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إلى رباعي هيدروفولات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tra hydrofolate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من خلال تثبيط مختزلة إنزيم ثنائي هيدروفولات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يوجد هذا الانزيم عند البشر ، و لكن التريميثوبريم له إلفة منخفضة للانزيم البشري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إن مشاركة السلفوناميدات مع التريميثوبريم لها فعل تآزري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ynergistic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و نادراً ما يستخدمان كلاً بمفرده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السلفاميثوكسازول هو سلفاناميد يستخدم بالمشاركة مع التريميثيوم بريم بسبب أن لهما عمري نصف متوافقين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الفولات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lat antagonis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Tahoma"/>
              </a:rPr>
              <a:t>الملامح المنتقا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إن مضادات الغولات هذه هي عوامل عريضة الطيف فعالة ضد الكائنات الحية إيجابية الغرام و سلبيتها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دعى مشاركة السلفاميثوكسازول مع التريميثوبريم كو-تريموكسازول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-trimoxazole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من المحتمل أنها الأكثر استخداماً من هذه المجموعة . تستخدم لمعالجة عداوى المسلك البولي والرئ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كينولونات و مطهرات المسلك البولي</a:t>
            </a:r>
            <a:br>
              <a:rPr sz="40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Quinolones and urinary tract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antisept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عدّ الكينولونات مجموعة مضادة للجراثيم جديدة نسبياً حيث كانت بالأصل مستخدمة لمعالجة المرضى المصابين بعداوى المسلك البولي على نحو أول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إين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ox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يفوفلوكسا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oflox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نور فل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floxacin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وفل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lox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سبارفل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rfloxac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روفافل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vaflox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كينولونات و مطهرات المسلك البولي</a:t>
            </a:r>
            <a:br>
              <a:rPr sz="40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Quinolones and urinary tract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antisept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مت دراسة هذه الأدوية في فئة منفصلة لأن لها بنية مختلفة و آلية فعل مختلفة ، فهي تثبط جيراز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A gyr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، و بالنالي ، تخليق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جيراز الدنا هو إنزيم جرثومي مسؤول عن انفكاك و فرط التفاف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coiling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دنا (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. و هذا هو الصنف الوحيد من ضمادات الجراثيم الذي يثبط تكرّر ( تنسُّخ )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 replicat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هذا الأسلوب أكثر شيوعاً لمضادات الفيروسات و الأدوية المضادة للسرطا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ثبط الكينولونات تخليق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ن خلال فعل نوعي على جيراز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 gyr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كينولونات و مطهرات المسلك البولي</a:t>
            </a:r>
            <a:br>
              <a:rPr sz="40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Quinolones and urinary tract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antisept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ذه الأدوية عريضة الطيف . لقد كان حمض النالييكسيك الدواء الأول المتوافر بكونه مطهراً فعالاً للمسك البولي ( حيث يعقم البول ) . إن الأدوية الأحدث في هذه المجموعة مفيدة لمجال واسع من العداوى الجرثومية ، بما فيها عداوى المسلك التنفسي السفلي و عدامة العظام و المفاصل ، و التهاب البروستاتة . و بعضها فعال ضد الزائفة الزنجار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eudomonas aeruginos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فعالة عن طريق الفم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استعمال الأكثر شيوعاً لهذه الأدوية هو عداوى المسلك البولي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قد وجد أن للعديد من هذه العوامل استعمالاً في التوقية و المعالجة للمرضى المصابين بإسهال المسافر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نظراً لأن هذه الأدوية جديدة نسبياً فإن الاستطبابات لاستخدامها يمكن أن تتبدل مع السنين إذ سيستمر ظهور عوامل جديد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thenamine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الميثينامين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تحمله الميثينامين في الوسط الحامضي إلى الفورمالدهيد و الأمونيا . يعد الفورمالدهيد مميتاً للجراثيم . و يستخدم في عداوى المسلك البول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دوية المستخدمة في التدرن و الجذا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تنظيم الص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ايزونياز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ريفامب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بيرازينام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ايثامبوتو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دايس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دوية المستخدمة في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ا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لتدرن و الجذا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تنظيم الص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تفطرات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cobacteria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تي تسبب التدرن ( السل ) ذات نمو بطيئ جداً ، و لهذا يتوجب الاستمرار بالمعالجة لمدة طويلة من الزمن نسبياً . وبغية منع صَحْو الذراري المقاومة فإنه من الحيوي استخدام معالجة توليفية مع عاملين اثنين ( و حتى أربعة ) على الأقل و التي يكون الجرثوم حساساً تجاه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قسم هذه الأدوية غالباً إلى مجموعتين : أدوية الخط ألأول و أدوية الخط الثاني ، و لأجل معظم الغايات ، فإن معرفة أدوية الخط ألأول تُعدّ كاف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أدوية الخط الأول</a:t>
            </a:r>
            <a:r>
              <a:rPr b="1" lang="ar-SY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1" lang="ar-SY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ا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لتدرن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يزونيازيد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niaz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يرازيناميد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yrazinam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ريفامب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famp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يثامبيوتول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hambutol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ستربتوميسين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pto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أدوية الخط الثاني</a:t>
            </a:r>
            <a:r>
              <a:rPr b="1" lang="ar-SY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1" lang="ar-SY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ا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لتدرن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مض أمينوساليسيلي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i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inosalicy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ابريوميسين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reomyc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يثيوناميد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hionam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اناميسين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amyc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ينولونات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nol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ريفابوتين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fabut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فيوميسين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omyc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مدة المعالجة المختارة حالياً ( خاضعة للتبديل ) هي شهرين اثنين من الايزونيازيد و الريفامبين و البيرازيناميد ، تُتبَع بالايزونيازيد و الريفامبين لمدة أربعة أشهر . و أحياناً يضاف الايثامبيوتول إلى نظام الشهرين البدئيي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مثبطات تخليق جدار الخلية</a:t>
            </a: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عمل البنسلينات و السيفالوسبورينات و الفانكوميسين و الأزتريونام من خلال تثبيط تخليق جدار الخلية الجرثوم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الخطوة النهائية في تخليق الجدار الخلوي هي الارتباط المتصالب لطيقان الببتيدو غليكان المتجاورة بعملية تدعى نقل الببتي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eptidat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تعد البنسلينات و السيفالوسبورينات متشابهة بنيوياً مع القسم الانتهائي لطيقان الببتيدوغليكان ، و تستطيع التنافس عليها و ترتبط مع الانزيمات التي تحفز ناقلة الببتيد و الارتباط المتصالب . تدعى هذه الانزيمات بروتينات ربط البنسلينات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icillin - binding protein PBP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يؤدي التداخل مع هذه الانزيمات إلى تكوّن جدار خلية ضعيف بنيوياً ، و جراثيم ذات أشكال غير طبيعية و بالنهاية موت الجراثيم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oniazid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ايزونيازيد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ثبط الايزونيازيد تخليق الأحماض الميكوليكية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لك الايزونيازيد بنية بسيطة جداً و يعمل على المتفطرات من خلال تثبيط تخليق الأحماض الميكوليكية الموجودة على نحو فريد في المتفطرات . إن الأحماض الميكوليكية هي مكونات غلاف الخلية الجرثوم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وجد من هم سريعي و بطيئي الأستلة للايزونيازيد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هذه السمة محدَّدة وراثياً . فالأستلة هي مسلك استقلابي للعديد من الأدوية ، و لكن هذا المسلك هو من الأهيمة بمكان لللايزونيازيد . فالايزونيازيد له عمر نصف أقصر لدى سريعي الأستل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ترابط استعمال الايزونيازيد مع سمية كبدية و اعتلال عصبي محيط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إن التهاب الكبد هو التأثير الجانبي الأكثر وخامة للايزونيازيد . يحدث الخلل الوظيفي للكبد بالايزونيازيد ( حسب قياسه باختبارات وظائف الكبد ) عند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إلى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%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ن المرضى و يزداد وقوع ذلك مع العمر . و الخلل الوظيفي للكبد قابل للعكس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ibl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لدى معظم المرضى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نتج الاعتلال العصبي المحيطي من عوز البيريدوك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yridox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يمكن تصحيحه بإضافة البيريدوكسين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Rifampin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ريفامبين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يثبط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ريفامبي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fampi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خليق الدنا بتكوين مركب ثابت مع بوليميراز الرنا المعتمد على الدنا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رتبط الريفامبين مع الوحيدات بيتا للانزيم بوليميراز الرنا المعتمد على الدنا . و المركب الريبي الذي يتكون غير فعال ، و لهذا يُحصر تخليق الرنا ( الحمض النووي الريب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N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. تنتج المقاومة للريفامبين من طفرة ذات خطوة واحدة تؤدي إلى تبدّل في الوحيدات بيتا </a:t>
            </a:r>
            <a:r>
              <a:rPr b="0" lang="ar-SA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والريفامبين غير فعال فقط ضد التدرن ، إنما أيضاً فعال ضد الجراثيم إيجابية الجرام و سلبيته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ستقلب الريفامبين في الكبد وهو محرِّض فعال لانزيم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-450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و يمكن أن يسبب التهاب الكبد و يلون الافرازات باللون الأحمر البرتقالي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ريفامبين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تم نزع الأسيتيل للريفامبين في الكبد ليتحول إلى مستقلب فعال . ويمكن أن يحدث التهاب الكبد المحرَّض بالدواء الذي يؤدي إلى اليرقا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undic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إضافةً لذلك ، يحرِّض الريفامبين إنزيمات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-450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صفرور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somal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و يمكن أن يؤدي هذا إلى استقلاب متزايد لأي دواء آخر يستقلب أيضاً بهذا النظام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مكن للريفامبين أن يلوِّن البول ، و البراز ، و اللعاب و العرق و الدموع باللون الأحمر البرتقالي . قد يدخل إلى العدسات اللاصق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ct lens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الريفابوتي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fabuti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ضاهئاً للريفامبين و له بعض الفعالية ضد المتفطرة السل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cobacterium tuberculosi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قاومة للريفامبين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yrazinamide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بيرازيناميد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بيرازيناميد فعال فقط ضد المتفطرات السلية . إنه يزيد مستويات حمض اليوريك المصل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زيد البيرازينامي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Z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تفطرة السلية بالانتشار المنفعل و يتحول إلى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yrazinoic acid ( POA )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وساطة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cotinamidase / pyrazinamid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إن المستقلب الناتج فعال يعمل على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ty acid synth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يحطم أغشية المتفطرات . تتشارك الطفرات الانتقائية في المورث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zasegen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ع مقاومة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Z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ي المتفطرة السل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بيرازيناميد فعال على نحو خاص ضد الجراثيم داخل الخلايا . يحدث فرط حمض يوريك الدم لدى كل المرضى ، و لكن الاصابة بالنقرس السريري نادرة . يترابط استخدام البيرازيناميد أيضاً مع سمية كبد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thambutol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ايثامبيوتو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مكن أن يسبب الايثامبيوتول التهاب العصب العيني مما يؤدي إلى فقد الابصار المركزي و يُخل بالمقدرة على التمييز بين اللونين الأحمر و الأخضر . يمكن للاريثامبيوتول أن يزيد مستويات حمض اليوريك المصلية كنتيجة للتصفية الكلوية الناقصة لليودات . يمكن أن تؤدي مستويات المصل الزائدة من حمض اليوريك إلى الإصابة بالنقرس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Dapsone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دابسون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معالجة الجذام هي باحة متخصصة جدا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الدابسون الدعامة الأساسية في معالجة الجُذا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prosy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ان الدابسون و لسنوات عديدة الدعامة الرئيسية في معالجة المرضى المصابين بالجذام ، ومع ذلك ، فإن التوصيات الحالية ( خاضعة للتبدل ) هي إمكانية معالجة كل أشكال الجذام بتوليفة من الأدو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الدابسون هو مضاهئ بنيوي لتخليق 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</a:rPr>
              <a:t>  حمض بارا امينو بنزويك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الريفامبين دواء فعال ضد الجذام و كذلك دواء فعال ضد التدرن . إن الثاليدوماي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lidomid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، الدواء الماسخ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atogenic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هو الدواء الأكثر فعالية لمعالجة الجذام العقدي الحمام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ythema nodosum leprosum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( حالة تفاعل التهابي مترابطة مع الجذام )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cc"/>
                </a:solidFill>
                <a:latin typeface="Tahoma"/>
              </a:rPr>
              <a:t>تقسم مثبطات تخليق جدار الخلية إلى مجموعتين اعتماداً على البنية الكيميائية : البيتا - لاكتامات و عديدات الببتيد</a:t>
            </a:r>
            <a:r>
              <a:rPr b="1" i="1" lang="ar-SA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ar-SA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Tahoma"/>
              </a:rPr>
              <a:t>البيتالاكتامات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- Lact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تُعطِّل بعض الجراثيم المضادات الحيوية من مجموعة البيتا - لاكتام عن طريق إنزيم يفتح حلقة البيتا - لاكتام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تحوي بعض الجراثيم إنزيم البيتا- لاكتاماز ، يستطيع فتح حلقة البيتا - لاكتام مما يعطل المضاد الحيوي . النمط الأكثر شيوعاً في مقاومة الدواء هو نقل بلازميد الراموز الجيني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enetic code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لإنزيم البيتا - لاكتاماز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وجد إنزيمات بيتا - لاكتاماز نوعية للبنسلينات - تدعى البسليناز 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بيتالاكتاماز نوعية للسيفالوسبورينات - تدعى سيفالوسبوريناز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ff"/>
                </a:solidFill>
                <a:uFillTx/>
                <a:latin typeface="Tahoma"/>
              </a:rPr>
              <a:t>إن تعطيل هذه الأدوية بالبيتا-لاكتاماز يمكن أن يعالج حسب أسلوبين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- إعطاء مثبط للبيتالاكتاماز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- بالتعديلات الكيميائية في بنية الدواء ، بحيث يصبح أكثر مقاومة للتعطيل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حمض الكلافولاني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vulanic aci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سولباكتا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bacta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)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ثبطان 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لبيتا - لاكتاماز و اللذين يعطيان مع أدوية البيتالاكتام لزيادة فعاليته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وجد أيضاً التازوباكتا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zobact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حمض الكلافولاني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vulanic acid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سولباكتا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lbacta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ثبطان للبيتا - لاكتاماز و اللذين يعطيان مع أدوية البيتالاكتام لزيادة فعاليتها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وجد أيضاً التازوباكتا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zobact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الطبيعي</a:t>
            </a:r>
            <a:r>
              <a:rPr b="1" lang="ar-SY" sz="2000" spc="-1" strike="noStrike" u="sng">
                <a:solidFill>
                  <a:srgbClr val="ffffff"/>
                </a:solidFill>
                <a:uFillTx/>
                <a:latin typeface="Tahoma"/>
              </a:rPr>
              <a:t>،</a:t>
            </a:r>
            <a:r>
              <a:rPr b="1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 بنسلين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r>
              <a:rPr b="1" lang="ar-SY" sz="2000" spc="-1" strike="noStrike" u="sng">
                <a:solidFill>
                  <a:srgbClr val="ffffff"/>
                </a:solidFill>
                <a:uFillTx/>
                <a:latin typeface="Tahoma"/>
              </a:rPr>
              <a:t> ، </a:t>
            </a:r>
            <a:r>
              <a:rPr b="1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بنسلين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V</a:t>
            </a:r>
            <a:r>
              <a:rPr b="0" lang="ar-SY" sz="2000" spc="-1" strike="noStrike">
                <a:solidFill>
                  <a:srgbClr val="ffffff"/>
                </a:solidFill>
                <a:latin typeface="Tahoma"/>
              </a:rPr>
              <a:t> ،         </a:t>
            </a:r>
            <a:r>
              <a:rPr b="0" i="1" lang="ar-SA" sz="2000" spc="-1" strike="noStrike">
                <a:solidFill>
                  <a:srgbClr val="ffffff"/>
                </a:solidFill>
                <a:latin typeface="Tahoma"/>
              </a:rPr>
              <a:t>طيف ضيق ( إيجابية الغرام ) ؛ حساسة للبنسليناز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المقاوم للبنسلينا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ميثيس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ethi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كلوساسي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loxa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ديكلوساسي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icloxa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نافسي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Naf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أوكساسي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xa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طيف ضيق ( إيجابية الغرام ) ؛ مخلّقة لكي تكون مقاومة للبنسلينا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أمينوبنسللينا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أموكسيسيلل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oxi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أمبيسيلل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picill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طيف ممتد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xteded spectrum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طيف مدي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أزلو سيل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zlo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كاربنسيل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arben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مزلوسيل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ezlo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بيبراسي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ipera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تيكارسيل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icacill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طيف عريض ( لها فعالية تجاه بعض سلبية الغرام ) ؛ حساسة للبنسليناز . فعالة ضد الزائفة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seudomonas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؛ غير فعالة نسبياً ضد الكائنات الحية إيجابية الجرام 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لاحظ استعراف البنسلينات من خلال النهاية سلل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ll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الامتصاص الفموي لمعظم البنسلينات ضعيفاً ؛ معظم البنسلينات تعبر الحائل الدموي الدماغي فقط إذا كان ملتهباً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ُفرَغ البنسلينات بالافرازات النبيبية التي يمكن أن تحصر بالبروبنسيد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en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فرغ البنسلينات ، القسم الأعظم منها ، بالإفراز النبيبي الفعال و إن إحصار الافراز النبيبي هو أسلوب بسيط نسبياً لاطالة فعل الدواء . يمكن إعطاء البروبنسيد بالمشاركة مع البنسلينات ، فيحصر الافراز النبيب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تفاعل فرط التحسس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sensitivit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تأثير الضائر الأكثر أهمية للبنسلينات ، و قد يكون مميتاً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كن لكل البنسلينات أن تبدي تفاعلات أرجية . وقد قسمت هذه التفاعلات إلى ثلاثة أنماط : فورية ( مباشرة 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ediat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، و معجل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ler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متأخر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 وإن الفورية هي الأكثر وخام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5T04:56:46Z</dcterms:created>
  <dc:creator>Rashad Murad</dc:creator>
  <dc:description/>
  <dc:language>en-US</dc:language>
  <cp:lastModifiedBy> </cp:lastModifiedBy>
  <dcterms:modified xsi:type="dcterms:W3CDTF">2006-07-18T17:29:37Z</dcterms:modified>
  <cp:revision>6</cp:revision>
  <dc:subject/>
  <dc:title>الادوية المضادجة للميكروبات  </dc:title>
</cp:coreProperties>
</file>