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956-2506-4F18-9526-6785F8AB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787-C7AB-42C9-A21D-664EEF46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6F6-B8B3-4065-954B-D9459368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92B-CED4-44F2-90B6-CD8E8083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CD90-0DC9-4147-9C16-7CF49C46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DB16-A0E0-49FF-B814-5B247ADE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9950-7DE7-471F-86CE-C8A2D7B1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F178-0EBB-46BA-81F3-981CC10C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2795-6999-4189-942D-FD5A989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ADFC-6C9E-46F6-9B95-8C696997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2B0C-3393-4E12-9129-12D8C21C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F54-A5D5-42F8-9694-EE87AD45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428F-1D59-4F14-BE33-EFB36D0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C8C4-FB1E-4E4E-8142-B562CD9B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E986-62F9-42C9-8152-73C4B70F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E801-0883-40F9-B030-20A68685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37F6-C5A4-4455-82CA-BA353322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577-84EE-44FF-9656-8CC9A941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4D8-070E-4D8B-989E-45709FC1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546-AD02-4641-8D12-D7C50F14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92D-8062-4BE3-98C7-8B038112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D18-8C18-417C-8B1E-0FC86696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BAF-AAA8-48A8-B47D-7662C92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CEF-DE31-421B-A477-308BC5F4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300"/>
                </a:gs>
                <a:gs pos="50000">
                  <a:srgbClr val="004800"/>
                </a:gs>
                <a:gs pos="100000">
                  <a:srgbClr val="004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2d72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2d72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DFB5-C993-4D27-9B2D-99EAEC2BEF29}" type="datetime">
              <a:rPr b="0" lang="ar-SA" sz="1200" spc="-1" strike="noStrike">
                <a:solidFill>
                  <a:srgbClr val="ffffff"/>
                </a:solidFill>
                <a:latin typeface="Garamond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8165F995-D1B2-42CF-A560-E9A9AD222715}" type="datetime10">
              <a:rPr b="0" lang="ar-SA" sz="1200" spc="-1" strike="noStrike">
                <a:solidFill>
                  <a:srgbClr val="ffffff"/>
                </a:solidFill>
                <a:latin typeface="Garamond"/>
              </a:rPr>
              <a:t>12:3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5B2E-8E19-4669-993D-E736B8D4BC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300"/>
                </a:gs>
                <a:gs pos="50000">
                  <a:srgbClr val="004800"/>
                </a:gs>
                <a:gs pos="100000">
                  <a:srgbClr val="004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2d72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e5d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2d72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EA5-B0A4-4FAC-A1D6-0B9574686A5E}" type="datetime">
              <a:rPr b="0" lang="ar-SA" sz="1200" spc="-1" strike="noStrike">
                <a:solidFill>
                  <a:srgbClr val="ffffff"/>
                </a:solidFill>
                <a:latin typeface="Garamond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4C630D0F-9DDF-4F82-B372-284837CE39A7}" type="datetime10">
              <a:rPr b="0" lang="ar-SA" sz="1200" spc="-1" strike="noStrike">
                <a:solidFill>
                  <a:srgbClr val="ffffff"/>
                </a:solidFill>
                <a:latin typeface="Garamond"/>
              </a:rPr>
              <a:t>12:3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EF1C-3315-4438-95C5-089F7DCBD3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d6d8c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85b3b1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d6d8c0"/>
                </a:solidFill>
                <a:latin typeface="Garamond"/>
              </a:rPr>
              <a:t>المريء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4920" y="134100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4000" spc="-1" strike="noStrike" u="sng">
                <a:solidFill>
                  <a:srgbClr val="cccc00"/>
                </a:solidFill>
                <a:uFillTx/>
                <a:latin typeface="Garamond"/>
              </a:rPr>
              <a:t>المري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هو بنية انبوبية طولها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انشات (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25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سم ) تتواصل في الاعلى مع الجزء الحنجري من البلعوم قبالة الفقرة الرقبية السادسة , ويمر عبر الحجاب عند مستوى الفقرة الصدرية العاشرة ليلتحق بالمعدة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ar-SY" sz="3200" spc="-1" strike="noStrike" u="sng">
                <a:solidFill>
                  <a:srgbClr val="cccc00"/>
                </a:solidFill>
                <a:uFillTx/>
                <a:latin typeface="Garamond"/>
              </a:rPr>
              <a:t>في العنق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: يتوضع المري امام العمود الفقري , ويجاوره فصوص الغدة الدرقية وحشيا , وفي الامام هو على تماس مع الرغامى والعصبين الحنجريين الراجعين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cccc00"/>
                </a:solidFill>
                <a:uFillTx/>
                <a:latin typeface="Garamond"/>
              </a:rPr>
              <a:t>في الصدر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: يسير للأسفل واليسار في المنصف العلوي ثم في المنصف الخلفي . ويدفعه قوس الابهر الى الخط الناصف . وذلك عند مستوى الزاوية القصية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634A-370B-4F7E-80FE-4371BEE28D1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44968EE-4650-47BA-9EEE-B13A3E13E068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6734160" cy="450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199-2EB9-41E4-9C6F-D3310218A8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53EC9-0620-4A07-9D67-042A31F50B16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8098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951-21A4-46CE-9A0D-9373AD6E11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FE78F-0419-43F6-AB97-67DD65AEC537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19112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BF0-B60E-4265-AAB0-DFA22899B7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66C64-0350-455B-97A8-93FC1A9CA2A0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8098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6FD-98E3-4582-8CCC-C85D2CA14B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00D8E-E747-4FE6-8EC6-12F3CECB1058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024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A45-42D4-4084-9D70-DF438CBC97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B1911-3BB5-496F-8ADF-043D76C3CFB9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10364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081-E6AC-41FC-BD42-9A617D3452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9378F-632C-40B9-99BA-DCC76C8CC4F3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590868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5ED-9998-445D-8BD7-31242C3C5C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40EB0-D425-4D21-AC25-620E55F90D66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532476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6AB-D038-4ECD-9D67-DB1D51EE91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06522-84FA-4A17-B85A-BCA63AF2624E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CB4-7A96-4C7F-A4B1-5F8965D4DF3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6E07A-9F49-4FE2-8016-92682BD012C0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540072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1BE-2F6C-4237-BFA9-8452EA7493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52875-F589-40ED-BE0E-07C2141D8FED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d6d8c0"/>
                </a:solidFill>
                <a:latin typeface="Garamond"/>
              </a:rPr>
              <a:t>مجاورات القسم الصدري للمري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مجاورات القسم الصدري للمري من الاعلى الى الاسفل هي كالتالي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ff3300"/>
                </a:solidFill>
                <a:uFillTx/>
                <a:latin typeface="Garamond"/>
              </a:rPr>
              <a:t>في الامام :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الرغامى , العصب الحنجري الراجع الايسر , القصبة الرئيسية اليسرى والتي تضيقه , التامور الذي يفصله عن الاذين الايسر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ff3300"/>
                </a:solidFill>
                <a:uFillTx/>
                <a:latin typeface="Garamond"/>
              </a:rPr>
              <a:t>في الخلف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: اجسام الفقرات الصدرية والقناة الصدرية والأوردة الفرد , والشرايين الوربية الخلفية اليمنى , ويجاور عند نهايته السفلية الابهر الصدري النازل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ff3300"/>
                </a:solidFill>
                <a:uFillTx/>
                <a:latin typeface="Garamond"/>
              </a:rPr>
              <a:t>في الجهة اليمنى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: يجاور الجنبة المنصفية والجزء ألانتهائي من الوريد الفرد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ar-SY" sz="3200" spc="-1" strike="noStrike" u="sng">
                <a:solidFill>
                  <a:srgbClr val="ff3300"/>
                </a:solidFill>
                <a:uFillTx/>
                <a:latin typeface="Garamond"/>
              </a:rPr>
              <a:t>في الجهة اليسرى :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الشريان تحت الترقوة الايسر , القوس الابهر ية , القناة الصدرية , الجنبة المنصف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451-9089-408E-9DC1-CF890CFC1D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468E7-A201-4811-B466-0DF15DE4AA62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d6d8c0"/>
                </a:solidFill>
                <a:latin typeface="Garamond"/>
              </a:rPr>
              <a:t>مجاورات القسم الصدري للمري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الى الاسفل من مستوى جذري الرئتين يترك العصبان المبهمان الضفيرة الرئوية ويلتحقان بالأعصاب الودية لتشكيل الضفيرة المريئية . يتوضع العصب المبهم الايسر امام المريء والعصب المبهم الايمن خلفه .. وعند الفتحة المريئية في الحجاب الحاجز يرافق المريء : العصبان المبهمان , فروع من الاوعية الدموية المعدية اليسرى , الاوعية اللمفية , وتسير الياف من السويقة اليمنى حول المريء على شكل وشاح معلق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r" rtl="1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في البطن ينزل المريء الى حوالي 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1,3</a:t>
            </a: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سم ومن ثم يدخل المعدة , وهنا يجاور الفص الايسر من الكبد من الامام  والسويقة اليسرى للحجاب الحاجز من الخلف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DD1-0D20-4759-902A-F04C447688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51FAD-346E-4CF5-BAEF-AD80968D71D3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d6d8c0"/>
                </a:solidFill>
                <a:latin typeface="Garamond"/>
              </a:rPr>
              <a:t>التروية الدموية للمريء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يتغذى الثلث العلوي من المريء من الشريان الدرقي السفلي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يتغذى الثلث الاوسط من المريء من فروع الابهر الصدري النازل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يتغذى الثلث السفلي من المريء من فروع الشريان المعدي الايسر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ردة القادمة من الثلث العلوي الى الاوردة الدرقية السفل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ردة القادمة من الثلث المتوسط ا الى الاوردة الفرد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ردة القادمة من الثلث السفلي  ا الى الوريد المعدي الايسر وهو احد فروع الوريد البابي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C5E-CE0A-4BE4-91B2-45B3D88452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81703-F6D6-450A-8103-AB0A777CA56D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d6d8c0"/>
                </a:solidFill>
                <a:latin typeface="Garamond"/>
              </a:rPr>
              <a:t>النزح اللمفي والتعصيب للمريء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عية اللمفاوية القادمة من الثلث العلوي للمريء الى العقد الرقبية العميق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عية اللمفاوية القادمة من الثلث الاوسط الى العقد المنصفية العلوية والخلف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تنزح الاوعية اللمفاوية القادمة من الثلث السفلي الى العقد المتوضعة على طول الاوعية الدموية المعدية اليسرى والى العقد الزلاق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00"/>
              </a:spcBef>
              <a:buClr>
                <a:srgbClr val="cccc00"/>
              </a:buClr>
              <a:buFont typeface="Garamon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يتعصب المريء بألياف ودية ولاودية صادرة وواردة عن طريق الجذوع الودية والمبهمة. وفي الجزء السفلي من مسيره الصدري يحاط المريء بالضفيرة العصبية المريئ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E7F-A3EA-4793-AB78-C8AD7CE613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DE0A5-9BC6-47F9-AF55-FCCA27916D37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09880" cy="424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B94-331B-466A-B7CC-7D7340A3F6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32B4F-40F5-4DFB-92BE-F320BC1863FE}" type="datetime8">
              <a:rPr lang="en-US"/>
              <a:t>07/29/26 12:38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9:04:47Z</dcterms:created>
  <dc:creator>د.قدري الحاج مصطفى</dc:creator>
  <dc:description/>
  <dc:language>en-US</dc:language>
  <cp:lastModifiedBy>د.قدري الحاج مصطفى</cp:lastModifiedBy>
  <dcterms:modified xsi:type="dcterms:W3CDTF">2009-02-04T11:15:25Z</dcterms:modified>
  <cp:revision>21</cp:revision>
  <dc:subject/>
  <dc:title>المريء</dc:title>
</cp:coreProperties>
</file>