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95A-9F05-4202-9726-39332F9B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866-9EAD-44D5-AE4C-E9538443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590-E13C-4936-A8ED-64DBE7B6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3C7-B19D-4577-AA01-A4FAD719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206F-C5A6-4BBB-AA26-5B51C76F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D692-EEB9-46CE-97A5-F449969A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8EEB-56EF-424C-BEB6-99E8A5E5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FD29-7A6D-4430-BBB8-1EBBCABA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A79F-4DC8-42FF-AD85-1DD6DED5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AD71-5FB4-48F3-A54C-21749604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F869-6142-4743-98BD-C0660541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AAA-39D1-4F71-BCDA-0CFC82DC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B26B-2F7A-4BF8-BB75-0F565534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2D7E-E510-4A23-8550-90CC07E4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CCCA-6F00-4AD8-A1C9-65AB727B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DCF6-2E9E-4BB0-9E38-29D93DDB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3DE8-BCEA-4624-BE4A-4EA705D2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650-6D93-4DCA-BA2C-5D974D92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DF6-91FC-46AD-B66A-8AAF5E16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18B-C0D9-40F7-9398-CA8DE07E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DB3-A6E7-448A-9743-D956DC9D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E87-44B6-41A8-97D6-F3DD9B34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7D6-F947-4033-A25A-0A7351B8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9AB-F5DA-41CA-BEAF-AC22B12D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300"/>
                </a:gs>
                <a:gs pos="50000">
                  <a:srgbClr val="004800"/>
                </a:gs>
                <a:gs pos="100000">
                  <a:srgbClr val="004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2d72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e5d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e5d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e5d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2d72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28C1-C5E3-434D-97E7-6B7166C7EC62}" type="datetime">
              <a:rPr b="0" lang="ar-SA" sz="1200" spc="-1" strike="noStrike">
                <a:solidFill>
                  <a:srgbClr val="ffffff"/>
                </a:solidFill>
                <a:latin typeface="Garamond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DF72E567-BBC0-4871-9D73-0EDB47C24BF9}" type="datetime10">
              <a:rPr b="0" lang="ar-SA" sz="1200" spc="-1" strike="noStrike">
                <a:solidFill>
                  <a:srgbClr val="ffffff"/>
                </a:solidFill>
                <a:latin typeface="Garamond"/>
              </a:rPr>
              <a:t>22:0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C2AC-EA4C-4729-ABE5-B019071F00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300"/>
                </a:gs>
                <a:gs pos="50000">
                  <a:srgbClr val="004800"/>
                </a:gs>
                <a:gs pos="100000">
                  <a:srgbClr val="004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2d72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e5d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e5d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e5d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2d72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315C-E547-42F0-BC4D-B446885F9818}" type="datetime">
              <a:rPr b="0" lang="ar-SA" sz="1200" spc="-1" strike="noStrike">
                <a:solidFill>
                  <a:srgbClr val="ffffff"/>
                </a:solidFill>
                <a:latin typeface="Garamond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FB2848F3-2B78-48B4-9BA3-27E5D75CFD57}" type="datetime10">
              <a:rPr b="0" lang="ar-SA" sz="1200" spc="-1" strike="noStrike">
                <a:solidFill>
                  <a:srgbClr val="ffffff"/>
                </a:solidFill>
                <a:latin typeface="Garamond"/>
              </a:rPr>
              <a:t>22:0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D796-CE8C-4204-B219-17829A40D7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d6d8c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85b3b1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d6d8c0"/>
                </a:solidFill>
                <a:latin typeface="Garamond"/>
              </a:rPr>
              <a:t>المريء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4920" y="134100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ar-SY" sz="4000" spc="-1" strike="noStrike" u="sng">
                <a:solidFill>
                  <a:srgbClr val="cccc00"/>
                </a:solidFill>
                <a:uFillTx/>
                <a:latin typeface="Garamond"/>
              </a:rPr>
              <a:t>المري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هو بنية انبوبية طولها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انشات (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25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سم ) تتواصل في الاعلى مع الجزء الحنجري من البلعوم قبالة الفقرة الرقبية السادسة , ويمر عبر الحجاب عند مستوى الفقرة الصدرية العاشرة ليلتحق بالمعدة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ar-SY" sz="3200" spc="-1" strike="noStrike" u="sng">
                <a:solidFill>
                  <a:srgbClr val="cccc00"/>
                </a:solidFill>
                <a:uFillTx/>
                <a:latin typeface="Garamond"/>
              </a:rPr>
              <a:t>في العنق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: يتوضع المري امام العمود الفقري , ويجاوره فصوص الغدة الدرقية وحشيا , وفي الامام هو على تماس مع الرغامى والعصبين الحنجريين الراجعين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ar-SY" sz="3200" spc="-1" strike="noStrike" u="sng">
                <a:solidFill>
                  <a:srgbClr val="cccc00"/>
                </a:solidFill>
                <a:uFillTx/>
                <a:latin typeface="Garamond"/>
              </a:rPr>
              <a:t>في الصدر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: يسير للأسفل واليسار في المنصف العلوي ثم في المنصف الخلفي . ويدفعه قوس الابهر الى الخط الناصف . وذلك عند مستوى الزاوية القصية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23D0-022A-4B10-8E1C-55146045506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393AC32-0A4C-44EC-AF92-4151B4302098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6734160" cy="450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CB9-E9B0-461A-B8E4-D80AE697D0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7518D-CA63-4A20-B2DA-56D8F3BB32D6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8098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929-C34E-489A-A6A1-F24A162221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CC320-4703-4AA1-9CA7-EB1DE148E9B5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19112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5AF-BA6E-4445-AA9C-E9258F2787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4ABF7-B9A8-4ECE-85B7-551E54C35F93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80988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405-4149-4877-8E1C-A0E04E9E2B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8F447-66CC-4D51-B564-08E690403051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1024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190-FACA-4D3F-BB15-EF3256446A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41BA1-59AC-4364-9ADF-5585C0FB7931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10364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1E1-72AA-4222-B134-6B1CD56AD2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27116-3B34-4139-B002-9C37BEB9A131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590868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25E-A7AD-46D7-90CB-549183C3E0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B7F6F-F8BD-41DF-91C2-88C5E0224245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532476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727-64B4-4761-81AA-707DF8A531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F6761-99B0-435F-A1E6-B73C71388B98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7C8-246C-4754-9697-0CE91D5CDEB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DFA04-7CE8-4D0E-870F-BF1108278DB9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540072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DE9-09F7-4F73-B6BC-D1AA6803FD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02409-ACE1-4E53-B541-550306A9E846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d6d8c0"/>
                </a:solidFill>
                <a:latin typeface="Garamond"/>
              </a:rPr>
              <a:t>مجاورات القسم الصدري للمري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مجاورات القسم الصدري للمري من الاعلى الى الاسفل هي كالتالي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ar-SY" sz="3200" spc="-1" strike="noStrike" u="sng">
                <a:solidFill>
                  <a:srgbClr val="ff3300"/>
                </a:solidFill>
                <a:uFillTx/>
                <a:latin typeface="Garamond"/>
              </a:rPr>
              <a:t>في الامام :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الرغامى , العصب الحنجري الراجع الايسر , القصبة الرئيسية اليسرى والتي تضيقه , التامور الذي يفصله عن الاذين الايسر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ar-SY" sz="3200" spc="-1" strike="noStrike" u="sng">
                <a:solidFill>
                  <a:srgbClr val="ff3300"/>
                </a:solidFill>
                <a:uFillTx/>
                <a:latin typeface="Garamond"/>
              </a:rPr>
              <a:t>في الخلف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: اجسام الفقرات الصدرية والقناة الصدرية والأوردة الفرد , والشرايين الوربية الخلفية اليمنى , ويجاور عند نهايته السفلية الابهر الصدري النازل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ar-SY" sz="3200" spc="-1" strike="noStrike" u="sng">
                <a:solidFill>
                  <a:srgbClr val="ff3300"/>
                </a:solidFill>
                <a:uFillTx/>
                <a:latin typeface="Garamond"/>
              </a:rPr>
              <a:t>في الجهة اليمنى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: يجاور الجنبة المنصفية والجزء ألانتهائي من الوريد الفرد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ar-SY" sz="3200" spc="-1" strike="noStrike" u="sng">
                <a:solidFill>
                  <a:srgbClr val="ff3300"/>
                </a:solidFill>
                <a:uFillTx/>
                <a:latin typeface="Garamond"/>
              </a:rPr>
              <a:t>في الجهة اليسرى :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الشريان تحت الترقوة الايسر , القوس الابهر ية , القناة الصدرية , الجنبة المنصف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389-12D0-4A4B-9690-1B59379ECC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DA622-9F53-4E12-98B4-11956508070F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d6d8c0"/>
                </a:solidFill>
                <a:latin typeface="Garamond"/>
              </a:rPr>
              <a:t>مجاورات القسم الصدري للمري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الى الاسفل من مستوى جذري الرئتين يترك العصبان المبهمان الضفيرة الرئوية ويلتحقان بالأعصاب الودية لتشكيل الضفيرة المريئية . يتوضع العصب المبهم الايسر امام المريء والعصب المبهم الايمن خلفه .. وعند الفتحة المريئية في الحجاب الحاجز يرافق المريء : العصبان المبهمان , فروع من الاوعية الدموية المعدية اليسرى , الاوعية اللمفية , وتسير الياف من السويقة اليمنى حول المريء على شكل وشاح معلق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في البطن ينزل المريء الى حوالي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1,3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سم ومن ثم يدخل المعدة , وهنا يجاور الفص الايسر من الكبد من الامام  والسويقة اليسرى للحجاب الحاجز من الخلف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E6C-1BBF-4093-BA69-2989E633A0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1CD6F-FFB6-42A3-A09C-6005DE92169D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d6d8c0"/>
                </a:solidFill>
                <a:latin typeface="Garamond"/>
              </a:rPr>
              <a:t>التروية الدموية للمريء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يتغذى الثلث العلوي من المريء من الشريان الدرقي السفلي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يتغذى الثلث الاوسط من المريء من فروع الابهر الصدري النازل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يتغذى الثلث السفلي من المريء من فروع الشريان المعدي الايسر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تنزح الاوردة القادمة من الثلث العلوي الى الاوردة الدرقية السفل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تنزح الاوردة القادمة من الثلث المتوسط ا الى الاوردة الفرد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تنزح الاوردة القادمة من الثلث السفلي  ا الى الوريد المعدي الايسر وهو احد فروع الوريد البابي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B0F-79A2-4895-AEBD-64ACE780CA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FBAED-F358-4B6A-9A73-A714187E2CC5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d6d8c0"/>
                </a:solidFill>
                <a:latin typeface="Garamond"/>
              </a:rPr>
              <a:t>النزح اللمفي والتعصيب للمريء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تنزح الاوعية اللمفاوية القادمة من الثلث العلوي للمريء الى العقد الرقبية العميق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تنزح الاوعية اللمفاوية القادمة من الثلث الاوسط الى العقد المنصفية العلوية والخلف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تنزح الاوعية اللمفاوية القادمة من الثلث السفلي الى العقد المتوضعة على طول الاوعية الدموية المعدية اليسرى والى العقد الزلاق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يتعصب المريء بألياف ودية ولاودية صادرة وواردة عن طريق الجذوع الودية والمبهمة. وفي الجزء السفلي من مسيره الصدري يحاط المريء بالضفيرة العصبية المريئ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1E0-A95E-4476-8887-A5071EEE50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C6272-B096-462E-9B3F-061B1240B27A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09880" cy="424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CAC-8746-4C3B-82FD-78F41D129B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94F21-0906-431C-98EE-BC3DF2BE5FE9}" type="datetime8">
              <a:rPr lang="en-US"/>
              <a:t>07/30/26 22:08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9:04:47Z</dcterms:created>
  <dc:creator>د.قدري الحاج مصطفى</dc:creator>
  <dc:description/>
  <dc:language>en-US</dc:language>
  <cp:lastModifiedBy>د.قدري الحاج مصطفى</cp:lastModifiedBy>
  <dcterms:modified xsi:type="dcterms:W3CDTF">2009-02-04T11:15:25Z</dcterms:modified>
  <cp:revision>21</cp:revision>
  <dc:subject/>
  <dc:title>المريء</dc:title>
</cp:coreProperties>
</file>