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3.pct" ContentType="image/x-pict"/>
  <Override PartName="/ppt/media/image8.pct" ContentType="image/x-pict"/>
  <Override PartName="/ppt/media/image10.png" ContentType="image/png"/>
  <Override PartName="/ppt/media/image12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ng" ContentType="image/png"/>
  <Override PartName="/ppt/media/image16.pct" ContentType="image/x-pict"/>
  <Override PartName="/ppt/media/image15.pct" ContentType="image/x-pict"/>
  <Override PartName="/ppt/media/image14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pct" ContentType="image/x-pict"/>
  <Override PartName="/ppt/media/image7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Slide  </a:t>
            </a:r>
            <a:fld id="{460D7C2A-E308-406F-88BD-A98CA41C35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integrating components to create a system or sub-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volve testing an increment to be delivered to the custo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h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ration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have access to the system source code. The system is tested as components are integr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lease tes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he test team test the complete system to be delivered as a black-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1000"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building a system from its components and testing it for problems that arise from component inte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-down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keleton of the system and populate it with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-up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436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infrastructure components then add functional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implify error localisation, systems should be incrementally integ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mental integr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approa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is better at discovering errors in the system archit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demon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integration testing allows a limited demonstration at an early stage in th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ten easier with bottom-up integration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with both approaches. Extra code may be required to observe t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testing a release of a system that will be distributed to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goal is to increase the supplier’s confidence that the system meets its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testing is usually black-box or functional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system specification on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ers do not have knowledge of the system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-box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78487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864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guidelines are hints for the testing team to help them choose tests that will reveal defects 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inputs that force the system to generate all error messag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inputs that cause buffers to overflow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he same input or input series several tim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invalid outputs to be generat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computation results to be too large or too sm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scena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98108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2514600"/>
          <a:ext cx="79250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79250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38080" y="2057400"/>
          <a:ext cx="762012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62012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ases can be a basis for deriving the tests for a system. They help identify operations to be tested and help design the required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n associated sequence diagram, the inputs and outputs to be created for the tests can be iden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distinctions between validation testing and defec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the principles of system and 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strategies for generating system test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nderstand the essential characteristics of tool used for 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lect weather data sequenc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3868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rforman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release testing may involve testing the emergent properties of a system, such as performance and reli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tests usually involve planning a series of tests where the load is steadily increased until the system performance becomes unaccep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e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s the system beyond its maximum design load. Stressing the system often causes defects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to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ing the system test failure behaviour.. Systems should not fail catastrophically. Stress testing checks for unacceptable loss of service or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ss testing is particularly relevant to distributed systems that can exhibit severe degradation as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becomes overloa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or unit testing is the process of testing individual components in iso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defect test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may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functions or methods within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classes with several attributes and method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components with defined interfaces used to access their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class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est coverage of a class 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all operations associated with an objec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 and interrogating all object attribut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ing the object in all possible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eritance makes it more difficult to design object class tests as the information to be tested is not locali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object inte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038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ather st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define test cases for reportWeather, calibrate, test, startup and shutd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a state model, identify sequences of state transitions to be tested and the event sequences to cause the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ing -&gt; Calibrating -&gt; Testing -&gt; Transmitting -&gt; Wa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are to detect faults due to interface errors or invalid assumptions about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ly important for object-oriented development as objects are defined by their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1600200"/>
            <a:ext cx="62485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meter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passed from one procedure to ano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memory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of memory is shared between procedures or fun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ural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 encapsulates a set of procedures to be called by other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request services from other sub-system.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err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calls another component and makes an error in its use of its interface e.g. parameters in the wrong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is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lling component embeds assumptions about the behaviour of the called component which are incorr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lled and the calling component operate at different speeds and out-of-date information is acces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face testing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so that parameters to a called procedure are at the extreme ends of their r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test pointer parameters with null poi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tests which cause the component to f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stress testing in message passing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hared memory systems, vary the order in which components are activ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designing the test cases (inputs and outputs) used to test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test case design is to create a set of tests that are effective in validation and defect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pproach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-based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tion test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based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l principle of requirements engineering is that requirements should be tes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-based testing is a validation testing technique where you consider each requirement and derive a set of tests for that requ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828800"/>
            <a:ext cx="8458200" cy="342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362320"/>
          <a:ext cx="7696080" cy="236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696080" cy="23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BSYS te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52480"/>
          <a:ext cx="8381880" cy="42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3818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i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data and output results often fall into different classes where all members of a class are rel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of these classes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ivalence part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domain where the program behaves in an equivalent way for each class me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chosen from each part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1600200"/>
            <a:ext cx="59436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84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nce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008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spec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8800" y="1851120"/>
            <a:ext cx="634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arch (Key : ELEM ; T: SEQ of EL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nd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LEAN; L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o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_INDEX)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sequence has at least one 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’FIRST &lt;= T’LA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-cond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found and is referenced by 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Found and T (L) = Ke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 the element is not in the arr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un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s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, T’FIRST &gt;= i &lt;= T’LAST, T (i) = Key 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tes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individual program compon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the responsibility of the component developer (except sometimes for critical system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derived from the developer’s experi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ing of groups of components integrated to create a system or sub-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ponsibility of an independent testing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 are based on a system specif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ich conform to the pre-con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a pre-condition does not h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a member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s where the key element is not a member of the arr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guidelines (sequenc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software with sequences which have only a single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equences of different sizes in different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e tests so that the first, middle and last elements of the sequence are acces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with sequences of zero leng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rch routine - input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752480"/>
          <a:ext cx="7925040" cy="41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92504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 called white-box t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ivation of test cases according to program structure. Knowledge of the program is used to identify additional test c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 is to exercise all program statements (not all path combinat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al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62940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804080" cy="4583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satisfied, key element not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conditions unsatisfied, key element not in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 single val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even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rray has an odd number of val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55216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equiv. part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828800"/>
            <a:ext cx="8458200" cy="426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5530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- test c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828800"/>
            <a:ext cx="8458200" cy="396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2362320"/>
          <a:ext cx="7772400" cy="25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77724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h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of path testing is to ensure that the set of test cases is such that each path through the program is executed at least o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ting point for path testing is a program flow graph that shows nodes representing program decisions and arcs representing the flow of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ments with conditions are therefore nodes in the flow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nary search flow gra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447920"/>
            <a:ext cx="670572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43178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8458200" cy="3048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8, 9, 10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5, 6, 7, 11, 12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3, 4, 6, 7, 2, 11, 13, 5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cases should be derived so that all of these paths are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ynamic program analyser may be used to check that paths have been exec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ependent pat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auto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is an expensive process phase. Testing workbenches provide a range of tools to reduce the time required and total testing co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such as Junit support the automatic execution of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esting workbenches are open systems because testing needs are organisation-specif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sometimes difficult to integrate with closed design and analysis workbenc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esting workbe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workbench adap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s may be developed for user interface simulators and patterns for test data gener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outputs may have to be prepared manually for comparis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-purpose file comparators may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can show the presence of faults in a system; it cannot prove there are no remaining fa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 developers are responsible for component testing; system testing is the responsibility of a separate te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testing is testing increments of the system; release testing involves testing a system to be released to a custom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perience and guidelines to design test cases in defect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606320"/>
            <a:ext cx="780588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testing is designed to discover defects in the interfaces of composite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valence partitioning is a way of discovering test cases - all cases in a partition should behave in the same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 analysis relies on analysing a program and deriving tests from this analy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utomation reduces testing costs by supporting the test process with a range of software too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ec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defect testing is to discover defects i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ccessfu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fect test is a test which causes a program to behave in an anomalous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show the presence not the absence of de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rocess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idation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emonstrate to the developer and the system customer that the software meets its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shows that the system operates as inte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ect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discover faults or defects in the software where its behaviour is incorrect or not in conformance with its specific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ccessful test is a test that makes the system perform incorrectly and so exposes a defect in the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ftware testing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981080"/>
            <a:ext cx="84582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076960" cy="16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exhaustive testing can show a program is free from defects. However, exhaustive testing is impossib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policies define the approach to be used in selecting system t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unctions accessed through menus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ations of functions accessed through the same menu should be test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user input is required, all functions must be tested with correct and incorrect inp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oli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9T19:34:14Z</dcterms:created>
  <dc:creator/>
  <dc:description/>
  <dc:language>en-US</dc:language>
  <cp:lastModifiedBy>Ian Sommerville</cp:lastModifiedBy>
  <cp:lastPrinted>2004-06-02T10:22:09Z</cp:lastPrinted>
  <dcterms:modified xsi:type="dcterms:W3CDTF">2004-06-02T10:22:36Z</dcterms:modified>
  <cp:revision>23</cp:revision>
  <dc:subject/>
  <dc:title>Defect testing</dc:title>
</cp:coreProperties>
</file>