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3C1-9C4D-4E1B-82C5-492E9856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D52-9EC3-4053-877C-02CA7633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627-737C-45D8-BAA6-B81B7823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F1A-6426-49A5-A5B7-6D362444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DFA-10E9-42B0-B1DB-41899D22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4CE-F2C1-4D4F-B773-38336C76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1ED-0F89-474C-A5A7-89BCE422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D45-76AB-445C-AC0F-5675B64C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505-707D-4D7E-9B59-8C0DE81D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F34-DBAB-4BD9-96E8-64B345F4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282-4596-498C-B1EC-815923A8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C4F-C269-4BEE-AF15-3F3C1437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38325-AFEC-4D7B-862F-8BDEA14EB3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F5CD0-24E5-44D6-8750-D1CAACF777C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1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1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2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24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27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30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4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4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4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4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56" name="Picture 9" descr=""/>
            <p:cNvPicPr/>
            <p:nvPr/>
          </p:nvPicPr>
          <p:blipFill>
            <a:blip r:embed="rId3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59" name="Picture 12" descr=""/>
            <p:cNvPicPr/>
            <p:nvPr/>
          </p:nvPicPr>
          <p:blipFill>
            <a:blip r:embed="rId4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62" name="Picture 15" descr=""/>
            <p:cNvPicPr/>
            <p:nvPr/>
          </p:nvPicPr>
          <p:blipFill>
            <a:blip r:embed="rId5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65" name="Picture 18" descr=""/>
            <p:cNvPicPr/>
            <p:nvPr/>
          </p:nvPicPr>
          <p:blipFill>
            <a:blip r:embed="rId6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68" name="Picture 21" descr=""/>
            <p:cNvPicPr/>
            <p:nvPr/>
          </p:nvPicPr>
          <p:blipFill>
            <a:blip r:embed="rId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22"/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6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6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67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7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73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7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8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8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86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89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92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05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0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11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6:35:46Z</dcterms:created>
  <dc:creator>최봉수</dc:creator>
  <dc:description/>
  <dc:language>en-US</dc:language>
  <cp:lastModifiedBy>맛있다 군만두</cp:lastModifiedBy>
  <dcterms:modified xsi:type="dcterms:W3CDTF">2023-07-13T08:21:08Z</dcterms:modified>
  <cp:revision>3</cp:revision>
  <dc:subject/>
  <dc:title>슬라이드 1</dc:title>
</cp:coreProperties>
</file>