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FFB-3E32-4CF7-9731-6BD4991E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060-2A61-4BBA-B148-340332C3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144-E3EF-4BC2-9775-990F21E7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28C-EC4B-4D88-9188-DE44332C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3F6-ABDA-426F-AE56-D7E831C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B40-76FA-4E67-8CC2-F6F1139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5DE-487E-4EE4-804D-3EB99D52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946-FFCB-4F5E-8474-D5A37957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6A9-5E0D-41E9-BD5C-D46C186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25E-0B84-4A95-B681-F990F04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E25-013B-4CC0-8AAF-09179083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44B-77FC-4350-8794-08F2305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6872A-6209-428F-864C-0192EC651A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94DF1-A64F-4095-8F52-292C3222022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6:35:46Z</dcterms:created>
  <dc:creator>최봉수</dc:creator>
  <dc:description/>
  <dc:language>en-US</dc:language>
  <cp:lastModifiedBy>맛있다 군만두</cp:lastModifiedBy>
  <dcterms:modified xsi:type="dcterms:W3CDTF">2023-07-13T08:21:08Z</dcterms:modified>
  <cp:revision>3</cp:revision>
  <dc:subject/>
  <dc:title>슬라이드 1</dc:title>
</cp:coreProperties>
</file>