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37F2-18DA-4F48-B8AA-FD732687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06BB-4600-43AB-B9E5-9B76B70B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8A8C-D0B9-4E5E-8E80-E506FAE3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E9C5-AFB3-4F0F-8547-910A0DD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F4B-BFE4-4CCA-878D-3A3D504A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78A7-3A41-40AB-BDB2-6C21C24D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EA8-BC71-4754-A1A2-9EC091C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6734-3ED4-4CFC-8480-F0ED880B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13E1-64CF-4353-8839-2832681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587D-E743-49AF-AF9E-34C5FB4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03B-AEE2-4FC2-AF90-F4A1AAD8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D458-8777-4827-BB5F-9B8234B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FA72-5D4E-4261-B567-18356BD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1E5-927A-48EC-8D2D-1D8610C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7EF5-5B4B-44AF-8E73-2642DB3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178-6E60-4BAA-9B0A-3E5A8B89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264-62AD-4F75-AC5F-BDAF7266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D7FE-B0EA-4785-9013-001632B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EA3D-23BA-4BF1-88C7-8D2F5A6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E6FE-6357-42FE-9B6C-8866F29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7487-4FCA-4CAA-B8AE-B68E6EE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A840-2D5B-4305-8FF6-7EAEDC4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1160-043D-4D13-8C8F-DBE51C6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4290-E5BF-4864-899A-0066EAC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803F-2CDC-4885-A6F4-DD1689E85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C144-3934-452E-BF11-849FB5DD9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NDO CON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lización de atrib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se inician implícitamente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886200"/>
            <a:ext cx="7391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forma explicita se puede indicar un valor ini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constructor provee una inicialización de atributos de instancia mas complej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1676520"/>
            <a:ext cx="5562000" cy="1752120"/>
            <a:chOff x="838080" y="1676520"/>
            <a:chExt cx="5562000" cy="1752120"/>
          </a:xfrm>
        </p:grpSpPr>
        <p:sp>
          <p:nvSpPr>
            <p:cNvPr id="152" name=""/>
            <p:cNvSpPr/>
            <p:nvPr/>
          </p:nvSpPr>
          <p:spPr>
            <a:xfrm>
              <a:off x="838080" y="1676520"/>
              <a:ext cx="40442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yte, short, int, l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oat,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ferencia a Obj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2320" y="1676520"/>
              <a:ext cx="151776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'0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licula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34136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 String nuevoTip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to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907920"/>
            <a:ext cx="79250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a adecuada iniciación de variables de instancia, la clase debe tener un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constructor se invoca automáticamente cuando se crea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declaran de forma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iene el mismo nombre qu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se codifica un constructor, el compilador crea uno por defecto sin argumentos que inicializa las variables de instancia en forma explicita o implici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4508640"/>
            <a:ext cx="8137080" cy="2113560"/>
            <a:chOff x="611280" y="4508640"/>
            <a:chExt cx="8137080" cy="2113560"/>
          </a:xfrm>
        </p:grpSpPr>
        <p:sp>
          <p:nvSpPr>
            <p:cNvPr id="159" name=""/>
            <p:cNvSpPr/>
            <p:nvPr/>
          </p:nvSpPr>
          <p:spPr>
            <a:xfrm>
              <a:off x="671400" y="4508640"/>
              <a:ext cx="5180400" cy="1124640"/>
            </a:xfrm>
            <a:prstGeom prst="rect">
              <a:avLst/>
            </a:prstGeom>
            <a:solidFill>
              <a:srgbClr val="c0c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ublic BankAccount(String nombre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Propietario(nombr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280" y="5968080"/>
              <a:ext cx="7563600" cy="654120"/>
            </a:xfrm>
            <a:prstGeom prst="rect">
              <a:avLst/>
            </a:prstGeom>
            <a:solidFill>
              <a:srgbClr val="c0c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ankAccount cuenta = new BankAccount(“Jorge Basadre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26840" y="5622840"/>
              <a:ext cx="20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o del Constr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55960" y="5758200"/>
              <a:ext cx="392400" cy="612360"/>
            </a:xfrm>
            <a:custGeom>
              <a:avLst/>
              <a:gdLst/>
              <a:ahLst/>
              <a:rect l="l" t="t" r="r" b="b"/>
              <a:pathLst>
                <a:path w="143" h="288">
                  <a:moveTo>
                    <a:pt x="53" y="0"/>
                  </a:moveTo>
                  <a:cubicBezTo>
                    <a:pt x="143" y="88"/>
                    <a:pt x="116" y="238"/>
                    <a:pt x="0" y="28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30360" y="4874760"/>
              <a:ext cx="408600" cy="307440"/>
            </a:xfrm>
            <a:custGeom>
              <a:avLst/>
              <a:gdLst/>
              <a:ahLst/>
              <a:rect l="l" t="t" r="r" b="b"/>
              <a:pathLst>
                <a:path w="149" h="144">
                  <a:moveTo>
                    <a:pt x="137" y="0"/>
                  </a:moveTo>
                  <a:cubicBezTo>
                    <a:pt x="149" y="79"/>
                    <a:pt x="78" y="144"/>
                    <a:pt x="0" y="12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0" y="4579200"/>
              <a:ext cx="1367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efinicion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onstr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to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907920"/>
            <a:ext cx="79246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método que crea una nueva instancia de una clase. Las clases contienen al menos un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el comando new con un constructor para crear una instancia de un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retorna ningún valor. Con el operador new retorna una referencia al nuev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definir un constructor, también se proporciona el constructor por d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constructores se sobrecargan para permitir diferentes formas de creación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8280360" cy="187164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  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Numerada = new BankAccount(numer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Nombrada = new BankAccount(“Caima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3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licula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80964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 String nuevoTip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getTitu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getTip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0120" y="630864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antos constructores encuentra en Pelicula.Jav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0792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stConstructores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630864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muestra el progra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09960"/>
            <a:ext cx="861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Constructor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1 = new Pelicul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2 = new Pelicula("La lista de Schindle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3 = new Pelicula("El dormilon.","Comedi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1.getTitulo()+pelicula1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2.getTitulo()+pelicula2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3.getTitulo()+pelicula3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5520" y="0"/>
            <a:ext cx="3408480" cy="329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uevoTipo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po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p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étodos de instancia reciben el argumento this implícitamente que se refiere al mismo obje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781360"/>
            <a:ext cx="6019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Titulo(String 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titulo =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630864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diferencia existe entre this.titulo y titulo en el me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914400"/>
            <a:ext cx="82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un constructor, el comando this es usado para referirse a otros constructores en la mism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628640"/>
            <a:ext cx="7848360" cy="511200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804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804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wner =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"TestNam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String name, double initialBalanc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Balance(initialBalan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66880" y="2279520"/>
            <a:ext cx="4165200" cy="3381120"/>
            <a:chOff x="866880" y="2279520"/>
            <a:chExt cx="4165200" cy="3381120"/>
          </a:xfrm>
        </p:grpSpPr>
        <p:sp>
          <p:nvSpPr>
            <p:cNvPr id="183" name=""/>
            <p:cNvSpPr/>
            <p:nvPr/>
          </p:nvSpPr>
          <p:spPr>
            <a:xfrm>
              <a:off x="1649880" y="2279520"/>
              <a:ext cx="3382200" cy="34848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22480" y="4110120"/>
              <a:ext cx="2406600" cy="31860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5040" y="5350680"/>
              <a:ext cx="1615680" cy="30996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6480" y="2671560"/>
              <a:ext cx="2090160" cy="2810880"/>
            </a:xfrm>
            <a:custGeom>
              <a:avLst/>
              <a:gdLst/>
              <a:ahLst/>
              <a:rect l="l" t="t" r="r" b="b"/>
              <a:pathLst>
                <a:path w="793" h="935">
                  <a:moveTo>
                    <a:pt x="0" y="935"/>
                  </a:moveTo>
                  <a:cubicBezTo>
                    <a:pt x="449" y="918"/>
                    <a:pt x="793" y="492"/>
                    <a:pt x="75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6880" y="2441160"/>
              <a:ext cx="740520" cy="1723320"/>
            </a:xfrm>
            <a:custGeom>
              <a:avLst/>
              <a:gdLst/>
              <a:ahLst/>
              <a:rect l="l" t="t" r="r" b="b"/>
              <a:pathLst>
                <a:path w="281" h="572">
                  <a:moveTo>
                    <a:pt x="281" y="0"/>
                  </a:moveTo>
                  <a:cubicBezTo>
                    <a:pt x="76" y="39"/>
                    <a:pt x="0" y="388"/>
                    <a:pt x="157" y="57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91440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compartir código entre constructores usando la referencia this. Un constructor invoca a otro pasándole los argumento que requiere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907920"/>
            <a:ext cx="85341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;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"Pelicula sin defini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 (String titul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titulo =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This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Thi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1 = new Pelicul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2 = new Pelicula(“Kramer vs Kram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1.getTitul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2.getTitul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4400" y="645336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muestra el siguiente codi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struct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1285920"/>
            <a:ext cx="8154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Java no tiene el concepto de destructores para los objetos que no se estan us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des-asignación es realizada automaticamente por el Java Virtual Machine (JV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recolector de basura (Garbage Collector) libera la memoria de objetos no referenci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igar una referencia (variable) de un objeto (memoria) se realiza asignando otro valor a la referencia del 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erenciaObjeto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erenciaObjeto = otroOb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objeto sin referencias es un candidato a la des-asignación durante la recolección de bas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ini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14300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l encapsulamiento se basa en los métodos de in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sobrecarga de métodos nos brinda una interfase mas leg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constructores aseguran una consistente creación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arbage Collector libera espacio en memo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ributos de cla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4300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clase comparte un único valor entre todos las instancia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claran con el calificado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los objetos creados a partir de la clase obtienen el mismo dato de un atributo est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3716280"/>
            <a:ext cx="601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por def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 precioMinim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, 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tos de cl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914400"/>
            <a:ext cx="3733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clase se pueden iniciar en la decl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iniciación ocurre cuando se carga la clase en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una iniciación compleja se usara un bloqu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052640"/>
            <a:ext cx="585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explic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int numeroDias =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compl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 precioMinim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hoy = new 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i es Do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oy.getDay()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Minimo = 5.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Minimo = 3.2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etNumeroDias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umeroDi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getPrecioMinim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recioMinim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étodos de cl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143000"/>
            <a:ext cx="7925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étodos son compartidos por todas las insta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n estos métodos principalmente para manipular variables de in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les declara con el calificador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invoca a este método de clase con el nombre de la clase o con el nombre de una insta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es necesario crear un objeto para utilizar un metodo de clase, basta con referenciar a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260280"/>
            <a:ext cx="7667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loat precio = 3.50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titulo) { this.titulo = titulo;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  return titulo;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setPrecio(float nuevoPrecio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 = nuevoPrec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loat getPreci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rec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63817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resultados se obtiene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343320"/>
            <a:ext cx="795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Static2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Stati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setPrecio(3.98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oscar = new Pelicula("Ben Hu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video = new Pelicula(“Aeropuert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oscar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scar.setPrecio(4.98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Pelicula camara = new Pelicula(“Odisea 200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ideo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ystem.out.println(camara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ystem.out.println(Pelicula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Métodos 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143000"/>
            <a:ext cx="79250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aplicacion no puede ejecutarse a menos que una clase presente un metod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JVM carga la clase e inicia la ejecucion al llamar al metodo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 puede ser llamado por cualquier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: no necesita crearse un objeto prev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: no retornara ningún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149720"/>
            <a:ext cx="7993080" cy="230364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 cuenta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.setPropietario(args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.credit(Integer.parseInt(args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uenta.getPropietario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que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143000"/>
            <a:ext cx="79250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se pueden agrupar según el modelo que se esta construy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convención, los nombres de los package están en minús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packages pueden contener clases con el mismo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33520" y="4637160"/>
            <a:ext cx="4578480" cy="760320"/>
          </a:xfrm>
          <a:prstGeom prst="rect">
            <a:avLst/>
          </a:prstGeom>
          <a:solidFill>
            <a:srgbClr val="c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4920" y="4875480"/>
            <a:ext cx="4261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.com.megabank.model. BankAccou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94000" y="4813200"/>
            <a:ext cx="2776320" cy="4287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7800" y="4813200"/>
            <a:ext cx="1582560" cy="42084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4096800"/>
            <a:ext cx="1579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l paqu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7960" y="4196160"/>
            <a:ext cx="162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 la c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84840" y="5809320"/>
            <a:ext cx="403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 la clase “completamente calific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16280" y="5407200"/>
            <a:ext cx="6480" cy="35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93960" y="4551480"/>
            <a:ext cx="109440" cy="25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49800" y="4459320"/>
            <a:ext cx="130320" cy="34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dores de Ac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9144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y métodos en Java tiene restricciones de acceso, descrito por los siguientes modificadores de ac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:  El acceso es limitado a la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rivate 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(sin modificador): Acceso limitado al paqu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int x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: Limitado al paquete y las sub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rotected void setName() { . . 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 Acceso desde todas las clases en todos los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ublic String getName() { . . 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cesibilidad a las 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143000"/>
            <a:ext cx="7925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pueden referirse a otras clases dentro del mismo paquete por el nombre de la clase sol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proporcionarse el nombre completamente calificado (incluyendo el paquete) para las clases definidas en diferentes paque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uestra como Tester y BankAccount se han definido en diferentes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3832200"/>
            <a:ext cx="7704360" cy="276552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test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BankAccount cu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Sentencia im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sentencia import permite utilizar clases sin calificarlas comple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2276640"/>
            <a:ext cx="6486480" cy="3143160"/>
          </a:xfrm>
          <a:prstGeom prst="rect">
            <a:avLst/>
          </a:prstGeom>
          <a:solidFill>
            <a:srgbClr val="c0c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pe.com.megabank.tes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pe.com.megabank.model.BankAc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 cuenta = new 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54080" y="3503520"/>
            <a:ext cx="6464520" cy="309420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com.megabank.tes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com.megabank.models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 cuenta = new 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76320" y="4098960"/>
            <a:ext cx="4165560" cy="554040"/>
          </a:xfrm>
          <a:prstGeom prst="ellipse">
            <a:avLst/>
          </a:prstGeom>
          <a:noFill/>
          <a:ln w="50760">
            <a:solidFill>
              <a:srgbClr val="67676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95840"/>
            <a:ext cx="1665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Importar to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las clases de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798560" y="4644720"/>
            <a:ext cx="1424160" cy="1377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43760" y="2565360"/>
            <a:ext cx="1488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c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Importar s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una 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97640" y="2995560"/>
            <a:ext cx="1503360" cy="77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814480"/>
            <a:ext cx="5541840" cy="614520"/>
          </a:xfrm>
          <a:prstGeom prst="ellipse">
            <a:avLst/>
          </a:prstGeom>
          <a:noFill/>
          <a:ln w="50760">
            <a:solidFill>
              <a:srgbClr val="67676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832-5D0E-42A7-8FFB-166A269577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ndo 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79250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se agrupan en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paquete contiene una colección de clases relacionadas lóg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rchivos con  código fuente tiene la extensión 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y una clase publica por archivo 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lase es como una plant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ualmente necesitaremos crear objetos o instancia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nsaj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nsajes invocan el comportamiento de un objeto a traves de un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916280"/>
            <a:ext cx="6048360" cy="172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setPropietario("Smith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debitar(50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59120" y="4307040"/>
            <a:ext cx="760320" cy="37620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76680" y="4308480"/>
            <a:ext cx="1360440" cy="398520"/>
          </a:xfrm>
          <a:prstGeom prst="rect">
            <a:avLst/>
          </a:prstGeom>
          <a:solidFill>
            <a:srgbClr val="db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2800" y="4292640"/>
            <a:ext cx="510840" cy="360360"/>
          </a:xfrm>
          <a:prstGeom prst="rect">
            <a:avLst/>
          </a:prstGeom>
          <a:solidFill>
            <a:srgbClr val="6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75240" y="4292280"/>
            <a:ext cx="22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enta.debitar(50.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5240" y="496260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14960" y="544680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2000" y="49068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ara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89160" y="4468680"/>
            <a:ext cx="592200" cy="524160"/>
          </a:xfrm>
          <a:custGeom>
            <a:avLst/>
            <a:gdLst/>
            <a:ahLst/>
            <a:rect l="l" t="t" r="r" b="b"/>
            <a:pathLst>
              <a:path w="372" h="330">
                <a:moveTo>
                  <a:pt x="372" y="0"/>
                </a:moveTo>
                <a:cubicBezTo>
                  <a:pt x="230" y="25"/>
                  <a:pt x="99" y="142"/>
                  <a:pt x="0" y="330"/>
                </a:cubicBezTo>
              </a:path>
            </a:pathLst>
          </a:custGeom>
          <a:noFill/>
          <a:ln w="50760">
            <a:solidFill>
              <a:srgbClr val="28007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9400" y="4521240"/>
            <a:ext cx="606600" cy="385560"/>
          </a:xfrm>
          <a:custGeom>
            <a:avLst/>
            <a:gdLst/>
            <a:ahLst/>
            <a:rect l="l" t="t" r="r" b="b"/>
            <a:pathLst>
              <a:path w="381" h="243">
                <a:moveTo>
                  <a:pt x="0" y="0"/>
                </a:moveTo>
                <a:cubicBezTo>
                  <a:pt x="145" y="18"/>
                  <a:pt x="280" y="105"/>
                  <a:pt x="381" y="243"/>
                </a:cubicBezTo>
              </a:path>
            </a:pathLst>
          </a:custGeom>
          <a:noFill/>
          <a:ln w="50760">
            <a:solidFill>
              <a:srgbClr val="28007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96920" y="4768920"/>
            <a:ext cx="135000" cy="668160"/>
          </a:xfrm>
          <a:prstGeom prst="line">
            <a:avLst/>
          </a:prstGeom>
          <a:ln w="50760">
            <a:solidFill>
              <a:srgbClr val="28007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93960" y="4300560"/>
            <a:ext cx="1382760" cy="38268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87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étodos determinan como los objetos responden a los mensajes (la conducta de la cla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360" y="4230000"/>
            <a:ext cx="67662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debitar(double cantida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uerpo del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odigo Java que implementa conducta del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7320" y="3043080"/>
            <a:ext cx="20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lista de para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32200" y="2724480"/>
            <a:ext cx="865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ip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re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880" y="3117240"/>
            <a:ext cx="13737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od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de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8680" y="4189320"/>
            <a:ext cx="938520" cy="389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191120"/>
            <a:ext cx="63036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7440" y="4191120"/>
            <a:ext cx="104472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03600" y="4191120"/>
            <a:ext cx="226368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9600" y="3719520"/>
            <a:ext cx="220680" cy="503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84560" y="3306600"/>
            <a:ext cx="258480" cy="91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06480" y="3324240"/>
            <a:ext cx="1117800" cy="90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1680" y="2724480"/>
            <a:ext cx="1297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nombr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81240" y="3306600"/>
            <a:ext cx="773280" cy="91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irma del méto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143000"/>
            <a:ext cx="7925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lase puede tener muchos métodos con el mismo nombre (sobrecarga), pero deben tener una firma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firma del método consist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ombre del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tipos y cantidad de arg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721400"/>
            <a:ext cx="2087640" cy="436320"/>
          </a:xfrm>
          <a:prstGeom prst="rect">
            <a:avLst/>
          </a:prstGeom>
          <a:solidFill>
            <a:srgbClr val="e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3680" y="4721400"/>
            <a:ext cx="1084320" cy="436320"/>
          </a:xfrm>
          <a:prstGeom prst="rect">
            <a:avLst/>
          </a:prstGeom>
          <a:solidFill>
            <a:srgbClr val="a5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4581360"/>
            <a:ext cx="3241800" cy="662040"/>
          </a:xfrm>
          <a:prstGeom prst="rect">
            <a:avLst/>
          </a:prstGeom>
          <a:noFill/>
          <a:ln w="50760">
            <a:solidFill>
              <a:srgbClr val="b3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67040" y="3767040"/>
            <a:ext cx="1488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nombre 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479760"/>
            <a:ext cx="1747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tipo de argu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7800" y="593244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67000" y="4154400"/>
            <a:ext cx="374760" cy="567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03840" y="4210200"/>
            <a:ext cx="214200" cy="51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25880" y="5328720"/>
            <a:ext cx="0" cy="646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79736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 acreditar  (double cantidad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carga de mét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907920"/>
            <a:ext cx="79246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gunos métodos en una clase pueden tener el mismo n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os métodos deben contar con diferentes arg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compilador decide que método invocar comparando los arg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generara un error si los métodos solo varían en el tipo de re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firmas permiten que el mismo nombre sea utilizado para muchos diferentes metodos (overload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429408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float prec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tPreci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o = 3.5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tPrecio(float nuevoPreci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o = nuevoPrec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143000"/>
            <a:ext cx="79250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encapsulan atributos métodos. Los atributos y métodos son miembro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iembros pueden pertenecer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 la clase (la clase y sus objetos). Son métodos y atributos de clase, indicados por el calificador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objeto. Son métodos y atributo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pueden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ientes una de o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das por herencia (superclase / subcl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das por el tipo (inter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ción de atributos de instanc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7924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 variables de instancia se pueden iniciar en la decl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iniciación ocurre cuando se crea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instancia conservan sus propios valores en cada obje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9718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titulo;            // im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tipo = "Drama";    // ex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numeroDeOscares;      // im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Laboratorio Académico</cp:lastModifiedBy>
  <dcterms:modified xsi:type="dcterms:W3CDTF">2008-04-19T20:59:36Z</dcterms:modified>
  <cp:revision>181</cp:revision>
  <dc:subject/>
  <dc:title>Presentación de PowerPoint</dc:title>
</cp:coreProperties>
</file>