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56FD-8EE9-4D3C-8262-74F7C822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B326-3E14-4028-9FEB-947A86D2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1367-3145-48D0-99C1-BEE5ACCC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5CEE-923E-4CE9-A051-3A206B3B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C515-E2B7-4911-BFB2-64E0B1DD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AEC3-CE70-47C9-B6E3-BA49ECF1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283C-7CE4-48B9-9723-60905133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117D-E9A2-44DB-A4C7-666F1996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C230-44E3-453F-B8B3-E4E88219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1F80-9D71-4713-9EF6-E6E98E3E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5C21-0E3F-4F37-9074-EE53D1A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1D16-ED42-4023-ABF6-8D918312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5ABF-E225-4C87-B353-6CDCF659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A203-F180-4676-B6CF-0B23FF69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EE2A-63EB-400E-BE27-AC54A37B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54F0-5DFC-4156-9EC1-7D2AD8A8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40FE-F7D6-4636-BEC3-E69D014C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348B-085D-42B1-8EC4-A75B07B4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F930-885C-4CDF-8F75-C47574BA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B0DF-A3AC-4C39-96AA-FC337A90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3AEC-1C01-4D48-8083-623544FA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C5965-F71C-43DF-BC42-3FFB7BB8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EBF6-8530-4734-855A-79DCAA8F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FC16-657E-4A07-9C84-A8310E5E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E23C-C1EC-47D5-A94B-C5EB5801C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20B5-3A45-45D8-B433-828EDA423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160020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666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ANDO CON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609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UAJE DE PROGRAMAC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DO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860640"/>
            <a:ext cx="6769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dad Nacional de Ingenierí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ad de Ingeniería Industrial y de Sistem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gel Chata Tintaya (angel.chata@gmail.com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aulaportal.googlepage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nicialización de atribu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atributos se inician implícitamente co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886200"/>
            <a:ext cx="73911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forma explicita se puede indicar un valor ini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po = "Drama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 constructor provee una inicialización de atributos de instancia mas compleja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1676520"/>
            <a:ext cx="5562000" cy="1752120"/>
            <a:chOff x="838080" y="1676520"/>
            <a:chExt cx="5562000" cy="1752120"/>
          </a:xfrm>
        </p:grpSpPr>
        <p:sp>
          <p:nvSpPr>
            <p:cNvPr id="152" name=""/>
            <p:cNvSpPr/>
            <p:nvPr/>
          </p:nvSpPr>
          <p:spPr>
            <a:xfrm>
              <a:off x="838080" y="1676520"/>
              <a:ext cx="40442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yte, short, int, lo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ool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oat,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ferencia a Obj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82320" y="1676520"/>
              <a:ext cx="151776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'0'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elicula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34136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po = "Drama";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"Pelicula sin definir.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, String nuevoTip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po = nuevoTip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8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ructo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907920"/>
            <a:ext cx="792504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ra una adecuada iniciación de variables de instancia, la clase debe tener un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 constructor se invoca automáticamente cuando se crea un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declaran de forma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iene el mismo nombre que l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no se codifica un constructor, el compilador crea uno por defecto sin argumentos que inicializa las variables de instancia en forma explicita o implici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1280" y="4508640"/>
            <a:ext cx="8137080" cy="2113560"/>
            <a:chOff x="611280" y="4508640"/>
            <a:chExt cx="8137080" cy="2113560"/>
          </a:xfrm>
        </p:grpSpPr>
        <p:sp>
          <p:nvSpPr>
            <p:cNvPr id="159" name=""/>
            <p:cNvSpPr/>
            <p:nvPr/>
          </p:nvSpPr>
          <p:spPr>
            <a:xfrm>
              <a:off x="671400" y="4508640"/>
              <a:ext cx="5180400" cy="1124640"/>
            </a:xfrm>
            <a:prstGeom prst="rect">
              <a:avLst/>
            </a:prstGeom>
            <a:solidFill>
              <a:srgbClr val="c0c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ublic BankAccount(String nombre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Propietario(nombr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280" y="5968080"/>
              <a:ext cx="7563600" cy="654120"/>
            </a:xfrm>
            <a:prstGeom prst="rect">
              <a:avLst/>
            </a:prstGeom>
            <a:solidFill>
              <a:srgbClr val="c0c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ankAccount cuenta = new BankAccount(“Jorge Basadre"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26840" y="5622840"/>
              <a:ext cx="20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o del Constru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55960" y="5758200"/>
              <a:ext cx="392400" cy="612360"/>
            </a:xfrm>
            <a:custGeom>
              <a:avLst/>
              <a:gdLst/>
              <a:ahLst/>
              <a:rect l="l" t="t" r="r" b="b"/>
              <a:pathLst>
                <a:path w="143" h="288">
                  <a:moveTo>
                    <a:pt x="53" y="0"/>
                  </a:moveTo>
                  <a:cubicBezTo>
                    <a:pt x="143" y="88"/>
                    <a:pt x="116" y="238"/>
                    <a:pt x="0" y="28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30360" y="4874760"/>
              <a:ext cx="408600" cy="307440"/>
            </a:xfrm>
            <a:custGeom>
              <a:avLst/>
              <a:gdLst/>
              <a:ahLst/>
              <a:rect l="l" t="t" r="r" b="b"/>
              <a:pathLst>
                <a:path w="149" h="144">
                  <a:moveTo>
                    <a:pt x="137" y="0"/>
                  </a:moveTo>
                  <a:cubicBezTo>
                    <a:pt x="149" y="79"/>
                    <a:pt x="78" y="144"/>
                    <a:pt x="0" y="126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0" y="4579200"/>
              <a:ext cx="136764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efinicion 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Constru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18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ructo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907920"/>
            <a:ext cx="79246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método que crea una nueva instancia de una clase. Las clases contienen al menos un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usa el comando new con un constructor para crear una instancia de un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retorna ningún valor. Con el operador new retorna una referencia al nuev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definir un constructor, también se proporciona el constructor por de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constructores se sobrecargan para permitir diferentes formas de creación de obje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797360"/>
            <a:ext cx="8280360" cy="187164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cuenta   = new BankAc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cuentaNumerada = new BankAccount(numer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cuentaNombrada = new BankAccount(“Caima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38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elicula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20" y="80964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po = "Drama";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"Pelicula sin definir.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, String nuevoTip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po = nuevoTip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ring getTitul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ring getTip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ip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70120" y="6308640"/>
            <a:ext cx="53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antos constructores encuentra en Pelicula.Jav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0792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estConstructores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630864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 muestra el program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09960"/>
            <a:ext cx="861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Constructor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pelicula1 = new Pelicul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pelicula2 = new Pelicula("La lista de Schindler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pelicula3 = new Pelicula("El dormilon.","Comedia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elicula1.getTitulo()+pelicula1.getTip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elicula2.getTitulo()+pelicula2.getTip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elicula3.getTitulo()+pelicula3.getTip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35520" y="0"/>
            <a:ext cx="3408480" cy="329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po = "Drama";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"Pelicula sin definir.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nuevoTitulo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uevoTipo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tulo = nuevoTitul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po = nuevoTip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Titulo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titul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Tipo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tip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La referencia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11430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métodos de instancia reciben el argumento this implícitamente que se refiere al mismo obje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2781360"/>
            <a:ext cx="6019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setTitulo(String titul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titulo = titul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630864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 diferencia existe entre this.titulo y titulo en el meto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La referencia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914400"/>
            <a:ext cx="829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un constructor, el comando this es usado para referirse a otros constructores en la mism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628640"/>
            <a:ext cx="7848360" cy="511200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BankAccount(String nam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804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804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wner = 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"TestNam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BankAccount(String name, double initialBalanc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Balance(initialBalanc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66880" y="2279520"/>
            <a:ext cx="4165200" cy="3381120"/>
            <a:chOff x="866880" y="2279520"/>
            <a:chExt cx="4165200" cy="3381120"/>
          </a:xfrm>
        </p:grpSpPr>
        <p:sp>
          <p:nvSpPr>
            <p:cNvPr id="183" name=""/>
            <p:cNvSpPr/>
            <p:nvPr/>
          </p:nvSpPr>
          <p:spPr>
            <a:xfrm>
              <a:off x="1649880" y="2279520"/>
              <a:ext cx="3382200" cy="348480"/>
            </a:xfrm>
            <a:prstGeom prst="rect">
              <a:avLst/>
            </a:prstGeom>
            <a:noFill/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22480" y="4110120"/>
              <a:ext cx="2406600" cy="318600"/>
            </a:xfrm>
            <a:prstGeom prst="rect">
              <a:avLst/>
            </a:prstGeom>
            <a:noFill/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75040" y="5350680"/>
              <a:ext cx="1615680" cy="309960"/>
            </a:xfrm>
            <a:prstGeom prst="rect">
              <a:avLst/>
            </a:prstGeom>
            <a:noFill/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6480" y="2671560"/>
              <a:ext cx="2090160" cy="2810880"/>
            </a:xfrm>
            <a:custGeom>
              <a:avLst/>
              <a:gdLst/>
              <a:ahLst/>
              <a:rect l="l" t="t" r="r" b="b"/>
              <a:pathLst>
                <a:path w="793" h="935">
                  <a:moveTo>
                    <a:pt x="0" y="935"/>
                  </a:moveTo>
                  <a:cubicBezTo>
                    <a:pt x="449" y="918"/>
                    <a:pt x="793" y="492"/>
                    <a:pt x="75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6880" y="2441160"/>
              <a:ext cx="740520" cy="1723320"/>
            </a:xfrm>
            <a:custGeom>
              <a:avLst/>
              <a:gdLst/>
              <a:ahLst/>
              <a:rect l="l" t="t" r="r" b="b"/>
              <a:pathLst>
                <a:path w="281" h="572">
                  <a:moveTo>
                    <a:pt x="281" y="0"/>
                  </a:moveTo>
                  <a:cubicBezTo>
                    <a:pt x="76" y="39"/>
                    <a:pt x="0" y="388"/>
                    <a:pt x="157" y="57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La referencia </a:t>
            </a:r>
            <a:r>
              <a:rPr b="1" lang="es-E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914400"/>
            <a:ext cx="36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compartir código entre constructores usando la referencia this. Un constructor invoca a otro pasándole los argumento que requiere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907920"/>
            <a:ext cx="85341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po;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) {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("Pelicula sin defini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 (String titul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titulo = titu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Titul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titu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This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Thi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pelicula1 = new Pelicul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pelicula2 = new Pelicula(“Kramer vs Kram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elicula1.getTitul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elicula2.getTitul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4400" y="645336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 muestra el siguiente codig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structo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1285920"/>
            <a:ext cx="81547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Java no tiene el concepto de destructores para los objetos que no se estan us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des-asignación es realizada automaticamente por el Java Virtual Machine (JV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recolector de basura (Garbage Collector) libera la memoria de objetos no referenci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ligar una referencia (variable) de un objeto (memoria) se realiza asignando otro valor a la referencia del obje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erenciaObjeto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erenciaObjeto = otroObje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 objeto sin referencias es un candidato a la des-asignación durante la recolección de bas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ones inic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143000"/>
            <a:ext cx="7925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l encapsulamiento se basa en los métodos de insta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a sobrecarga de métodos nos brinda una interfase mas leg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os constructores aseguran una consistente creación de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Garbage Collector libera espacio en memo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ributos de cla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143000"/>
            <a:ext cx="79250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atributos de clase comparte un único valor entre todos las instancias de l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claran con el calificado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los objetos creados a partir de la clase obtienen el mismo dato de un atributo est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3716280"/>
            <a:ext cx="6019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iciación por def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double precioMinim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, tip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tributos de cl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914400"/>
            <a:ext cx="37339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atributos de clase se pueden iniciar en la decla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iniciación ocurre cuando se carga la clase en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una iniciación compleja se usara un bloqu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052640"/>
            <a:ext cx="5856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iciación explic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int numeroDias = 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iciación comple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double precioMinim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hoy = new 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si es Domin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oy.getDay()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oMinimo = 5.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oMinimo = 3.29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getNumeroDias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numeroDi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double getPrecioMinim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recioMinim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étodos de cl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143000"/>
            <a:ext cx="79250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étodos son compartidos por todas las insta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usan estos métodos principalmente para manipular variables de insta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les declara con el calificador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invoca a este método de clase con el nombre de la clase o con el nombre de una insta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es necesario crear un objeto para utilizar un metodo de clase, basta con referenciar a l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260280"/>
            <a:ext cx="76676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.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elicula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loat precio = 3.50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titul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elicula(String titulo) { this.titulo = titulo;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Titulo() {  return titulo;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setPrecio(float nuevoPrecio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o = nuevoPrec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float getPrecio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rec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638172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resultados se obtienen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343320"/>
            <a:ext cx="7956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Static2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Stati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.setPrecio(3.98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oscar = new Pelicula("Ben Hu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licula video = new Pelicula(“Aeropuert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oscar.getPreci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scar.setPrecio(4.98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Pelicula camara = new Pelicula(“Odisea 2001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video.getPreci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ystem.out.println(camara.getPreci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ystem.out.println(Pelicula.getPrecio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Métodos 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143000"/>
            <a:ext cx="79250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aplicacion no puede ejecutarse a menos que una clase presente un metodo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JVM carga la clase e inicia la ejecucion al llamar al metodo main(String[]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: puede ser llamado por cualquier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c: no necesita crearse un objeto prev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d: no retornara ningún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4149720"/>
            <a:ext cx="7993080" cy="230364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kAccount cuenta = new BankAc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.setPropietario(args[0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.credit(Integer.parseInt(args[1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uenta.getBalanc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uenta.getPropietario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que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143000"/>
            <a:ext cx="79250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lases se pueden agrupar según el modelo que se esta construye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 convención, los nombres de los package están en minúsc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tes packages pueden contener clases con el mismo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33520" y="4637160"/>
            <a:ext cx="4578480" cy="760320"/>
          </a:xfrm>
          <a:prstGeom prst="rect">
            <a:avLst/>
          </a:prstGeom>
          <a:solidFill>
            <a:srgbClr val="c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64920" y="4875480"/>
            <a:ext cx="4261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.com.megabank.model. BankAccou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94000" y="4813200"/>
            <a:ext cx="2776320" cy="4287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7800" y="4813200"/>
            <a:ext cx="1582560" cy="42084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4320" y="4096800"/>
            <a:ext cx="1579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Nombre del paqu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37960" y="4196160"/>
            <a:ext cx="162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Nombre de la cl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84840" y="5809320"/>
            <a:ext cx="403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Nombre de la clase “completamente calific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716280" y="5407200"/>
            <a:ext cx="6480" cy="352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93960" y="4551480"/>
            <a:ext cx="109440" cy="25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149800" y="4459320"/>
            <a:ext cx="130320" cy="34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dores de Ac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91440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variables y métodos en Java tiene restricciones de acceso, descrito por los siguientes modificadores de acce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:  El acceso es limitado a la c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 private 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ault (sin modificador): Acceso limitado al paqu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 int x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ed: Limitado al paquete y las sub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 protected void setName() { . . 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: Acceso desde todas las clases en todos los paqu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 public String getName() { . . 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cesibilidad a las cl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143000"/>
            <a:ext cx="7925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lases pueden referirse a otras clases dentro del mismo paquete por el nombre de la clase sol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proporcionarse el nombre completamente calificado (incluyendo el paquete) para las clases definidas en diferentes paque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uestra como Tester y BankAccount se han definido en diferentes paqu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3832200"/>
            <a:ext cx="7704360" cy="276552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.com.megabank.testi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est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.com.megabank.mod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BankAccount cue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.com.megabank.mode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BankAccount(“Rafae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uenta.acreditar(100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enta.getBalanc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Sentencia im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1430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sentencia import permite utilizar clases sin calificarlas comple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8280" y="2276640"/>
            <a:ext cx="6486480" cy="3143160"/>
          </a:xfrm>
          <a:prstGeom prst="rect">
            <a:avLst/>
          </a:prstGeom>
          <a:solidFill>
            <a:srgbClr val="c0c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ckage pe.com.megabank.test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 pe.com.megabank.model.BankAc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est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Account cuenta = new BankAccount(“Rafae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uenta.acreditar(100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enta.getBalanc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54080" y="3503520"/>
            <a:ext cx="6464520" cy="309420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ckage com.megabank.test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ort com.megabank.models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est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Account cuenta = new BankAccount(“Rafae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uenta.acreditar(100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enta.getBalanc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76320" y="4098960"/>
            <a:ext cx="4165560" cy="554040"/>
          </a:xfrm>
          <a:prstGeom prst="ellipse">
            <a:avLst/>
          </a:prstGeom>
          <a:noFill/>
          <a:ln w="50760">
            <a:solidFill>
              <a:srgbClr val="67676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5595840"/>
            <a:ext cx="1665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Importar to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las clases de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798560" y="4644720"/>
            <a:ext cx="1424160" cy="1377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43760" y="2565360"/>
            <a:ext cx="14889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c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Importar s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676767"/>
                </a:solidFill>
                <a:latin typeface="Arial"/>
              </a:rPr>
              <a:t>una c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597640" y="2995560"/>
            <a:ext cx="1503360" cy="77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2814480"/>
            <a:ext cx="5541840" cy="614520"/>
          </a:xfrm>
          <a:prstGeom prst="ellipse">
            <a:avLst/>
          </a:prstGeom>
          <a:noFill/>
          <a:ln w="50760">
            <a:solidFill>
              <a:srgbClr val="67676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1FA8-DFCE-4B5A-8C65-64475097F9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895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ndo cl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792504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lases se agrupan en paqu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paquete contiene una colección de clases relacionadas lóg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archivos con  código fuente tiene la extensión 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y una clase publica por archivo 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clase es como una plant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ualmente necesitaremos crear objetos o instancias de l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ensaj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1430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mensajes invocan el comportamiento de un objeto a traves de un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1916280"/>
            <a:ext cx="6048360" cy="172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nkAccount cuenta = new BankAc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uenta.setPropietario("Smith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uenta.acreditar(100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uenta.debitar(50.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59120" y="4307040"/>
            <a:ext cx="760320" cy="37620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76680" y="4308480"/>
            <a:ext cx="1360440" cy="398520"/>
          </a:xfrm>
          <a:prstGeom prst="rect">
            <a:avLst/>
          </a:prstGeom>
          <a:solidFill>
            <a:srgbClr val="db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2800" y="4292640"/>
            <a:ext cx="510840" cy="360360"/>
          </a:xfrm>
          <a:prstGeom prst="rect">
            <a:avLst/>
          </a:prstGeom>
          <a:solidFill>
            <a:srgbClr val="69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75240" y="4292280"/>
            <a:ext cx="229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enta.debitar(50.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75240" y="496260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14960" y="544680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92000" y="49068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para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89160" y="4468680"/>
            <a:ext cx="592200" cy="524160"/>
          </a:xfrm>
          <a:custGeom>
            <a:avLst/>
            <a:gdLst/>
            <a:ahLst/>
            <a:rect l="l" t="t" r="r" b="b"/>
            <a:pathLst>
              <a:path w="372" h="330">
                <a:moveTo>
                  <a:pt x="372" y="0"/>
                </a:moveTo>
                <a:cubicBezTo>
                  <a:pt x="230" y="25"/>
                  <a:pt x="99" y="142"/>
                  <a:pt x="0" y="330"/>
                </a:cubicBezTo>
              </a:path>
            </a:pathLst>
          </a:custGeom>
          <a:noFill/>
          <a:ln w="50760">
            <a:solidFill>
              <a:srgbClr val="28007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9400" y="4521240"/>
            <a:ext cx="606600" cy="385560"/>
          </a:xfrm>
          <a:custGeom>
            <a:avLst/>
            <a:gdLst/>
            <a:ahLst/>
            <a:rect l="l" t="t" r="r" b="b"/>
            <a:pathLst>
              <a:path w="381" h="243">
                <a:moveTo>
                  <a:pt x="0" y="0"/>
                </a:moveTo>
                <a:cubicBezTo>
                  <a:pt x="145" y="18"/>
                  <a:pt x="280" y="105"/>
                  <a:pt x="381" y="243"/>
                </a:cubicBezTo>
              </a:path>
            </a:pathLst>
          </a:custGeom>
          <a:noFill/>
          <a:ln w="50760">
            <a:solidFill>
              <a:srgbClr val="28007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96920" y="4768920"/>
            <a:ext cx="135000" cy="668160"/>
          </a:xfrm>
          <a:prstGeom prst="line">
            <a:avLst/>
          </a:prstGeom>
          <a:ln w="50760">
            <a:solidFill>
              <a:srgbClr val="28007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93960" y="4300560"/>
            <a:ext cx="1382760" cy="38268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2873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métodos determinan como los objetos responden a los mensajes (la conducta de la cla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4360" y="4230000"/>
            <a:ext cx="67662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debitar(double cantida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uerpo del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odigo Java que implementa conducta del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37320" y="3043080"/>
            <a:ext cx="20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lista de para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32200" y="2724480"/>
            <a:ext cx="865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tip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ret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880" y="3117240"/>
            <a:ext cx="13737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modif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de 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8680" y="4189320"/>
            <a:ext cx="938520" cy="389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4191120"/>
            <a:ext cx="630360" cy="39024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7440" y="4191120"/>
            <a:ext cx="1044720" cy="39024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03600" y="4191120"/>
            <a:ext cx="2263680" cy="39024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9600" y="3719520"/>
            <a:ext cx="220680" cy="503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284560" y="3306600"/>
            <a:ext cx="258480" cy="917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06480" y="3324240"/>
            <a:ext cx="1117800" cy="900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1680" y="2724480"/>
            <a:ext cx="12978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nombre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81240" y="3306600"/>
            <a:ext cx="773280" cy="917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irma del méto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143000"/>
            <a:ext cx="79250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clase puede tener muchos métodos con el mismo nombre (sobrecarga), pero deben tener una firma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firma del método consiste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nombre del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tipos y cantidad de argu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4721400"/>
            <a:ext cx="2087640" cy="436320"/>
          </a:xfrm>
          <a:prstGeom prst="rect">
            <a:avLst/>
          </a:prstGeom>
          <a:solidFill>
            <a:srgbClr val="e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03680" y="4721400"/>
            <a:ext cx="1084320" cy="436320"/>
          </a:xfrm>
          <a:prstGeom prst="rect">
            <a:avLst/>
          </a:prstGeom>
          <a:solidFill>
            <a:srgbClr val="a5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4581360"/>
            <a:ext cx="3241800" cy="662040"/>
          </a:xfrm>
          <a:prstGeom prst="rect">
            <a:avLst/>
          </a:prstGeom>
          <a:noFill/>
          <a:ln w="50760">
            <a:solidFill>
              <a:srgbClr val="b3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67040" y="3767040"/>
            <a:ext cx="1488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</a:rPr>
              <a:t>nombre me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479760"/>
            <a:ext cx="1747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</a:rPr>
              <a:t>tipo de argu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17800" y="5932440"/>
            <a:ext cx="75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767"/>
                </a:solidFill>
                <a:latin typeface="Arial"/>
              </a:rPr>
              <a:t>fi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067000" y="4154400"/>
            <a:ext cx="374760" cy="567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03840" y="4210200"/>
            <a:ext cx="214200" cy="51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25880" y="5328720"/>
            <a:ext cx="0" cy="646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4797360"/>
            <a:ext cx="44640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 acreditar  (double cantidad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6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obrecarga de mét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907920"/>
            <a:ext cx="79246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gunos métodos en una clase pueden tener el mismo n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tos métodos deben contar con diferentes arg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compilador decide que método invocar comparando los arg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generara un error si los métodos solo varían en el tipo de reto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firmas permiten que el mismo nombre sea utilizado para muchos diferentes metodos (overloadin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429408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float prec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tPreci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cio = 3.5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tPrecio(float nuevoPreci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cio = nuevoPrec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l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143000"/>
            <a:ext cx="792504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lases encapsulan atributos métodos. Los atributos y métodos son miembros de la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miembros pueden pertenecer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 la clase (la clase y sus objetos). Son métodos y atributos de clase, indicados por el calificador 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objeto. Son métodos y atributos de in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lases pueden 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ientes una de o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onadas por herencia (superclase / subcl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onadas por el tipo (inter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niciación de atributos de instanc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143000"/>
            <a:ext cx="7924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s variables de instancia se pueden iniciar en la decla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 iniciación ocurre cuando se crea un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atributos de instancia conservan sus propios valores en cada obje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97180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elicu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String titulo;            // implic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String tipo = "Drama";    // explic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int numeroDeOscares;      // implic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1:30:48Z</dcterms:created>
  <dc:creator>ANGEL CHATA</dc:creator>
  <dc:description/>
  <dc:language>en-US</dc:language>
  <cp:lastModifiedBy>Laboratorio Académico</cp:lastModifiedBy>
  <dcterms:modified xsi:type="dcterms:W3CDTF">2008-04-19T20:59:36Z</dcterms:modified>
  <cp:revision>181</cp:revision>
  <dc:subject/>
  <dc:title>Presentación de PowerPoint</dc:title>
</cp:coreProperties>
</file>