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7298C-BB1E-4F22-966B-2DDCD8D61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9A0CF-65EE-4606-A378-DD89DB809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A575E-5659-40F1-B8AE-590D17DE3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074C1-B7C6-48D1-BDDA-7D395F34F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937AD-DA55-4051-A3CB-A7D8FCB4B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750AB-463E-4BC4-A56D-9EDE2D3E6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C4BEB-8ECC-41FB-8C6E-151830A00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63674-D934-42EB-8DAA-0DD810F15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E754C-C933-4E83-BAB1-EFE6AF254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A3A35-5615-4DB2-8776-3345C99FC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842EB-5705-4E3B-AFB6-5B3151FCB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70915-8436-4050-B73A-355D97C57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7FBFB-60DC-479C-984B-2F865EFB2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E0184-A793-4B50-8965-63ADF8391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3AB45-996A-4CD2-B7AD-3C7D37A09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33B03-1987-4814-8B9E-98662DA58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9FE79-83FD-4194-9D08-0FA2C02C8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A555F3-ECB1-4FCC-BEA0-39464DCD4C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2FA4F-95F1-470D-B7BB-A90A25AE0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AF6E9-344D-4CB9-8DDA-7E7C71409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06DB7-3CE7-440C-9335-683302BB0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DBA9E-C9D0-41F0-AD4B-70A6F9C20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F70EA-C7EF-448B-B36D-40D987B5B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E160C4-1F99-489E-AFA5-760CEA165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BC856-BECF-4DE4-A8FA-BA15AC7F1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35FE3-7F13-4BE3-8623-92D5A89F8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A8ADF-1D95-4C52-8053-83308F92D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2C5B3-1884-4976-81F4-FE350D5FE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1BE2F0-42A7-4C19-ACBF-4FC6BCC90A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E3B417-AC39-4164-8C33-4B06AD345A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1FDF10-116F-4469-81BE-5B2B914B93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15DED-78B4-4D2A-978C-75C3028EB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66A83-50A4-4994-9945-516C7BB2B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AA13-5727-4D7D-BE94-304C13BCC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89DC17-5E02-4C71-A6D8-5D6EB1F5B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C0383-32E0-430D-9DFE-58268243F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7AB0A-E5F6-4910-8D1F-66B3545AA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81C03-28DD-4E16-A9C0-1A7A1839E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7FBAB-BC64-4332-9689-EF59A1077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29B40-E3A3-456F-825C-3D23A4F06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61B9E1-8CF0-4B07-8F07-D93BDD223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3F6DDE-35AF-48F6-9838-066639CAED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40D5B-9AF8-4EFD-BA29-5AA33C8651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A9E3BB-4E5D-47E2-9A31-DFFB2A1505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6E0C5-16A9-4328-A53E-6CB6076F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932148-AA0E-4D5A-A9D2-8DFD60165F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3A296E-E95F-41F3-832D-0B15C32CF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88D29-6167-4DB2-9FF6-6823EEC9F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341146-628D-4A0D-9492-121EC97AB1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AD9E16-22A6-4FA3-8DEB-C7F9E7BFE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1AC32-C365-4FD1-8A49-46A5FB848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0813AE-A209-42D2-9E5E-6E3A96EA2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EFE5C-96C8-48EA-96EC-E82743885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25722D-3CA6-4C51-8DCB-2D9BCFFFB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638755-B7BA-418E-804C-FB41436404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E4848-7A62-4C78-B52F-28839050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AB91F6-F130-4FC2-BF88-85B682F6FC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C23243-02AC-4EBA-8294-2AE0113CBF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8902C1-BB6E-4CE3-BD03-D88E1F678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AE62E2-65F8-4082-A9DA-AA72CDB1E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97065-2164-4769-83B3-3BAAC5F55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18BC5-6B52-4829-AADC-037DDB1FA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3E13F-A102-4962-97E0-DCA4073DF3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7351F-CB6C-43B4-AF4E-9F5500130C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06E61-0E55-4337-8FAF-13F35ACF2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524CD-7FFC-4225-A49C-87FC8FD0B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2413-B531-420D-88E6-E05B6E90E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D61A6-D77D-40F8-B1AB-E32367E84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92A72B-3175-44F8-96CA-5AA4303CBE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54F006-1D45-40D9-9815-AD17CDD062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5284-66BB-43C4-B480-A65632C5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AEAC-648B-4817-92DB-95AD680DB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4C12-5648-418B-997D-900631F78532}" type="slidenum">
              <a:rPr b="0" lang="es-PE"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a1106"/>
            </a:gs>
            <a:gs pos="100000">
              <a:srgbClr val="8d726e"/>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FCDB-90F1-461B-B831-9D7A862EBF3E}" type="slidenum">
              <a:rPr b="0" lang="es-PE"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a1106"/>
            </a:gs>
            <a:gs pos="100000">
              <a:srgbClr val="8d726e"/>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BEC2-6997-408B-97C4-D9A763B783D8}" type="slidenum">
              <a:rPr b="0" lang="es-PE"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4435-5E76-43D5-A091-040F3B80E2DF}" type="slidenum">
              <a:rPr b="0" lang="es-PE"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A695-1C22-48FB-BAE5-3D67552E8E51}" type="slidenum">
              <a:rPr b="0" lang="es-PE"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F0EF-6D16-405C-8218-A128C2ADEEB1}" type="slidenum">
              <a:rPr b="0" lang="es-PE"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549360" y="1925640"/>
            <a:ext cx="5365800" cy="1658880"/>
          </a:xfrm>
          <a:prstGeom prst="rect">
            <a:avLst/>
          </a:prstGeom>
          <a:ln w="0">
            <a:noFill/>
          </a:ln>
        </p:spPr>
      </p:pic>
      <p:sp>
        <p:nvSpPr>
          <p:cNvPr id="255" name="PlaceHolder 1"/>
          <p:cNvSpPr>
            <a:spLocks noGrp="1"/>
          </p:cNvSpPr>
          <p:nvPr>
            <p:ph type="subTitle"/>
          </p:nvPr>
        </p:nvSpPr>
        <p:spPr>
          <a:xfrm>
            <a:off x="1476360" y="4581000"/>
            <a:ext cx="6400800" cy="175284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RA. IRMA ARIAS.</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NGAI - USMP.</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Franklin Gothic Book"/>
              </a:rPr>
              <a:t>FISIOPATOLOGIA DE LA NEFROPATIA DIABETICA.</a:t>
            </a:r>
            <a:endParaRPr b="0" lang="en-US" sz="3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TERACIONES METABOLICAS.</a:t>
            </a: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TERACIONES HEMODINAMICAS.</a:t>
            </a: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TERACIONES HISTOLOGICAS.</a:t>
            </a: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MICROALBUMINURIA.</a:t>
            </a:r>
            <a:endParaRPr b="0" lang="en-US" sz="3000" spc="-1" strike="noStrike">
              <a:solidFill>
                <a:srgbClr val="ffffff"/>
              </a:solidFill>
              <a:latin typeface="Arial"/>
            </a:endParaRPr>
          </a:p>
          <a:p>
            <a:pPr marL="609480" indent="-609480">
              <a:spcBef>
                <a:spcPts val="75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PROTEINURIA Y REDUCCION DE LA FUNCION RENA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691920"/>
            <a:ext cx="8229600" cy="5619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1. ALTERACIONES METABOLICAS</a:t>
            </a:r>
            <a:endParaRPr b="0" lang="en-US" sz="2900" spc="-1" strike="noStrike">
              <a:solidFill>
                <a:srgbClr val="ffffff"/>
              </a:solidFill>
              <a:latin typeface="Franklin Gothic Book"/>
            </a:endParaRPr>
          </a:p>
        </p:txBody>
      </p:sp>
      <p:sp>
        <p:nvSpPr>
          <p:cNvPr id="271" name=""/>
          <p:cNvSpPr txBox="1"/>
          <p:nvPr/>
        </p:nvSpPr>
        <p:spPr>
          <a:xfrm>
            <a:off x="468360" y="1916280"/>
            <a:ext cx="8229600" cy="3877920"/>
          </a:xfrm>
          <a:prstGeom prst="rect">
            <a:avLst/>
          </a:prstGeom>
          <a:noFill/>
          <a:ln w="0">
            <a:noFill/>
          </a:ln>
        </p:spPr>
        <p:txBody>
          <a:bodyPr anchor="t">
            <a:normAutofit/>
          </a:bodyPr>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alta de insulina con las consecutivas alteraciones en el metabolismo de los carbohidratos, lípidos y proteínas.</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hiperglicemia favorece la glucosilación de las proteínas estructurales, lleva a un engrosamiento de la membrana basal glomerular, pérdida de capacidad de selección por carga de moléculas filtradas y a un daño celular directo.</a:t>
            </a: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umulación de polioles en las células renales conduce a alteraciones funcionales y estructurales. La disminución de mionositol en las células renales se acompaña de daño renal.</a:t>
            </a: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umento en la sensibilidad a los factores de crecimiento: Hipertrofia de los glomérulos y progresión de daño</a:t>
            </a:r>
            <a:r>
              <a:rPr b="1" lang="es-ES_tradnl" sz="1800" spc="-1" strike="noStrike">
                <a:solidFill>
                  <a:srgbClr val="000000"/>
                </a:solidFill>
                <a:latin typeface="Arial"/>
              </a:rPr>
              <a:t> </a:t>
            </a:r>
            <a:r>
              <a:rPr b="1" lang="es-ES_tradnl" sz="1800" spc="-1" strike="noStrike">
                <a:solidFill>
                  <a:srgbClr val="ffffff"/>
                </a:solidFill>
                <a:latin typeface="Arial"/>
              </a:rPr>
              <a:t>re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60280"/>
            <a:ext cx="8229600" cy="8510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s-ES_tradnl" sz="2900" spc="-1" strike="noStrike">
                <a:solidFill>
                  <a:srgbClr val="ffff66"/>
                </a:solidFill>
                <a:latin typeface="Franklin Gothic Book"/>
              </a:rPr>
              <a:t>2. ALTERACIONES HEMODINAMICAS</a:t>
            </a:r>
            <a:endParaRPr b="0" lang="en-US" sz="2900" spc="-1" strike="noStrike">
              <a:solidFill>
                <a:srgbClr val="ffffff"/>
              </a:solidFill>
              <a:latin typeface="Franklin Gothic Book"/>
            </a:endParaRPr>
          </a:p>
        </p:txBody>
      </p:sp>
      <p:sp>
        <p:nvSpPr>
          <p:cNvPr id="273" name=""/>
          <p:cNvSpPr txBox="1"/>
          <p:nvPr/>
        </p:nvSpPr>
        <p:spPr>
          <a:xfrm>
            <a:off x="395280" y="1773000"/>
            <a:ext cx="8229600" cy="4236840"/>
          </a:xfrm>
          <a:prstGeom prst="rect">
            <a:avLst/>
          </a:prstGeom>
          <a:noFill/>
          <a:ln w="0">
            <a:noFill/>
          </a:ln>
        </p:spPr>
        <p:txBody>
          <a:bodyPr anchor="t">
            <a:normAutofit/>
          </a:bodyPr>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ase temprana: Elevación de la tasa de filtrado glomerular (TFG).</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canismos: Hiperglicemia, activación de mecanismo retroalimentación túbuloglomerular o incremento local de prostaglandinas vasodilatadoras.</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sistema renina angiotensina y la respuesta al mismo estan alterados.</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arteriolas glomerulares eferentes presentan un mayor efecto tónico en respuesta a la acción presora de angiotensina II: Aumento de la presión del capilar glomerular.</a:t>
            </a:r>
            <a:endParaRPr b="0" lang="en-US" sz="1800" spc="-1" strike="noStrike">
              <a:solidFill>
                <a:srgbClr val="ffffff"/>
              </a:solidFill>
              <a:latin typeface="Arial"/>
            </a:endParaRPr>
          </a:p>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evación de glucagon, STH,y catecolaminas: Aumento de la TFG.</a:t>
            </a:r>
            <a:endParaRPr b="0" lang="en-US" sz="1800" spc="-1" strike="noStrike">
              <a:solidFill>
                <a:srgbClr val="ffffff"/>
              </a:solidFill>
              <a:latin typeface="Arial"/>
            </a:endParaRPr>
          </a:p>
          <a:p>
            <a:pPr marL="419040" indent="-382680">
              <a:lnSpc>
                <a:spcPct val="80000"/>
              </a:lnSpc>
              <a:spcBef>
                <a:spcPts val="4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Franklin Gothic Book"/>
              </a:rPr>
              <a:t>3. ALTERACIONES HISTOLOGICAS</a:t>
            </a:r>
            <a:endParaRPr b="0" lang="en-US" sz="32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grosamiento de la membrana basal glomerular y expansión del mesangio.</a:t>
            </a: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greso del daño renal: Expansión del mesangio disminuye el área disponible para la filtración , disminuye la luz de los capilares glomerulares y la consecuente disminución en el flujo sanguíneo renal.</a:t>
            </a: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cientes estudios: Lesiones funcionales y estructurales de los podocitos son muy precoces y preceden a las alteraciones del mesangio</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ialinización de las arteriolas aferentes y eferentes, engrosamiento de la membrana basal tubular, estrechamiento de las arteriolas de pequeño calibre y  cambios túbulo intersticiales: Fase AVANZADA de nefropatía diabética.</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9640" y="620640"/>
            <a:ext cx="8229600" cy="7207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Franklin Gothic Book"/>
              </a:rPr>
              <a:t>4. MICROALBUMINURIA</a:t>
            </a:r>
            <a:endParaRPr b="0" lang="en-US" sz="2800" spc="-1" strike="noStrike">
              <a:solidFill>
                <a:srgbClr val="ffffff"/>
              </a:solidFill>
              <a:latin typeface="Franklin Gothic Book"/>
            </a:endParaRPr>
          </a:p>
        </p:txBody>
      </p:sp>
      <p:sp>
        <p:nvSpPr>
          <p:cNvPr id="277" name=""/>
          <p:cNvSpPr txBox="1"/>
          <p:nvPr/>
        </p:nvSpPr>
        <p:spPr>
          <a:xfrm>
            <a:off x="611280" y="2491920"/>
            <a:ext cx="8229600" cy="436572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evación de excreción urinaria de albúmina (EUA) sin proteinuria clínica evidente.</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predictor importante de aparición posterior de nefropatía diabética.</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UA: 20 a 200 ug/m´ó 30 a 300 mg/24 horas. Examen en paciente en reposo, con DM compensada y orina sin bacter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9640" y="620280"/>
            <a:ext cx="8229600" cy="7066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Franklin Gothic Book"/>
              </a:rPr>
              <a:t>4. MICROALBUMINURIA</a:t>
            </a:r>
            <a:endParaRPr b="0" lang="en-US" sz="2800" spc="-1" strike="noStrike">
              <a:solidFill>
                <a:srgbClr val="ffffff"/>
              </a:solidFill>
              <a:latin typeface="Franklin Gothic Book"/>
            </a:endParaRPr>
          </a:p>
        </p:txBody>
      </p:sp>
      <p:sp>
        <p:nvSpPr>
          <p:cNvPr id="279" name=""/>
          <p:cNvSpPr txBox="1"/>
          <p:nvPr/>
        </p:nvSpPr>
        <p:spPr>
          <a:xfrm>
            <a:off x="539640" y="1971360"/>
            <a:ext cx="8229600" cy="488628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iñón sano: Capilares glomerulares impiden paso de macromoléculas. En diabetes: Alteración y microalbuminuria. Al inicio: alteraciones hemodinámicas reversibles, estadío IV: Aumento en magnitud de proteinuria.</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M tipo I: Microalbuminuria predice progresión a proteinuria e IRC en siguientes 10 a 15 años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M II: Igual progresión , mayor mortalidad cardiovascular. HTA precede y predice el desarrollo de nefropat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764640"/>
            <a:ext cx="8229600" cy="6382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5. PROTEINURIA Y REDUCCION DE LA FUNCION RENAL</a:t>
            </a:r>
            <a:endParaRPr b="0" lang="en-US" sz="2900" spc="-1" strike="noStrike">
              <a:solidFill>
                <a:srgbClr val="ffffff"/>
              </a:solidFill>
              <a:latin typeface="Franklin Gothic Book"/>
            </a:endParaRPr>
          </a:p>
        </p:txBody>
      </p:sp>
      <p:sp>
        <p:nvSpPr>
          <p:cNvPr id="281" name=""/>
          <p:cNvSpPr txBox="1"/>
          <p:nvPr/>
        </p:nvSpPr>
        <p:spPr>
          <a:xfrm>
            <a:off x="457200" y="2349360"/>
            <a:ext cx="8229600" cy="378144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inuria persistente antecede a la fase desarrollada de nefropatía diabética.</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blecida la proteinuria, la función renal se reduce de modo inevitable.</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inuria: 500mg a 20 g/ orina de 24 hora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icio de reducción de TFG cuando aparece proteinuria, la nefropatía  terminal se estable en 10 a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980640"/>
            <a:ext cx="8229600" cy="792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5. PROTEINURIA Y REDUCCION DE LA FUNCION RENAL</a:t>
            </a:r>
            <a:endParaRPr b="0" lang="en-US" sz="2900" spc="-1" strike="noStrike">
              <a:solidFill>
                <a:srgbClr val="ffffff"/>
              </a:solidFill>
              <a:latin typeface="Franklin Gothic Book"/>
            </a:endParaRPr>
          </a:p>
        </p:txBody>
      </p:sp>
      <p:sp>
        <p:nvSpPr>
          <p:cNvPr id="283" name=""/>
          <p:cNvSpPr txBox="1"/>
          <p:nvPr/>
        </p:nvSpPr>
        <p:spPr>
          <a:xfrm>
            <a:off x="457200" y="2491920"/>
            <a:ext cx="8229600" cy="363852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FG se afecta por: Vejiga neurogénica, infecciones urinarias, necrosis papilar.</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ducción función renal: Uremia, disminuye necesidad de insulina, hiporexia.</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M: Causa mas frecuente de acidosis tubular renal tipo IV, acidosis metabólica hiperclorémica, hiperpotasém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
          <p:cNvPicPr/>
          <p:nvPr/>
        </p:nvPicPr>
        <p:blipFill>
          <a:blip r:embed="rId1"/>
          <a:stretch/>
        </p:blipFill>
        <p:spPr>
          <a:xfrm>
            <a:off x="0" y="1125360"/>
            <a:ext cx="9144000" cy="460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62028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HISTORIA NATURAL DE LA NEFROPATIA DIABETICA</a:t>
            </a:r>
            <a:endParaRPr b="0" lang="en-US" sz="3200" spc="-1" strike="noStrike">
              <a:solidFill>
                <a:srgbClr val="ffffff"/>
              </a:solidFill>
              <a:latin typeface="Franklin Gothic Book"/>
            </a:endParaRPr>
          </a:p>
        </p:txBody>
      </p:sp>
      <p:sp>
        <p:nvSpPr>
          <p:cNvPr id="286" name=""/>
          <p:cNvSpPr txBox="1"/>
          <p:nvPr/>
        </p:nvSpPr>
        <p:spPr>
          <a:xfrm>
            <a:off x="468360" y="2332080"/>
            <a:ext cx="8229600" cy="4525920"/>
          </a:xfrm>
          <a:prstGeom prst="rect">
            <a:avLst/>
          </a:prstGeom>
          <a:noFill/>
          <a:ln w="0">
            <a:noFill/>
          </a:ln>
        </p:spPr>
        <p:txBody>
          <a:bodyPr anchor="t">
            <a:normAutofit/>
          </a:bodyPr>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io I: Hipertrofia e hiperfunción renal temprana con aumento del flujo plasmatico renal (FPR) y de la Tasa de filtracion glomerular (TFG).</a:t>
            </a:r>
            <a:endParaRPr b="0" lang="en-US" sz="2400" spc="-1" strike="noStrike">
              <a:solidFill>
                <a:srgbClr val="ffffff"/>
              </a:solidFill>
              <a:latin typeface="Arial"/>
            </a:endParaRPr>
          </a:p>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ío II: Enfermedad glomerular temprana sin enfermedad clínica.</a:t>
            </a:r>
            <a:endParaRPr b="0" lang="en-US" sz="2400" spc="-1" strike="noStrike">
              <a:solidFill>
                <a:srgbClr val="ffffff"/>
              </a:solidFill>
              <a:latin typeface="Arial"/>
            </a:endParaRPr>
          </a:p>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ío III: Nefropatía diabética incipiente.</a:t>
            </a:r>
            <a:endParaRPr b="0" lang="en-US" sz="2400" spc="-1" strike="noStrike">
              <a:solidFill>
                <a:srgbClr val="ffffff"/>
              </a:solidFill>
              <a:latin typeface="Arial"/>
            </a:endParaRPr>
          </a:p>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ío IV: Nefropatía diabética franca.</a:t>
            </a:r>
            <a:endParaRPr b="0" lang="en-US" sz="2400" spc="-1" strike="noStrike">
              <a:solidFill>
                <a:srgbClr val="ffffff"/>
              </a:solidFill>
              <a:latin typeface="Arial"/>
            </a:endParaRPr>
          </a:p>
          <a:p>
            <a:pPr marL="609480" indent="-609480">
              <a:lnSpc>
                <a:spcPct val="9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ío V: Insuficiencia renal crónica termi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66"/>
                </a:solidFill>
                <a:latin typeface="Franklin Gothic Book"/>
              </a:rPr>
              <a:t>INTRODUCCION</a:t>
            </a:r>
            <a:endParaRPr b="0" lang="en-US" sz="4600" spc="-1" strike="noStrike">
              <a:solidFill>
                <a:srgbClr val="ffffff"/>
              </a:solidFill>
              <a:latin typeface="Franklin Gothic Book"/>
            </a:endParaRPr>
          </a:p>
        </p:txBody>
      </p:sp>
      <p:sp>
        <p:nvSpPr>
          <p:cNvPr id="257" name=""/>
          <p:cNvSpPr txBox="1"/>
          <p:nvPr/>
        </p:nvSpPr>
        <p:spPr>
          <a:xfrm>
            <a:off x="539640" y="1844280"/>
            <a:ext cx="8229600" cy="4530600"/>
          </a:xfrm>
          <a:prstGeom prst="rect">
            <a:avLst/>
          </a:prstGeom>
          <a:noFill/>
          <a:ln w="0">
            <a:noFill/>
          </a:ln>
        </p:spPr>
        <p:txBody>
          <a:bodyPr anchor="t">
            <a:normAutofit/>
          </a:bodyPr>
          <a:p>
            <a:pPr marL="419040" indent="-382680">
              <a:lnSpc>
                <a:spcPct val="9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tituye la primera causa mas frecuente de insuficiencia renal crónica terminal.</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tablecida la presencia de daño renal que se manifiesta por proteinuria, el curso clínico de esta complicación de la diabetes mellitus constituye un problema crónico y de salud pública de grandes propor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54900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ESTADIO I: HIPERTROFIA E HIPERFUNCION RENAL TEMPRANA CON AUMENTO DE FPR Y TFG</a:t>
            </a:r>
            <a:endParaRPr b="0" lang="en-US" sz="2900" spc="-1" strike="noStrike">
              <a:solidFill>
                <a:srgbClr val="ffffff"/>
              </a:solidFill>
              <a:latin typeface="Franklin Gothic Book"/>
            </a:endParaRPr>
          </a:p>
        </p:txBody>
      </p:sp>
      <p:sp>
        <p:nvSpPr>
          <p:cNvPr id="288" name=""/>
          <p:cNvSpPr txBox="1"/>
          <p:nvPr/>
        </p:nvSpPr>
        <p:spPr>
          <a:xfrm>
            <a:off x="395280" y="2708280"/>
            <a:ext cx="8229600" cy="4525920"/>
          </a:xfrm>
          <a:prstGeom prst="rect">
            <a:avLst/>
          </a:prstGeom>
          <a:noFill/>
          <a:ln w="0">
            <a:noFill/>
          </a:ln>
        </p:spPr>
        <p:txBody>
          <a:bodyPr anchor="t">
            <a:normAutofit/>
          </a:bodyPr>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iñones de mayor tamaño y aumento de la TFG.</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uede haber Microalbuminuria, corregida la hiperglicemia se corrigen estos cambios.</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alteraciones hemodinámicas más que estructur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ESTADIO II. ENFERMEDAD GLOMERULAR TEMPRANA SIN ENFERMEDAD CLÍNICA</a:t>
            </a:r>
            <a:endParaRPr b="0" lang="en-US" sz="32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sminución de la TFG.</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onde al tratamiento con insulina y corrección de la hiperglicemia. Puede persistir aumento de la TFG en relación a persistencia de alteraciones metabólicas.</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istología: Expansión del mesangio glomerular, engrosamiento de la membrana basal de los capilares glomerulares.</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creción urinaria de albúmina normal, puede aumentar en el ejerci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Franklin Gothic Book"/>
              </a:rPr>
              <a:t>ESTADIO III: NEFROPATIA DIABETICA INCIPIENTE</a:t>
            </a:r>
            <a:endParaRPr b="0" lang="en-US" sz="3600" spc="-1" strike="noStrike">
              <a:solidFill>
                <a:srgbClr val="ffffff"/>
              </a:solidFill>
              <a:latin typeface="Franklin Gothic Book"/>
            </a:endParaRPr>
          </a:p>
        </p:txBody>
      </p:sp>
      <p:sp>
        <p:nvSpPr>
          <p:cNvPr id="292" name=""/>
          <p:cNvSpPr txBox="1"/>
          <p:nvPr/>
        </p:nvSpPr>
        <p:spPr>
          <a:xfrm>
            <a:off x="468360" y="2332080"/>
            <a:ext cx="8229600" cy="4525920"/>
          </a:xfrm>
          <a:prstGeom prst="rect">
            <a:avLst/>
          </a:prstGeom>
          <a:noFill/>
          <a:ln w="0">
            <a:noFill/>
          </a:ln>
        </p:spPr>
        <p:txBody>
          <a:bodyPr anchor="t">
            <a:normAutofit/>
          </a:bodyPr>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5 a 15 años, el 40% de pacientes con DM I.</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icroalbuminuria de 30 a 300 mg/orina de 24 horas.</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cifra de PA en límites normales, mas altas que en pacientes sin microalbuminur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Franklin Gothic Book"/>
              </a:rPr>
              <a:t>ESTADIO IV: NEFROPATIA DIABETICA FRANCA</a:t>
            </a:r>
            <a:endParaRPr b="0" lang="en-US" sz="3600" spc="-1" strike="noStrike">
              <a:solidFill>
                <a:srgbClr val="ffffff"/>
              </a:solidFill>
              <a:latin typeface="Franklin Gothic Book"/>
            </a:endParaRPr>
          </a:p>
        </p:txBody>
      </p:sp>
      <p:sp>
        <p:nvSpPr>
          <p:cNvPr id="294" name=""/>
          <p:cNvSpPr txBox="1"/>
          <p:nvPr/>
        </p:nvSpPr>
        <p:spPr>
          <a:xfrm>
            <a:off x="468360" y="1989000"/>
            <a:ext cx="8229600" cy="4530960"/>
          </a:xfrm>
          <a:prstGeom prst="rect">
            <a:avLst/>
          </a:prstGeom>
          <a:noFill/>
          <a:ln w="0">
            <a:noFill/>
          </a:ln>
        </p:spPr>
        <p:txBody>
          <a:bodyPr anchor="t">
            <a:normAutofit/>
          </a:bodyPr>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inuria detectable por métodos convencional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30 a 40 % de DM tipo I  llegan a esta etapa.</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recuente sindrome nefrótico, la TFG disminuye aprox. 1 ml/minuto/ por m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parición de HTA, presencia y magnitud se correlaciona con pérdida progresiva de la función renal.</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Franklin Gothic Book"/>
              </a:rPr>
              <a:t>ESTADIO V: INSUFICIENCIA RENAL CRONICA TERMINAL</a:t>
            </a:r>
            <a:endParaRPr b="0" lang="en-US" sz="3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Sindrome nefrótico.</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Sindrome urémico.</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n el 40% de pacientes con DM tipo I, de 20 a 25 años del inicio de la enfermed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HISTORIA NATURAL DE LA NEFROPATIA DIABETICA</a:t>
            </a:r>
            <a:endParaRPr b="0" lang="en-US" sz="3200" spc="-1" strike="noStrike">
              <a:solidFill>
                <a:srgbClr val="ffffff"/>
              </a:solidFill>
              <a:latin typeface="Franklin Gothic Book"/>
            </a:endParaRPr>
          </a:p>
        </p:txBody>
      </p:sp>
      <p:graphicFrame>
        <p:nvGraphicFramePr>
          <p:cNvPr id="298" name="Object 4"/>
          <p:cNvGraphicFramePr/>
          <p:nvPr/>
        </p:nvGraphicFramePr>
        <p:xfrm>
          <a:off x="828720" y="1700280"/>
          <a:ext cx="7704000" cy="4149720"/>
        </p:xfrm>
        <a:graphic>
          <a:graphicData uri="http://schemas.openxmlformats.org/presentationml/2006/ole">
            <p:oleObj r:id="rId1" spid="">
              <p:embed/>
              <p:pic>
                <p:nvPicPr>
                  <p:cNvPr id="299" name="Object 4" descr=""/>
                  <p:cNvPicPr/>
                  <p:nvPr/>
                </p:nvPicPr>
                <p:blipFill>
                  <a:blip r:embed="rId2"/>
                  <a:stretch/>
                </p:blipFill>
                <p:spPr>
                  <a:xfrm>
                    <a:off x="828720" y="1700280"/>
                    <a:ext cx="7704000" cy="41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66"/>
                </a:solidFill>
                <a:latin typeface="Franklin Gothic Book"/>
              </a:rPr>
              <a:t>FACTORES DE RIESGO PARA EL DESARROLLO Y PROGRESION DE LA NEFROPATIA DIABETICA</a:t>
            </a:r>
            <a:endParaRPr b="0" lang="en-US" sz="2900" spc="-1" strike="noStrike">
              <a:solidFill>
                <a:srgbClr val="ffffff"/>
              </a:solidFill>
              <a:latin typeface="Franklin Gothic Book"/>
            </a:endParaRPr>
          </a:p>
        </p:txBody>
      </p:sp>
      <p:sp>
        <p:nvSpPr>
          <p:cNvPr id="30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Hiperglicemia.</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Hipertensión arterial.</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Dieta alta en proteinas.</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Factores genéticos.</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Factores raciales.</a:t>
            </a: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Tabaquismo, hiperlipidem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66"/>
                </a:solidFill>
                <a:latin typeface="Franklin Gothic Book"/>
              </a:rPr>
              <a:t>DIAGNOSTICO</a:t>
            </a:r>
            <a:endParaRPr b="0" lang="en-US" sz="46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la enfermedad está establecida, el diagnóstico de nefropatía diabética es fácil.</a:t>
            </a: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MPORTANTE: </a:t>
            </a:r>
            <a:r>
              <a:rPr b="0" lang="es-ES_tradnl" sz="2800" spc="-1" strike="noStrike" u="sng">
                <a:solidFill>
                  <a:srgbClr val="ffffff"/>
                </a:solidFill>
                <a:uFillTx/>
                <a:latin typeface="Arial"/>
              </a:rPr>
              <a:t>Buscar evidencia en fases TEMPRANAS</a:t>
            </a:r>
            <a:r>
              <a:rPr b="0" lang="es-ES_tradnl" sz="2800" spc="-1" strike="noStrike">
                <a:solidFill>
                  <a:srgbClr val="ffffff"/>
                </a:solidFill>
                <a:latin typeface="Arial"/>
              </a:rPr>
              <a:t> para establecer medidas terapéuticas que eviten o retarden el deterioro de la función re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7761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MEDICION DE MICROALBUMINURIA</a:t>
            </a:r>
            <a:endParaRPr b="0" lang="en-US" sz="3200" spc="-1" strike="noStrike">
              <a:solidFill>
                <a:srgbClr val="ffffff"/>
              </a:solidFill>
              <a:latin typeface="Franklin Gothic Book"/>
            </a:endParaRPr>
          </a:p>
        </p:txBody>
      </p:sp>
      <p:sp>
        <p:nvSpPr>
          <p:cNvPr id="305"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DM tipo I de mas de 5 años de evolución: Control anual.</a:t>
            </a:r>
            <a:endParaRPr b="0" lang="en-US" sz="2000" spc="-1" strike="noStrike">
              <a:solidFill>
                <a:srgbClr val="ffffff"/>
              </a:solidFill>
              <a:latin typeface="Arial"/>
            </a:endParaRPr>
          </a:p>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M tipo II: en el momento de diagnóstico y cada año.</a:t>
            </a:r>
            <a:endParaRPr b="0" lang="en-US" sz="2000" spc="-1" strike="noStrike">
              <a:solidFill>
                <a:srgbClr val="ffffff"/>
              </a:solidFill>
              <a:latin typeface="Arial"/>
            </a:endParaRPr>
          </a:p>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cartar causas de microalbuminuria transitoria: Hiperglicemia, ITU, estado febril, HTA esencial, ICC, sobrecarga de agua.</a:t>
            </a:r>
            <a:endParaRPr b="0" lang="en-US" sz="2000" spc="-1" strike="noStrike">
              <a:solidFill>
                <a:srgbClr val="ffffff"/>
              </a:solidFill>
              <a:latin typeface="Arial"/>
            </a:endParaRPr>
          </a:p>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stá elevada, repetir 3 – 6 meses: Microalbuminuria persistente.</a:t>
            </a:r>
            <a:endParaRPr b="0" lang="en-US" sz="2000" spc="-1" strike="noStrike">
              <a:solidFill>
                <a:srgbClr val="ffffff"/>
              </a:solidFill>
              <a:latin typeface="Arial"/>
            </a:endParaRPr>
          </a:p>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creción normal de albúmina: &lt;30 mg/orina de 24 horas. Microalbuminuria: 30 a 300 mg/orina de 24 horas. Proteinuria: &gt; 300 mg/orina de 24 ho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ff66"/>
                </a:solidFill>
                <a:latin typeface="Franklin Gothic Book"/>
              </a:rPr>
              <a:t>PREVENCION Y TRATAMIENTO</a:t>
            </a:r>
            <a:r>
              <a:rPr b="0" lang="es-ES_tradnl" sz="3600" spc="-1" strike="noStrike">
                <a:solidFill>
                  <a:srgbClr val="ffffff"/>
                </a:solidFill>
                <a:latin typeface="Franklin Gothic Book"/>
              </a:rPr>
              <a:t> </a:t>
            </a:r>
            <a:endParaRPr b="0" lang="en-US" sz="3600" spc="-1" strike="noStrike">
              <a:solidFill>
                <a:srgbClr val="ffffff"/>
              </a:solidFill>
              <a:latin typeface="Franklin Gothic Book"/>
            </a:endParaRPr>
          </a:p>
        </p:txBody>
      </p:sp>
      <p:sp>
        <p:nvSpPr>
          <p:cNvPr id="307" name=""/>
          <p:cNvSpPr txBox="1"/>
          <p:nvPr/>
        </p:nvSpPr>
        <p:spPr>
          <a:xfrm>
            <a:off x="457200" y="2133360"/>
            <a:ext cx="8229600" cy="3997080"/>
          </a:xfrm>
          <a:prstGeom prst="rect">
            <a:avLst/>
          </a:prstGeom>
          <a:noFill/>
          <a:ln w="0">
            <a:noFill/>
          </a:ln>
        </p:spPr>
        <p:txBody>
          <a:bodyPr anchor="t">
            <a:norm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os primeros años de DM identificar los factores de riesgo para establecer medidas preventivas</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HIPERGLICEMIA: Estudios sugieren que el estricto control de glicemia retrasa el deterioro de la función renal.</a:t>
            </a:r>
            <a:endParaRPr b="0" lang="en-US" sz="2000" spc="-1" strike="noStrike">
              <a:solidFill>
                <a:srgbClr val="ffffff"/>
              </a:solidFill>
              <a:latin typeface="Arial"/>
            </a:endParaRPr>
          </a:p>
          <a:p>
            <a:pPr marL="609480" indent="-6094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año renal avanzado el control de la glicemia no modifica la progresión del daño renal</a:t>
            </a:r>
            <a:r>
              <a:rPr b="0" lang="es-ES_tradnl" sz="2400" spc="-1" strike="noStrike">
                <a:solidFill>
                  <a:srgbClr val="00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3 Rectángulo"/>
          <p:cNvSpPr/>
          <p:nvPr/>
        </p:nvSpPr>
        <p:spPr>
          <a:xfrm>
            <a:off x="468360" y="750960"/>
            <a:ext cx="7488360" cy="506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000"/>
                </a:solidFill>
                <a:latin typeface="Verdana"/>
              </a:rPr>
              <a:t>Criterios Actuales para el diagnóstico de Diabetes</a:t>
            </a:r>
            <a:r>
              <a:rPr b="0" lang="es-ES" sz="1800" spc="-1" strike="noStrike">
                <a:solidFill>
                  <a:srgbClr val="ffc000"/>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Hb glicosilada &gt;= a 6,5% (en laboratorios con métodos estandarizados) </a:t>
            </a: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Glucosa en ayunas mayor o igual a 126 mg/dl (Ayuno de por lo menos 8 horas) </a:t>
            </a: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Glucosa en plasma a las 2 horas mayor o igual a 200 mg/dl durante una prueba de tolerancia oral a la glucosa (Según la técnica descrita por la OMS, por medio de una carga de glucosa anhidra de 75 gr. disuelta en agua. </a:t>
            </a: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n un paciente con síntomas clásicos de hiperglucemia o crisis hiperglucémica: glucemia mayor o igual a 200 mg/dl.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66"/>
                </a:solidFill>
                <a:latin typeface="Franklin Gothic Book"/>
              </a:rPr>
              <a:t>PREVENCION Y TRATAMIENTO</a:t>
            </a:r>
            <a:r>
              <a:rPr b="0" lang="es-ES_tradnl" sz="4000" spc="-1" strike="noStrike">
                <a:solidFill>
                  <a:srgbClr val="ffffff"/>
                </a:solidFill>
                <a:latin typeface="Franklin Gothic Book"/>
              </a:rPr>
              <a:t> </a:t>
            </a:r>
            <a:endParaRPr b="0" lang="en-US" sz="4000" spc="-1" strike="noStrike">
              <a:solidFill>
                <a:srgbClr val="ffffff"/>
              </a:solidFill>
              <a:latin typeface="Franklin Gothic Book"/>
            </a:endParaRPr>
          </a:p>
        </p:txBody>
      </p:sp>
      <p:sp>
        <p:nvSpPr>
          <p:cNvPr id="309" name=""/>
          <p:cNvSpPr txBox="1"/>
          <p:nvPr/>
        </p:nvSpPr>
        <p:spPr>
          <a:xfrm>
            <a:off x="468360" y="1628640"/>
            <a:ext cx="8229600" cy="4525920"/>
          </a:xfrm>
          <a:prstGeom prst="rect">
            <a:avLst/>
          </a:prstGeom>
          <a:noFill/>
          <a:ln w="0">
            <a:noFill/>
          </a:ln>
        </p:spPr>
        <p:txBody>
          <a:bodyPr anchor="t">
            <a:normAutofit/>
          </a:bodyPr>
          <a:p>
            <a:pPr marL="609480" indent="-609480">
              <a:lnSpc>
                <a:spcPct val="80000"/>
              </a:lnSpc>
              <a:spcBef>
                <a:spcPts val="726"/>
              </a:spcBef>
              <a:buClr>
                <a:srgbClr val="ffffff"/>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ffffff"/>
                </a:solidFill>
                <a:latin typeface="Arial"/>
              </a:rPr>
              <a:t>HIPERTENSION ARTERIAL:</a:t>
            </a:r>
            <a:endParaRPr b="0" lang="en-US" sz="2900" spc="-1" strike="noStrike">
              <a:solidFill>
                <a:srgbClr val="ffffff"/>
              </a:solidFill>
              <a:latin typeface="Arial"/>
            </a:endParaRPr>
          </a:p>
          <a:p>
            <a:pPr marL="609480" indent="-6094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tener la PA &lt; 135/85 mmHg. La reducción de la PA retrasa la progresión del deterioro renal.</a:t>
            </a:r>
            <a:endParaRPr b="0" lang="en-US" sz="2400" spc="-1" strike="noStrike">
              <a:solidFill>
                <a:srgbClr val="ffffff"/>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IECA pueden reducir la microalbuminuria e incluso aumentar la TFG.</a:t>
            </a:r>
            <a:endParaRPr b="0" lang="en-US" sz="2400" spc="-1" strike="noStrike">
              <a:solidFill>
                <a:srgbClr val="ffffff"/>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diuréticos y betabloqueadores pueden reducir la microalbuminuria en casos incipientes y retardar el deterioro renal.</a:t>
            </a:r>
            <a:endParaRPr b="0" lang="en-US" sz="2400" spc="-1" strike="noStrike">
              <a:solidFill>
                <a:srgbClr val="ffffff"/>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alcioantagonistas de II generación podrían tener una acción similar</a:t>
            </a:r>
            <a:r>
              <a:rPr b="1" lang="es-ES_tradnl" sz="2400" spc="-1" strike="noStrike">
                <a:solidFill>
                  <a:srgbClr val="ffffff"/>
                </a:solidFill>
                <a:latin typeface="Arial"/>
              </a:rPr>
              <a:t>.</a:t>
            </a:r>
            <a:r>
              <a:rPr b="1" lang="es-ES_tradnl" sz="2400" spc="-1" strike="noStrike">
                <a:solidFill>
                  <a:srgbClr val="00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66"/>
                </a:solidFill>
                <a:latin typeface="Franklin Gothic Book"/>
              </a:rPr>
              <a:t>PREVENCION Y TRATAMIENTO</a:t>
            </a:r>
            <a:endParaRPr b="0" lang="en-US" sz="4000" spc="-1" strike="noStrike">
              <a:solidFill>
                <a:srgbClr val="ffffff"/>
              </a:solidFill>
              <a:latin typeface="Franklin Gothic Book"/>
            </a:endParaRPr>
          </a:p>
        </p:txBody>
      </p:sp>
      <p:sp>
        <p:nvSpPr>
          <p:cNvPr id="31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rPr>
              <a:t>IECA:</a:t>
            </a:r>
            <a:r>
              <a:rPr b="0" lang="es-MX" sz="2400" spc="-1" strike="noStrike">
                <a:solidFill>
                  <a:srgbClr val="ffffff"/>
                </a:solidFill>
                <a:latin typeface="Arial"/>
              </a:rPr>
              <a:t> reducen la progresión de la nefropatía por sus efectos renoprotectores y antiproteinúricos y también están indicados en pacientes normotensos con enfermedad renal incipiente.</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estudio  HOPE (Heart Outcomes Prevention Evaluation) mostró que a niveles tensionales similares, los IECA disminuyeron en un 24% la tasa de progresión de la nefropatía frente al placebo en pacientes con DBT tipo I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66"/>
                </a:solidFill>
                <a:latin typeface="Franklin Gothic Book"/>
              </a:rPr>
              <a:t>PREVENCION Y TRATAMIENTO</a:t>
            </a:r>
            <a:endParaRPr b="0" lang="en-US" sz="4000" spc="-1" strike="noStrike">
              <a:solidFill>
                <a:srgbClr val="ffffff"/>
              </a:solidFill>
              <a:latin typeface="Franklin Gothic Book"/>
            </a:endParaRPr>
          </a:p>
        </p:txBody>
      </p:sp>
      <p:sp>
        <p:nvSpPr>
          <p:cNvPr id="313" name=""/>
          <p:cNvSpPr txBox="1"/>
          <p:nvPr/>
        </p:nvSpPr>
        <p:spPr>
          <a:xfrm>
            <a:off x="457200" y="1915920"/>
            <a:ext cx="8229600" cy="4214520"/>
          </a:xfrm>
          <a:prstGeom prst="rect">
            <a:avLst/>
          </a:prstGeom>
          <a:noFill/>
          <a:ln w="0">
            <a:noFill/>
          </a:ln>
        </p:spPr>
        <p:txBody>
          <a:bodyPr anchor="t">
            <a:normAutofit/>
          </a:bodyPr>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loqueantes de los canales de Ca++:</a:t>
            </a:r>
            <a:r>
              <a:rPr b="0" lang="es-MX" sz="2400" spc="-1" strike="noStrike">
                <a:solidFill>
                  <a:srgbClr val="ffffff"/>
                </a:solidFill>
                <a:latin typeface="Arial"/>
              </a:rPr>
              <a:t> (diltiazem y verapamilo) estos fármacos constituyen una opción valedera por sus parecidos efectos antiproteinúricos y renoprotectores.</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No ocurre lo mismo con los del grupo de las dihidropiridinas (nifedipino – amlodipino) y que estas empeorarían la proteinuria y acelerarían la progresión de la enfermedad en pacientes con nefroparía diabética o sin ell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ff66"/>
                </a:solidFill>
                <a:latin typeface="Franklin Gothic Book"/>
              </a:rPr>
              <a:t>PREVENCION Y TRATAMIENTO</a:t>
            </a:r>
            <a:endParaRPr b="0" lang="en-US" sz="3600" spc="-1" strike="noStrike">
              <a:solidFill>
                <a:srgbClr val="ffffff"/>
              </a:solidFill>
              <a:latin typeface="Franklin Gothic Book"/>
            </a:endParaRPr>
          </a:p>
        </p:txBody>
      </p:sp>
      <p:sp>
        <p:nvSpPr>
          <p:cNvPr id="315" name=""/>
          <p:cNvSpPr txBox="1"/>
          <p:nvPr/>
        </p:nvSpPr>
        <p:spPr>
          <a:xfrm>
            <a:off x="457200" y="1988640"/>
            <a:ext cx="8229600" cy="4141800"/>
          </a:xfrm>
          <a:prstGeom prst="rect">
            <a:avLst/>
          </a:prstGeom>
          <a:noFill/>
          <a:ln w="0">
            <a:noFill/>
          </a:ln>
        </p:spPr>
        <p:txBody>
          <a:bodyPr anchor="t">
            <a:normAutofit/>
          </a:bodyPr>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tagonistas de los Receptores de Angiotensina II</a:t>
            </a:r>
            <a:r>
              <a:rPr b="0" lang="es-MX" sz="2000" spc="-1" strike="noStrike">
                <a:solidFill>
                  <a:srgbClr val="ffffff"/>
                </a:solidFill>
                <a:latin typeface="Arial"/>
              </a:rPr>
              <a:t>: varios son los estudios que apoyan el uso de estos fármacos.</a:t>
            </a:r>
            <a:endParaRPr b="0" lang="en-US" sz="2000" spc="-1" strike="noStrike">
              <a:solidFill>
                <a:srgbClr val="ffffff"/>
              </a:solidFill>
              <a:latin typeface="Arial"/>
            </a:endParaRPr>
          </a:p>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lang="es-MX" sz="2000" spc="-1" strike="noStrike">
                <a:solidFill>
                  <a:srgbClr val="ffffff"/>
                </a:solidFill>
                <a:latin typeface="Arial"/>
              </a:rPr>
              <a:t>IRBESARTAN</a:t>
            </a:r>
            <a:r>
              <a:rPr b="0" lang="es-MX" sz="2000" spc="-1" strike="noStrike">
                <a:solidFill>
                  <a:srgbClr val="ffffff"/>
                </a:solidFill>
                <a:latin typeface="Arial"/>
              </a:rPr>
              <a:t> en dosis de 150 – 300mg/d demostró tener un efecto renoprotector independientemente de su efecto hipotensor en pacientes con DBT tipo II y microalbuminuria. </a:t>
            </a:r>
            <a:endParaRPr b="0" lang="en-US" sz="2000" spc="-1" strike="noStrike">
              <a:solidFill>
                <a:srgbClr val="ffffff"/>
              </a:solidFill>
              <a:latin typeface="Arial"/>
            </a:endParaRPr>
          </a:p>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OSARTÁN 50 – 100 mg/d demostró reducir un 28% el riesgo de progresar a ERT en comparación con el grupo placeb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Rectángulo"/>
          <p:cNvSpPr/>
          <p:nvPr/>
        </p:nvSpPr>
        <p:spPr>
          <a:xfrm>
            <a:off x="539640" y="765000"/>
            <a:ext cx="8280360" cy="436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000"/>
                </a:solidFill>
                <a:latin typeface="Verdana"/>
              </a:rPr>
              <a:t>Rastreo y Tratamiento de la Nefropatía </a:t>
            </a:r>
            <a:br>
              <a:rPr sz="3200"/>
            </a:b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ara reducir el riesgo o retrasar la progresión de la nefropatía,  optimizar el control de la glucemia. (A) </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Realizar una prueba anual para evaluar la excreción de albúmina en la orina en pacientes diabéticos tipo 1 con más de 5 años de enfermedad y a todos los pacientes diabéticos tipo 2 a partir del diagnóstico. (E) </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edir creatinina sérica por lo menos una vez por año en todos los adultos con diabetes, independientemente del grado de excreción urinaria de albúmina. La creatinina sérica se debe utilizar para estimar la TFG y el estadío de enfermedad renal crónica, si está presente. (E)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1 Rectángulo"/>
          <p:cNvSpPr/>
          <p:nvPr/>
        </p:nvSpPr>
        <p:spPr>
          <a:xfrm>
            <a:off x="539640" y="750960"/>
            <a:ext cx="8064720" cy="478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000"/>
                </a:solidFill>
                <a:latin typeface="Verdana"/>
              </a:rPr>
              <a:t>Rastreo y Tratamiento de la Nefropatía </a:t>
            </a:r>
            <a:br>
              <a:rPr sz="2800"/>
            </a:br>
            <a:endParaRPr b="0" lang="en-US" sz="2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 pacientes con diabetes tipo 1 , hipertensión y cualquier grado de albuminuria, los IECA han demostrado retrasar la progresión de la nefropatía. (A) </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 pacientes con diabetes tipo 2, hipertensión y microalbuminuria, los inhibidores de la ECA y los ARA II han demostrado retrasar la progresión hacia la macroalbuminuria. (A) </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 pacientes con diabetes tipo 2, hipertensión, macroalbuminuria e insuficiencia renal (creatinina sérica &gt; 1,5 mg / dl), los ARA II han demostrado retrasar la progresión de la nefropatía. (A)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66"/>
                </a:solidFill>
                <a:latin typeface="Franklin Gothic Book"/>
              </a:rPr>
              <a:t>PREVENCION Y TRATAMIENTO</a:t>
            </a:r>
            <a:r>
              <a:rPr b="0" lang="es-ES_tradnl" sz="4000" spc="-1" strike="noStrike">
                <a:solidFill>
                  <a:srgbClr val="ffffff"/>
                </a:solidFill>
                <a:latin typeface="Franklin Gothic Book"/>
              </a:rPr>
              <a:t> </a:t>
            </a:r>
            <a:endParaRPr b="0" lang="en-US" sz="4000" spc="-1" strike="noStrike">
              <a:solidFill>
                <a:srgbClr val="ffffff"/>
              </a:solidFill>
              <a:latin typeface="Franklin Gothic Book"/>
            </a:endParaRPr>
          </a:p>
        </p:txBody>
      </p:sp>
      <p:sp>
        <p:nvSpPr>
          <p:cNvPr id="319" name=""/>
          <p:cNvSpPr txBox="1"/>
          <p:nvPr/>
        </p:nvSpPr>
        <p:spPr>
          <a:xfrm>
            <a:off x="468360" y="1988640"/>
            <a:ext cx="8229600" cy="4165560"/>
          </a:xfrm>
          <a:prstGeom prst="rect">
            <a:avLst/>
          </a:prstGeom>
          <a:noFill/>
          <a:ln w="0">
            <a:noFill/>
          </a:ln>
        </p:spPr>
        <p:txBody>
          <a:bodyPr anchor="t">
            <a:normAutofit/>
          </a:bodyPr>
          <a:p>
            <a:pPr marL="609480" indent="-609480">
              <a:lnSpc>
                <a:spcPct val="90000"/>
              </a:lnSpc>
              <a:spcBef>
                <a:spcPts val="499"/>
              </a:spcBef>
              <a:buClr>
                <a:srgbClr val="ffffff"/>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DIDAS DIETETICAS:</a:t>
            </a:r>
            <a:endParaRPr b="0" lang="en-US" sz="2000" spc="-1" strike="noStrike">
              <a:solidFill>
                <a:srgbClr val="ffffff"/>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tricción de ingesta de proteínas.</a:t>
            </a:r>
            <a:endParaRPr b="0" lang="en-US" sz="2000" spc="-1" strike="noStrike">
              <a:solidFill>
                <a:srgbClr val="ffffff"/>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eta de restricción proteica retarda el progreso de nefropatia al evitar el aumento de la TFG que produce una dieta normal o hiperproteica.</a:t>
            </a:r>
            <a:endParaRPr b="0" lang="en-US" sz="2000" spc="-1" strike="noStrike">
              <a:solidFill>
                <a:srgbClr val="ffffff"/>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3716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gesta de proteínas (0.6 g/Kg/día) y fósforo en la dieta puede disminuir la pendiente de deterioro de la función renal en pacientes con DM tipo I y nefropatia fran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Franklin Gothic Book"/>
              </a:rPr>
              <a:t>INSUFICIENCIA RENAL CRONICA TERMINAL</a:t>
            </a:r>
            <a:endParaRPr b="0" lang="en-US" sz="3200" spc="-1" strike="noStrike">
              <a:solidFill>
                <a:srgbClr val="ffffff"/>
              </a:solidFill>
              <a:latin typeface="Franklin Gothic Book"/>
            </a:endParaRPr>
          </a:p>
        </p:txBody>
      </p:sp>
      <p:sp>
        <p:nvSpPr>
          <p:cNvPr id="321" name=""/>
          <p:cNvSpPr txBox="1"/>
          <p:nvPr/>
        </p:nvSpPr>
        <p:spPr>
          <a:xfrm>
            <a:off x="468360" y="1844640"/>
            <a:ext cx="8229600" cy="4525920"/>
          </a:xfrm>
          <a:prstGeom prst="rect">
            <a:avLst/>
          </a:prstGeom>
          <a:noFill/>
          <a:ln w="0">
            <a:noFill/>
          </a:ln>
        </p:spPr>
        <p:txBody>
          <a:bodyPr anchor="t">
            <a:normAutofit/>
          </a:bodyPr>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rapia de reemplazo:</a:t>
            </a:r>
            <a:endParaRPr b="0" lang="en-US" sz="2400" spc="-1" strike="noStrike">
              <a:solidFill>
                <a:srgbClr val="ffffff"/>
              </a:solidFill>
              <a:latin typeface="Arial"/>
            </a:endParaRPr>
          </a:p>
          <a:p>
            <a:pPr lvl="1" marL="7221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emodiálisis.</a:t>
            </a:r>
            <a:endParaRPr b="0" lang="en-US" sz="2000" spc="-1" strike="noStrike">
              <a:solidFill>
                <a:srgbClr val="ffffff"/>
              </a:solidFill>
              <a:latin typeface="Arial"/>
            </a:endParaRPr>
          </a:p>
          <a:p>
            <a:pPr lvl="1" marL="7221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álisis peritoneal.</a:t>
            </a:r>
            <a:endParaRPr b="0" lang="en-US" sz="2000" spc="-1" strike="noStrike">
              <a:solidFill>
                <a:srgbClr val="ffffff"/>
              </a:solidFill>
              <a:latin typeface="Arial"/>
            </a:endParaRPr>
          </a:p>
          <a:p>
            <a:pPr lvl="1" marL="7221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rasplante renal.</a:t>
            </a:r>
            <a:endParaRPr b="0" lang="en-US" sz="20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iabético urémico: Retinopatía, HTA, arteriopatía periférica en el 50%, IMA: 30%.</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icto manejo de glicemia, &lt;140 mg en ayuno y &lt;180 mg postprandial. </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eatinina entre 7 a 9 mg%: Diálisis.</a:t>
            </a: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lesiones diabéticas pueden reproducirse en riñón trasplantado.</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66"/>
                </a:solidFill>
                <a:latin typeface="Franklin Gothic Book"/>
              </a:rPr>
              <a:t>COMPLICACIONES</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orbilidad y mortalidad por enfermedad ateroesclerótica.</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yor riesgo de problemas cardiovasculares: Cerebrales y vasculares periférica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yor incidencia de enfermedad coronaria.</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lnutrición e infeccion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nor sobrev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1 Rectángulo"/>
          <p:cNvSpPr/>
          <p:nvPr/>
        </p:nvSpPr>
        <p:spPr>
          <a:xfrm>
            <a:off x="468360" y="1582560"/>
            <a:ext cx="8424720" cy="350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000"/>
                </a:solidFill>
                <a:latin typeface="Verdana"/>
              </a:rPr>
              <a:t>Rastreo y Tratamiento de la Nefropatía </a:t>
            </a:r>
            <a:br>
              <a:rPr sz="2800"/>
            </a:b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Verdana"/>
              </a:rPr>
              <a:t>Considerar la derivación a un médico con experiencia en el cuidado de la enfermedad renal cuando existe incertidumbre acerca de la etiología de la misma (sedimento urinario activo, la ausencia de retinopatía, rápida disminución de la tasa de filtración glomerular), las cuestiones de difícil manejo, o enfermedad renal avanzada. (B)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tretch/>
        </p:blipFill>
        <p:spPr>
          <a:xfrm>
            <a:off x="395280" y="0"/>
            <a:ext cx="8353440" cy="6594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277560"/>
            <a:ext cx="3995640" cy="1927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ff"/>
                </a:solidFill>
                <a:latin typeface="Franklin Gothic Book"/>
              </a:rPr>
              <a:t>  </a:t>
            </a:r>
            <a:r>
              <a:rPr b="0" lang="es-ES_tradnl" sz="4600" spc="-1" strike="noStrike">
                <a:solidFill>
                  <a:srgbClr val="ffffff"/>
                </a:solidFill>
                <a:latin typeface="Franklin Gothic Book"/>
              </a:rPr>
              <a:t>GRACIAS</a:t>
            </a:r>
            <a:r>
              <a:rPr b="0" lang="es-ES_tradnl" sz="4600" spc="-1" strike="noStrike">
                <a:solidFill>
                  <a:srgbClr val="000000"/>
                </a:solidFill>
                <a:latin typeface="Franklin Gothic Book"/>
              </a:rPr>
              <a:t>.</a:t>
            </a:r>
            <a:endParaRPr b="0" lang="en-US" sz="4600" spc="-1" strike="noStrike">
              <a:solidFill>
                <a:srgbClr val="ffffff"/>
              </a:solidFill>
              <a:latin typeface="Franklin Gothic Book"/>
            </a:endParaRPr>
          </a:p>
        </p:txBody>
      </p:sp>
      <p:pic>
        <p:nvPicPr>
          <p:cNvPr id="326" name="Picture 18" descr="fondoriñon"/>
          <p:cNvPicPr/>
          <p:nvPr/>
        </p:nvPicPr>
        <p:blipFill>
          <a:blip r:embed="rId1"/>
          <a:stretch/>
        </p:blipFill>
        <p:spPr>
          <a:xfrm>
            <a:off x="2556000" y="1989000"/>
            <a:ext cx="6146640" cy="417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971640" y="414360"/>
            <a:ext cx="7345440" cy="61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aa8a14"/>
                </a:solidFill>
                <a:latin typeface="Franklin Gothic Book"/>
              </a:rPr>
              <a:t>INCIDENCIA</a:t>
            </a:r>
            <a:endParaRPr b="0" lang="en-US" sz="4600" spc="-1" strike="noStrike">
              <a:solidFill>
                <a:srgbClr val="ffffff"/>
              </a:solidFill>
              <a:latin typeface="Franklin Gothic Book"/>
            </a:endParaRPr>
          </a:p>
        </p:txBody>
      </p:sp>
      <p:sp>
        <p:nvSpPr>
          <p:cNvPr id="262" name=""/>
          <p:cNvSpPr txBox="1"/>
          <p:nvPr/>
        </p:nvSpPr>
        <p:spPr>
          <a:xfrm>
            <a:off x="457200" y="1599840"/>
            <a:ext cx="8686800" cy="4530600"/>
          </a:xfrm>
          <a:prstGeom prst="rect">
            <a:avLst/>
          </a:prstGeom>
          <a:noFill/>
          <a:ln w="0">
            <a:noFill/>
          </a:ln>
        </p:spPr>
        <p:txBody>
          <a:bodyPr anchor="t">
            <a:normAutofit/>
          </a:bodyPr>
          <a:p>
            <a:pPr marL="419040" indent="-382680">
              <a:lnSpc>
                <a:spcPct val="90000"/>
              </a:lnSpc>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La incidencia de nefropatía difiere entre los 2 tipos principales de diabetes.</a:t>
            </a:r>
            <a:endParaRPr b="0" lang="en-US" sz="3000" spc="-1" strike="noStrike">
              <a:solidFill>
                <a:srgbClr val="ffffff"/>
              </a:solidFill>
              <a:latin typeface="Arial"/>
            </a:endParaRPr>
          </a:p>
          <a:p>
            <a:pPr marL="419040" indent="-382680">
              <a:lnSpc>
                <a:spcPct val="90000"/>
              </a:lnSpc>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Diabetes tipo 1: Probabilidad de 30 a 40% de desarrollar nefropatia después de 20 años. </a:t>
            </a:r>
            <a:endParaRPr b="0" lang="en-US" sz="3000" spc="-1" strike="noStrike">
              <a:solidFill>
                <a:srgbClr val="ffffff"/>
              </a:solidFill>
              <a:latin typeface="Arial"/>
            </a:endParaRPr>
          </a:p>
          <a:p>
            <a:pPr marL="419040" indent="-382680">
              <a:lnSpc>
                <a:spcPct val="90000"/>
              </a:lnSpc>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Diabéticos tipo 2: del 15 al 20 % desarrolla enfermedad renal clínica.</a:t>
            </a:r>
            <a:br>
              <a:rPr sz="3000"/>
            </a:br>
            <a:r>
              <a:rPr b="0" lang="es-MX"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5" descr="jul-ago-1996_Picture7"/>
          <p:cNvPicPr/>
          <p:nvPr/>
        </p:nvPicPr>
        <p:blipFill>
          <a:blip r:embed="rId1"/>
          <a:stretch/>
        </p:blipFill>
        <p:spPr>
          <a:xfrm>
            <a:off x="1692360" y="404640"/>
            <a:ext cx="5543640" cy="613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ffff66"/>
                </a:solidFill>
                <a:latin typeface="Franklin Gothic Book"/>
              </a:rPr>
              <a:t>ETIOLOGIA</a:t>
            </a:r>
            <a:endParaRPr b="0" lang="en-US" sz="4600" spc="-1" strike="noStrike">
              <a:solidFill>
                <a:srgbClr val="ffffff"/>
              </a:solidFill>
              <a:latin typeface="Franklin Gothic Book"/>
            </a:endParaRPr>
          </a:p>
        </p:txBody>
      </p:sp>
      <p:sp>
        <p:nvSpPr>
          <p:cNvPr id="265" name=""/>
          <p:cNvSpPr txBox="1"/>
          <p:nvPr/>
        </p:nvSpPr>
        <p:spPr>
          <a:xfrm>
            <a:off x="457200" y="1773360"/>
            <a:ext cx="8229600" cy="4357440"/>
          </a:xfrm>
          <a:prstGeom prst="rect">
            <a:avLst/>
          </a:prstGeom>
          <a:noFill/>
          <a:ln w="0">
            <a:noFill/>
          </a:ln>
        </p:spPr>
        <p:txBody>
          <a:bodyPr anchor="t">
            <a:normAutofit/>
          </a:bodyPr>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iperglicemia.</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ficiencia de insulina.</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cremento de glucagon y hormona de crecimiento.</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mento de los cuerpos cetonicos.</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sión arterial sistémica y presión intraglomerular.</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ceso de proteínas en la dieta.</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aciones en el sistema renina angiotensina.</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aciones en la producción de prostaglandinas.</a:t>
            </a: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c000"/>
                </a:solidFill>
                <a:latin typeface="Franklin Gothic Book"/>
              </a:rPr>
              <a:t>FACTORES PREDISPONENTES</a:t>
            </a:r>
            <a:endParaRPr b="0" lang="en-US" sz="4600" spc="-1" strike="noStrike">
              <a:solidFill>
                <a:srgbClr val="ffffff"/>
              </a:solidFill>
              <a:latin typeface="Franklin Gothic Book"/>
            </a:endParaRPr>
          </a:p>
        </p:txBody>
      </p:sp>
      <p:sp>
        <p:nvSpPr>
          <p:cNvPr id="267" name=""/>
          <p:cNvSpPr txBox="1"/>
          <p:nvPr/>
        </p:nvSpPr>
        <p:spPr>
          <a:xfrm>
            <a:off x="456840" y="1844280"/>
            <a:ext cx="7467480" cy="4281480"/>
          </a:xfrm>
          <a:prstGeom prst="rect">
            <a:avLst/>
          </a:prstGeom>
          <a:noFill/>
          <a:ln w="0">
            <a:noFill/>
          </a:ln>
        </p:spPr>
        <p:txBody>
          <a:bodyPr anchor="t">
            <a:normAutofit/>
          </a:bodyPr>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ecedentes familiares de Hipertensión arterial triplican el riesgo</a:t>
            </a:r>
            <a:endParaRPr b="0" lang="en-US" sz="2400" spc="-1" strike="noStrike">
              <a:solidFill>
                <a:srgbClr val="ffffff"/>
              </a:solidFill>
              <a:latin typeface="Arial"/>
            </a:endParaRPr>
          </a:p>
          <a:p>
            <a:pPr marL="419040" indent="-382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adores bioquimicos y genéticos: Bomba de sodio y polimorfismos como el alelo DD de la enzima convertidora de la angiotensina y el M235T del angiotensinógeno que predisponen al desarrollo de la nefropatía diabética</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6:14:30Z</dcterms:created>
  <dc:creator>ARIAS</dc:creator>
  <dc:description/>
  <dc:language>en-US</dc:language>
  <cp:lastModifiedBy>IRMA</cp:lastModifiedBy>
  <dcterms:modified xsi:type="dcterms:W3CDTF">2010-09-24T10:44:48Z</dcterms:modified>
  <cp:revision>79</cp:revision>
  <dc:subject/>
  <dc:title>NEFROPATIA DIABETICA</dc:title>
</cp:coreProperties>
</file>