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8AAA0-7911-4E1F-8EE8-1855F4E1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3C80-B4C8-493F-8B81-C38D79495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574D3-CACA-4F6A-A767-BD1FD8C2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8BFBE-E057-4E7F-9418-8B7AAC5B2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5A7A2-17A4-497D-8A23-62E4F7C80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4291E-C883-452B-BBA6-E6FDFA01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84048-2D16-4503-81E8-13AE4BC62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DDBB0-8D2C-412A-A884-3BE4A0510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D4E3F-96EB-4ADA-96A4-C6745BD7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F2A63-67AE-4D95-A1B9-B7A0B1B70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3396C-7A01-410D-B56C-91227A89F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3F91-B119-4548-AF02-4FBB1A8D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FBF07-B5C6-45C4-BA2D-D26B2D9FA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EE7B2-2050-4A01-A36D-7EAAF1CCB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11B2C-A606-4263-B2D7-4D8461FB5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FA06B-65EC-406D-8014-1448A85C3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0DE9E-E2A9-4EA9-A7B3-1029FFF86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D6814-51C6-4852-9F22-1927CC2B4E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F1CA8-1AA6-4DC7-BAA0-79291C2BA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B14E8-CEAB-4DE1-85E5-722E7C5D1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75961-96E9-47C4-A4FD-3FD8B7A71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2261D-A056-4B4B-998B-4BD311B8F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767C9-B367-46C8-B364-E6CE517A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A8919-95AF-46ED-B8ED-61BA8A6CF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DCE34-EBD6-4A84-BAE3-A74D2F15B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DF9DF-9527-4F5A-83AF-7AE469C17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A44E6-328A-4F96-A6EC-A7FE2C629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38F43-63E4-4A55-9894-D06E87425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93EEF-0E3C-4B53-A162-63A574526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6F82D-EE5B-45A8-BA43-CAF9BC873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09403-28F8-4083-90DE-C08C225780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9D5775-5D5B-4B46-BCE6-29C5D0687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A4DB6-311E-489B-9C18-1367A675D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B027-E348-4870-B4E5-FD6493FC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DAA32-B20E-4FE1-8D37-E7123147C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7A0E0-1FDE-49BA-A84F-11F05B0CD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E1E42-A937-4585-B628-24F2A0425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5CD34-B4FB-42E9-A281-B0C8A2985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A9C37-69D9-49F2-88DD-DCFB66DC9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3EBD8-B7EC-4CE3-817B-C87429169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A74DD-03AE-4B92-B694-FF2021119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72C68-DD0E-4FF1-B763-9674097E8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B1B2E-5B71-4523-9B75-0A65FC405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2431C-DBD5-4078-92B1-BABDA34E1A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94D0-6389-4C2F-8DA5-47645142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EFCFE-93D8-48B8-A837-B56988942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F45C0-2B0B-491F-9912-95524C847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870C6-6473-473C-8D40-F5CE1DC55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86E4B-56B2-4711-87C0-36F742062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535B1-E149-429B-B549-6BC720644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6A2DD-4F76-4223-9F43-B2AE72C34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D4C8E-9120-41CC-8C2F-E940C9C1A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1C12A-3B71-4BFC-BAAD-362230011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09397-78F5-415D-ACD7-4E0505AE9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B3673-F0D9-4AF6-BB9F-7BC43F827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0971-B7B4-4853-9818-AD951F29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D58B2D-DFB9-45D4-979D-2F4A3AF368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2AC796-F310-4076-8C25-D2D2FBA06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68C89-1783-4D24-8C89-CD09F3016E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E6E71-AA86-493C-81B6-FE5B53AD6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09410C-340A-4020-B219-066736710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B4F9F-517F-4D2C-B3EC-4B624FD6F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09B5BF-70F0-4DE6-BC78-CA5C435A7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B7A86-8F7B-4B00-A1E4-6A3FC72B3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C710F-6F26-4C93-8368-96170FD5E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E3934-6173-40A7-81A2-8BF65AB9A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705C-3DB5-4AC1-A84A-CB5D4ACB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4F463-D71D-4B46-932A-AE018AC7A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3EA34F-9FB3-4391-81A8-81C6AE5EE2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93BE72-3544-428E-AB77-D5C19201F8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1F4C-432D-4B2E-B94A-DF8A914E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D555-41C4-4580-865A-3123E4A30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5464-0264-4C8E-B0FB-28D168A0F455}"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C938-4087-4845-9046-AA29A23D9F94}" type="slidenum">
              <a:rPr b="0" lang="es-PE"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303D-D66F-4EEF-AA77-991D95985D9D}" type="slidenum">
              <a:rPr b="0" lang="es-PE"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EACC-CE49-481D-8567-744405D54EB7}"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8AD-EE3A-4D6E-8846-F8EFAD229359}"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0BB5-1FD6-4A92-A508-207C1423B683}"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549360" y="1925640"/>
            <a:ext cx="5365800" cy="1658880"/>
          </a:xfrm>
          <a:prstGeom prst="rect">
            <a:avLst/>
          </a:prstGeom>
          <a:ln w="0">
            <a:noFill/>
          </a:ln>
        </p:spPr>
      </p:pic>
      <p:sp>
        <p:nvSpPr>
          <p:cNvPr id="255" name="PlaceHolder 1"/>
          <p:cNvSpPr>
            <a:spLocks noGrp="1"/>
          </p:cNvSpPr>
          <p:nvPr>
            <p:ph type="subTitle"/>
          </p:nvPr>
        </p:nvSpPr>
        <p:spPr>
          <a:xfrm>
            <a:off x="1476360" y="4581000"/>
            <a:ext cx="6400800" cy="175284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RA. IRMA ARIAS.</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NGAI - USMP.</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FISIOPATOLOGIA DE LA NEFROPATIA DIABETICA.</a:t>
            </a:r>
            <a:endParaRPr b="0" lang="en-US" sz="3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METABOL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HEMODINAM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HISTOLOG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MICROALBUMINURIA.</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TEINURIA Y REDUCCION DE LA FUNCION REN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691920"/>
            <a:ext cx="8229600" cy="5619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1. ALTERACIONES METABOLICAS</a:t>
            </a:r>
            <a:endParaRPr b="0" lang="en-US" sz="2900" spc="-1" strike="noStrike">
              <a:solidFill>
                <a:srgbClr val="ffffff"/>
              </a:solidFill>
              <a:latin typeface="Franklin Gothic Book"/>
            </a:endParaRPr>
          </a:p>
        </p:txBody>
      </p:sp>
      <p:sp>
        <p:nvSpPr>
          <p:cNvPr id="271" name=""/>
          <p:cNvSpPr txBox="1"/>
          <p:nvPr/>
        </p:nvSpPr>
        <p:spPr>
          <a:xfrm>
            <a:off x="468360" y="1916280"/>
            <a:ext cx="8229600" cy="3877920"/>
          </a:xfrm>
          <a:prstGeom prst="rect">
            <a:avLst/>
          </a:prstGeom>
          <a:noFill/>
          <a:ln w="0">
            <a:noFill/>
          </a:ln>
        </p:spPr>
        <p:txBody>
          <a:bodyPr anchor="t">
            <a:normAutofit/>
          </a:bodyPr>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alta de insulina con las consecutivas alteraciones en el metabolismo de los carbohidratos, lípidos y proteína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hiperglicemia favorece la glucosilación de las proteínas estructurales, lleva a un engrosamiento de la membrana basal glomerular, pérdida de capacidad de selección por carga de moléculas filtradas y a un daño celular directo.</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umulación de polioles en las células renales conduce a alteraciones funcionales y estructurales. La disminución de mionositol en las células renales se acompaña de daño renal.</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umento en la sensibilidad a los factores de crecimiento: Hipertrofia de los glomérulos y progresión de daño</a:t>
            </a:r>
            <a:r>
              <a:rPr b="1" lang="es-ES_tradnl" sz="1800" spc="-1" strike="noStrike">
                <a:solidFill>
                  <a:srgbClr val="000000"/>
                </a:solidFill>
                <a:latin typeface="Arial"/>
              </a:rPr>
              <a:t> </a:t>
            </a:r>
            <a:r>
              <a:rPr b="1" lang="es-ES_tradnl" sz="1800" spc="-1" strike="noStrike">
                <a:solidFill>
                  <a:srgbClr val="ffffff"/>
                </a:solidFill>
                <a:latin typeface="Arial"/>
              </a:rPr>
              <a:t>re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60280"/>
            <a:ext cx="8229600" cy="8510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s-ES_tradnl" sz="2900" spc="-1" strike="noStrike">
                <a:solidFill>
                  <a:srgbClr val="ffff66"/>
                </a:solidFill>
                <a:latin typeface="Franklin Gothic Book"/>
              </a:rPr>
              <a:t>2. ALTERACIONES HEMODINAMICAS</a:t>
            </a:r>
            <a:endParaRPr b="0" lang="en-US" sz="2900" spc="-1" strike="noStrike">
              <a:solidFill>
                <a:srgbClr val="ffffff"/>
              </a:solidFill>
              <a:latin typeface="Franklin Gothic Book"/>
            </a:endParaRPr>
          </a:p>
        </p:txBody>
      </p:sp>
      <p:sp>
        <p:nvSpPr>
          <p:cNvPr id="273" name=""/>
          <p:cNvSpPr txBox="1"/>
          <p:nvPr/>
        </p:nvSpPr>
        <p:spPr>
          <a:xfrm>
            <a:off x="395280" y="1773000"/>
            <a:ext cx="8229600" cy="4236840"/>
          </a:xfrm>
          <a:prstGeom prst="rect">
            <a:avLst/>
          </a:prstGeom>
          <a:noFill/>
          <a:ln w="0">
            <a:noFill/>
          </a:ln>
        </p:spPr>
        <p:txBody>
          <a:bodyPr anchor="t">
            <a:normAutofit/>
          </a:bodyPr>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ase temprana: Elevación de la tasa de filtrado glomerular (TFG).</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canismos: Hiperglicemia, activación de mecanismo retroalimentación túbuloglomerular o incremento local de prostaglandinas vasodilatadora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sistema renina angiotensina y la respuesta al mismo estan alterado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arteriolas glomerulares eferentes presentan un mayor efecto tónico en respuesta a la acción presora de angiotensina II: Aumento de la presión del capilar glomerular.</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evación de glucagon, STH,y catecolaminas: Aumento de la TFG.</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Franklin Gothic Book"/>
              </a:rPr>
              <a:t>3. ALTERACIONES HISTOLOGICAS</a:t>
            </a:r>
            <a:endParaRPr b="0" lang="en-US" sz="32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grosamiento de la membrana basal glomerular y expansión del mesangio.</a:t>
            </a: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greso del daño renal: Expansión del mesangio disminuye el área disponible para la filtración , disminuye la luz de los capilares glomerulares y la consecuente disminución en el flujo sanguíneo renal.</a:t>
            </a: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cientes estudios: Lesiones funcionales y estructurales de los podocitos son muy precoces y preceden a las alteraciones del mesangio</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ialinización de las arteriolas aferentes y eferentes, engrosamiento de la membrana basal tubular, estrechamiento de las arteriolas de pequeño calibre y  cambios túbulo intersticiales: Fase AVANZADA de nefropatía diabética.</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620640"/>
            <a:ext cx="8229600" cy="7207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Franklin Gothic Book"/>
              </a:rPr>
              <a:t>4. MICROALBUMINURIA</a:t>
            </a:r>
            <a:endParaRPr b="0" lang="en-US" sz="2800" spc="-1" strike="noStrike">
              <a:solidFill>
                <a:srgbClr val="ffffff"/>
              </a:solidFill>
              <a:latin typeface="Franklin Gothic Book"/>
            </a:endParaRPr>
          </a:p>
        </p:txBody>
      </p:sp>
      <p:sp>
        <p:nvSpPr>
          <p:cNvPr id="277" name=""/>
          <p:cNvSpPr txBox="1"/>
          <p:nvPr/>
        </p:nvSpPr>
        <p:spPr>
          <a:xfrm>
            <a:off x="611280" y="2491920"/>
            <a:ext cx="8229600" cy="436572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evación de excreción urinaria de albúmina (EUA) sin proteinuria clínica evidente.</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predictor importante de aparición posterior de nefropatía diabétic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UA: 20 a 200 ug/m´ó 30 a 300 mg/24 horas. Examen en paciente en reposo, con DM compensada y orina sin bacte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620280"/>
            <a:ext cx="8229600" cy="7066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Franklin Gothic Book"/>
              </a:rPr>
              <a:t>4. MICROALBUMINURIA</a:t>
            </a:r>
            <a:endParaRPr b="0" lang="en-US" sz="2800" spc="-1" strike="noStrike">
              <a:solidFill>
                <a:srgbClr val="ffffff"/>
              </a:solidFill>
              <a:latin typeface="Franklin Gothic Book"/>
            </a:endParaRPr>
          </a:p>
        </p:txBody>
      </p:sp>
      <p:sp>
        <p:nvSpPr>
          <p:cNvPr id="279" name=""/>
          <p:cNvSpPr txBox="1"/>
          <p:nvPr/>
        </p:nvSpPr>
        <p:spPr>
          <a:xfrm>
            <a:off x="539640" y="1971360"/>
            <a:ext cx="8229600" cy="488628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iñón sano: Capilares glomerulares impiden paso de macromoléculas. En diabetes: Alteración y microalbuminuria. Al inicio: alteraciones hemodinámicas reversibles, estadío IV: Aumento en magnitud de proteinuri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tipo I: Microalbuminuria predice progresión a proteinuria e IRC en siguientes 10 a 15 años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II: Igual progresión , mayor mortalidad cardiovascular. HTA precede y predice el desarrollo de nefropat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764640"/>
            <a:ext cx="8229600" cy="638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5. PROTEINURIA Y REDUCCION DE LA FUNCION RENAL</a:t>
            </a:r>
            <a:endParaRPr b="0" lang="en-US" sz="2900" spc="-1" strike="noStrike">
              <a:solidFill>
                <a:srgbClr val="ffffff"/>
              </a:solidFill>
              <a:latin typeface="Franklin Gothic Book"/>
            </a:endParaRPr>
          </a:p>
        </p:txBody>
      </p:sp>
      <p:sp>
        <p:nvSpPr>
          <p:cNvPr id="281" name=""/>
          <p:cNvSpPr txBox="1"/>
          <p:nvPr/>
        </p:nvSpPr>
        <p:spPr>
          <a:xfrm>
            <a:off x="457200" y="2349360"/>
            <a:ext cx="8229600" cy="378144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persistente antecede a la fase desarrollada de nefropatía diabétic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ida la proteinuria, la función renal se reduce de modo inevitable.</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500mg a 20 g/ orina de 24 hora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icio de reducción de TFG cuando aparece proteinuria, la nefropatía  terminal se estable en 10 a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980640"/>
            <a:ext cx="8229600" cy="792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5. PROTEINURIA Y REDUCCION DE LA FUNCION RENAL</a:t>
            </a:r>
            <a:endParaRPr b="0" lang="en-US" sz="2900" spc="-1" strike="noStrike">
              <a:solidFill>
                <a:srgbClr val="ffffff"/>
              </a:solidFill>
              <a:latin typeface="Franklin Gothic Book"/>
            </a:endParaRPr>
          </a:p>
        </p:txBody>
      </p:sp>
      <p:sp>
        <p:nvSpPr>
          <p:cNvPr id="283" name=""/>
          <p:cNvSpPr txBox="1"/>
          <p:nvPr/>
        </p:nvSpPr>
        <p:spPr>
          <a:xfrm>
            <a:off x="457200" y="2491920"/>
            <a:ext cx="8229600" cy="363852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FG se afecta por: Vejiga neurogénica, infecciones urinarias, necrosis papilar.</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ducción función renal: Uremia, disminuye necesidad de insulina, hiporexi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Causa mas frecuente de acidosis tubular renal tipo IV, acidosis metabólica hiperclorémica, hiperpotasém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
          <p:cNvPicPr/>
          <p:nvPr/>
        </p:nvPicPr>
        <p:blipFill>
          <a:blip r:embed="rId1"/>
          <a:stretch/>
        </p:blipFill>
        <p:spPr>
          <a:xfrm>
            <a:off x="0" y="1125360"/>
            <a:ext cx="9144000" cy="460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62028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HISTORIA NATURAL DE LA NEFROPATIA DIABETICA</a:t>
            </a:r>
            <a:endParaRPr b="0" lang="en-US" sz="3200" spc="-1" strike="noStrike">
              <a:solidFill>
                <a:srgbClr val="ffffff"/>
              </a:solidFill>
              <a:latin typeface="Franklin Gothic Book"/>
            </a:endParaRPr>
          </a:p>
        </p:txBody>
      </p:sp>
      <p:sp>
        <p:nvSpPr>
          <p:cNvPr id="286" name=""/>
          <p:cNvSpPr txBox="1"/>
          <p:nvPr/>
        </p:nvSpPr>
        <p:spPr>
          <a:xfrm>
            <a:off x="468360" y="2332080"/>
            <a:ext cx="8229600" cy="4525920"/>
          </a:xfrm>
          <a:prstGeom prst="rect">
            <a:avLst/>
          </a:prstGeom>
          <a:noFill/>
          <a:ln w="0">
            <a:noFill/>
          </a:ln>
        </p:spPr>
        <p:txBody>
          <a:bodyPr anchor="t">
            <a:normAutofit/>
          </a:bodyPr>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io I: Hipertrofia e hiperfunción renal temprana con aumento del flujo plasmatico renal (FPR) y de la Tasa de filtracion glomerular (TFG).</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I: Enfermedad glomerular temprana sin enfermedad clínica.</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II: Nefropatía diabética incipiente.</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V: Nefropatía diabética franca.</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V: Insuficiencia renal crónica termi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INTRODUCCION</a:t>
            </a:r>
            <a:endParaRPr b="0" lang="en-US" sz="4600" spc="-1" strike="noStrike">
              <a:solidFill>
                <a:srgbClr val="ffffff"/>
              </a:solidFill>
              <a:latin typeface="Franklin Gothic Book"/>
            </a:endParaRPr>
          </a:p>
        </p:txBody>
      </p:sp>
      <p:sp>
        <p:nvSpPr>
          <p:cNvPr id="257" name=""/>
          <p:cNvSpPr txBox="1"/>
          <p:nvPr/>
        </p:nvSpPr>
        <p:spPr>
          <a:xfrm>
            <a:off x="539640" y="1844280"/>
            <a:ext cx="8229600" cy="4530600"/>
          </a:xfrm>
          <a:prstGeom prst="rect">
            <a:avLst/>
          </a:prstGeom>
          <a:noFill/>
          <a:ln w="0">
            <a:noFill/>
          </a:ln>
        </p:spPr>
        <p:txBody>
          <a:bodyPr anchor="t">
            <a:normAutofit/>
          </a:bodyPr>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tituye la primera causa mas frecuente de insuficiencia renal crónica terminal.</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tablecida la presencia de daño renal que se manifiesta por proteinuria, el curso clínico de esta complicación de la diabetes mellitus constituye un problema crónico y de salud pública de grandes propor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54900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ESTADIO I: HIPERTROFIA E HIPERFUNCION RENAL TEMPRANA CON AUMENTO DE FPR Y TFG</a:t>
            </a:r>
            <a:endParaRPr b="0" lang="en-US" sz="2900" spc="-1" strike="noStrike">
              <a:solidFill>
                <a:srgbClr val="ffffff"/>
              </a:solidFill>
              <a:latin typeface="Franklin Gothic Book"/>
            </a:endParaRPr>
          </a:p>
        </p:txBody>
      </p:sp>
      <p:sp>
        <p:nvSpPr>
          <p:cNvPr id="288" name=""/>
          <p:cNvSpPr txBox="1"/>
          <p:nvPr/>
        </p:nvSpPr>
        <p:spPr>
          <a:xfrm>
            <a:off x="395280" y="2708280"/>
            <a:ext cx="8229600" cy="4525920"/>
          </a:xfrm>
          <a:prstGeom prst="rect">
            <a:avLst/>
          </a:prstGeom>
          <a:noFill/>
          <a:ln w="0">
            <a:noFill/>
          </a:ln>
        </p:spPr>
        <p:txBody>
          <a:bodyPr anchor="t">
            <a:normAutofit/>
          </a:bodyPr>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iñones de mayor tamaño y aumento de la TFG.</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uede haber Microalbuminuria, corregida la hiperglicemia se corrigen estos cambios.</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alteraciones hemodinámicas más que estructur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ESTADIO II. ENFERMEDAD GLOMERULAR TEMPRANA SIN ENFERMEDAD CLÍNICA</a:t>
            </a:r>
            <a:endParaRPr b="0" lang="en-US" sz="32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minución de la TFG.</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onde al tratamiento con insulina y corrección de la hiperglicemia. Puede persistir aumento de la TFG en relación a persistencia de alteraciones metabólicas.</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istología: Expansión del mesangio glomerular, engrosamiento de la membrana basal de los capilares glomerulares.</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creción urinaria de albúmina normal, puede aumentar en el ejerci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III: NEFROPATIA DIABETICA INCIPIENTE</a:t>
            </a:r>
            <a:endParaRPr b="0" lang="en-US" sz="3600" spc="-1" strike="noStrike">
              <a:solidFill>
                <a:srgbClr val="ffffff"/>
              </a:solidFill>
              <a:latin typeface="Franklin Gothic Book"/>
            </a:endParaRPr>
          </a:p>
        </p:txBody>
      </p:sp>
      <p:sp>
        <p:nvSpPr>
          <p:cNvPr id="292" name=""/>
          <p:cNvSpPr txBox="1"/>
          <p:nvPr/>
        </p:nvSpPr>
        <p:spPr>
          <a:xfrm>
            <a:off x="468360" y="2332080"/>
            <a:ext cx="8229600" cy="4525920"/>
          </a:xfrm>
          <a:prstGeom prst="rect">
            <a:avLst/>
          </a:prstGeom>
          <a:noFill/>
          <a:ln w="0">
            <a:noFill/>
          </a:ln>
        </p:spPr>
        <p:txBody>
          <a:bodyPr anchor="t">
            <a:normAutofit/>
          </a:bodyPr>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5 a 15 años, el 40% de pacientes con DM I.</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icroalbuminuria de 30 a 300 mg/orina de 24 horas.</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cifra de PA en límites normales, mas altas que en pacientes sin microalbuminur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IV: NEFROPATIA DIABETICA FRANCA</a:t>
            </a:r>
            <a:endParaRPr b="0" lang="en-US" sz="3600" spc="-1" strike="noStrike">
              <a:solidFill>
                <a:srgbClr val="ffffff"/>
              </a:solidFill>
              <a:latin typeface="Franklin Gothic Book"/>
            </a:endParaRPr>
          </a:p>
        </p:txBody>
      </p:sp>
      <p:sp>
        <p:nvSpPr>
          <p:cNvPr id="294" name=""/>
          <p:cNvSpPr txBox="1"/>
          <p:nvPr/>
        </p:nvSpPr>
        <p:spPr>
          <a:xfrm>
            <a:off x="468360" y="1989000"/>
            <a:ext cx="8229600" cy="453096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detectable por métodos convencional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30 a 40 % de DM tipo I  llegan a esta etap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recuente sindrome nefrótico, la TFG disminuye aprox. 1 ml/minuto/ por m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arición de HTA, presencia y magnitud se correlaciona con pérdida progresiva de la función renal.</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V: INSUFICIENCIA RENAL CRONICA TERMINAL</a:t>
            </a:r>
            <a:endParaRPr b="0" lang="en-US" sz="3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Sindrome nefrótico.</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Sindrome urémico.</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n el 40% de pacientes con DM tipo I, de 20 a 25 años del inicio de la enfermed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HISTORIA NATURAL DE LA NEFROPATIA DIABETICA</a:t>
            </a:r>
            <a:endParaRPr b="0" lang="en-US" sz="3200" spc="-1" strike="noStrike">
              <a:solidFill>
                <a:srgbClr val="ffffff"/>
              </a:solidFill>
              <a:latin typeface="Franklin Gothic Book"/>
            </a:endParaRPr>
          </a:p>
        </p:txBody>
      </p:sp>
      <p:graphicFrame>
        <p:nvGraphicFramePr>
          <p:cNvPr id="298" name="Object 4"/>
          <p:cNvGraphicFramePr/>
          <p:nvPr/>
        </p:nvGraphicFramePr>
        <p:xfrm>
          <a:off x="828720" y="1700280"/>
          <a:ext cx="7704000" cy="4149720"/>
        </p:xfrm>
        <a:graphic>
          <a:graphicData uri="http://schemas.openxmlformats.org/presentationml/2006/ole">
            <p:oleObj r:id="rId1" spid="">
              <p:embed/>
              <p:pic>
                <p:nvPicPr>
                  <p:cNvPr id="299" name="Object 4" descr=""/>
                  <p:cNvPicPr/>
                  <p:nvPr/>
                </p:nvPicPr>
                <p:blipFill>
                  <a:blip r:embed="rId2"/>
                  <a:stretch/>
                </p:blipFill>
                <p:spPr>
                  <a:xfrm>
                    <a:off x="828720" y="1700280"/>
                    <a:ext cx="7704000" cy="41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FACTORES DE RIESGO PARA EL DESARROLLO Y PROGRESION DE LA NEFROPATIA DIABETICA</a:t>
            </a:r>
            <a:endParaRPr b="0" lang="en-US" sz="29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Hiperglicemia.</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Hipertensión arterial.</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ta alta en proteina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Factores genético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Factores raciale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Tabaquismo, hiperlipid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DIAGNOSTICO</a:t>
            </a:r>
            <a:endParaRPr b="0" lang="en-US" sz="46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la enfermedad está establecida, el diagnóstico de nefropatía diabética es fácil.</a:t>
            </a: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MPORTANTE: </a:t>
            </a:r>
            <a:r>
              <a:rPr b="0" lang="es-ES_tradnl" sz="2800" spc="-1" strike="noStrike" u="sng">
                <a:solidFill>
                  <a:srgbClr val="ffffff"/>
                </a:solidFill>
                <a:uFillTx/>
                <a:latin typeface="Arial"/>
              </a:rPr>
              <a:t>Buscar evidencia en fases TEMPRANAS</a:t>
            </a:r>
            <a:r>
              <a:rPr b="0" lang="es-ES_tradnl" sz="2800" spc="-1" strike="noStrike">
                <a:solidFill>
                  <a:srgbClr val="ffffff"/>
                </a:solidFill>
                <a:latin typeface="Arial"/>
              </a:rPr>
              <a:t> para establecer medidas terapéuticas que eviten o retarden el deterioro de la función re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7761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MEDICION DE MICROALBUMINURIA</a:t>
            </a:r>
            <a:endParaRPr b="0" lang="en-US" sz="32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DM tipo I de mas de 5 años de evolución: Control anual.</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M tipo II: en el momento de diagnóstico y cada año.</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cartar causas de microalbuminuria transitoria: Hiperglicemia, ITU, estado febril, HTA esencial, ICC, sobrecarga de agua.</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tá elevada, repetir 3 – 6 meses: Microalbuminuria persistente.</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creción normal de albúmina: &lt;30 mg/orina de 24 horas. Microalbuminuria: 30 a 300 mg/orina de 24 horas. Proteinuria: &gt; 300 mg/orina de 24 ho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ff66"/>
                </a:solidFill>
                <a:latin typeface="Franklin Gothic Book"/>
              </a:rPr>
              <a:t>PREVENCION Y TRATAMIENTO</a:t>
            </a:r>
            <a:r>
              <a:rPr b="0" lang="es-ES_tradnl" sz="3600" spc="-1" strike="noStrike">
                <a:solidFill>
                  <a:srgbClr val="ffffff"/>
                </a:solidFill>
                <a:latin typeface="Franklin Gothic Book"/>
              </a:rPr>
              <a:t> </a:t>
            </a:r>
            <a:endParaRPr b="0" lang="en-US" sz="3600" spc="-1" strike="noStrike">
              <a:solidFill>
                <a:srgbClr val="ffffff"/>
              </a:solidFill>
              <a:latin typeface="Franklin Gothic Book"/>
            </a:endParaRPr>
          </a:p>
        </p:txBody>
      </p:sp>
      <p:sp>
        <p:nvSpPr>
          <p:cNvPr id="307" name=""/>
          <p:cNvSpPr txBox="1"/>
          <p:nvPr/>
        </p:nvSpPr>
        <p:spPr>
          <a:xfrm>
            <a:off x="457200" y="2133360"/>
            <a:ext cx="8229600" cy="3997080"/>
          </a:xfrm>
          <a:prstGeom prst="rect">
            <a:avLst/>
          </a:prstGeom>
          <a:noFill/>
          <a:ln w="0">
            <a:noFill/>
          </a:ln>
        </p:spPr>
        <p:txBody>
          <a:bodyPr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os primeros años de DM identificar los factores de riesgo para establecer medidas preventivas</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IPERGLICEMIA: Estudios sugieren que el estricto control de glicemia retrasa el deterioro de la función renal.</a:t>
            </a:r>
            <a:endParaRPr b="0" lang="en-US" sz="2000" spc="-1" strike="noStrike">
              <a:solidFill>
                <a:srgbClr val="ffffff"/>
              </a:solidFill>
              <a:latin typeface="Arial"/>
            </a:endParaRPr>
          </a:p>
          <a:p>
            <a:pPr marL="609480" indent="-6094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año renal avanzado el control de la glicemia no modifica la progresión del daño renal</a:t>
            </a:r>
            <a:r>
              <a:rPr b="0" lang="es-ES_tradnl"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Rectángulo"/>
          <p:cNvSpPr/>
          <p:nvPr/>
        </p:nvSpPr>
        <p:spPr>
          <a:xfrm>
            <a:off x="468360" y="750960"/>
            <a:ext cx="7488360" cy="506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Criterios Actuales para el diagnóstico de Diabetes</a:t>
            </a:r>
            <a:r>
              <a:rPr b="0" lang="es-ES" sz="1800" spc="-1" strike="noStrike">
                <a:solidFill>
                  <a:srgbClr val="ffc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Hb glicosilada &gt;= a 6,5% (en laboratorios con métodos estandarizados)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Glucosa en ayunas mayor o igual a 126 mg/dl (Ayuno de por lo menos 8 horas)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Glucosa en plasma a las 2 horas mayor o igual a 200 mg/dl durante una prueba de tolerancia oral a la glucosa (Según la técnica descrita por la OMS, por medio de una carga de glucosa anhidra de 75 gr. disuelta en agua.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n un paciente con síntomas clásicos de hiperglucemia o crisis hiperglucémica: glucemia mayor o igual a 200 mg/dl.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r>
              <a:rPr b="0" lang="es-ES_tradnl"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309" name=""/>
          <p:cNvSpPr txBox="1"/>
          <p:nvPr/>
        </p:nvSpPr>
        <p:spPr>
          <a:xfrm>
            <a:off x="468360" y="1628640"/>
            <a:ext cx="8229600" cy="4525920"/>
          </a:xfrm>
          <a:prstGeom prst="rect">
            <a:avLst/>
          </a:prstGeom>
          <a:noFill/>
          <a:ln w="0">
            <a:noFill/>
          </a:ln>
        </p:spPr>
        <p:txBody>
          <a:bodyPr anchor="t">
            <a:normAutofit/>
          </a:bodyPr>
          <a:p>
            <a:pPr marL="609480" indent="-609480">
              <a:lnSpc>
                <a:spcPct val="80000"/>
              </a:lnSpc>
              <a:spcBef>
                <a:spcPts val="726"/>
              </a:spcBef>
              <a:buClr>
                <a:srgbClr val="ffffff"/>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ff"/>
                </a:solidFill>
                <a:latin typeface="Arial"/>
              </a:rPr>
              <a:t>HIPERTENSION ARTERIAL:</a:t>
            </a:r>
            <a:endParaRPr b="0" lang="en-US" sz="2900" spc="-1" strike="noStrike">
              <a:solidFill>
                <a:srgbClr val="ffffff"/>
              </a:solidFill>
              <a:latin typeface="Arial"/>
            </a:endParaRPr>
          </a:p>
          <a:p>
            <a:pPr marL="609480" indent="-6094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tener la PA &lt; 135/85 mmHg. La reducción de la PA retrasa la progresión del deterioro renal.</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ECA pueden reducir la microalbuminuria e incluso aumentar la TFG.</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iuréticos y betabloqueadores pueden reducir la microalbuminuria en casos incipientes y retardar el deterioro renal.</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lcioantagonistas de II generación podrían tener una acción similar</a:t>
            </a:r>
            <a:r>
              <a:rPr b="1" lang="es-ES_tradnl" sz="2400" spc="-1" strike="noStrike">
                <a:solidFill>
                  <a:srgbClr val="ffffff"/>
                </a:solidFill>
                <a:latin typeface="Arial"/>
              </a:rPr>
              <a:t>.</a:t>
            </a:r>
            <a:r>
              <a:rPr b="1" lang="es-ES_tradnl"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endParaRPr b="0" lang="en-US" sz="4000" spc="-1" strike="noStrike">
              <a:solidFill>
                <a:srgbClr val="ffffff"/>
              </a:solidFill>
              <a:latin typeface="Franklin Gothic Book"/>
            </a:endParaRPr>
          </a:p>
        </p:txBody>
      </p:sp>
      <p:sp>
        <p:nvSpPr>
          <p:cNvPr id="31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rPr>
              <a:t>IECA:</a:t>
            </a:r>
            <a:r>
              <a:rPr b="0" lang="es-MX" sz="2400" spc="-1" strike="noStrike">
                <a:solidFill>
                  <a:srgbClr val="ffffff"/>
                </a:solidFill>
                <a:latin typeface="Arial"/>
              </a:rPr>
              <a:t> reducen la progresión de la nefropatía por sus efectos renoprotectores y antiproteinúricos y también están indicados en pacientes normotensos con enfermedad renal incipiente.</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estudio  HOPE (Heart Outcomes Prevention Evaluation) mostró que a niveles tensionales similares, los IECA disminuyeron en un 24% la tasa de progresión de la nefropatía frente al placebo en pacientes con DBT tipo I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endParaRPr b="0" lang="en-US" sz="4000" spc="-1" strike="noStrike">
              <a:solidFill>
                <a:srgbClr val="ffffff"/>
              </a:solidFill>
              <a:latin typeface="Franklin Gothic Book"/>
            </a:endParaRPr>
          </a:p>
        </p:txBody>
      </p:sp>
      <p:sp>
        <p:nvSpPr>
          <p:cNvPr id="313" name=""/>
          <p:cNvSpPr txBox="1"/>
          <p:nvPr/>
        </p:nvSpPr>
        <p:spPr>
          <a:xfrm>
            <a:off x="457200" y="1915920"/>
            <a:ext cx="8229600" cy="42145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loqueantes de los canales de Ca++:</a:t>
            </a:r>
            <a:r>
              <a:rPr b="0" lang="es-MX" sz="2400" spc="-1" strike="noStrike">
                <a:solidFill>
                  <a:srgbClr val="ffffff"/>
                </a:solidFill>
                <a:latin typeface="Arial"/>
              </a:rPr>
              <a:t> (diltiazem y verapamilo) estos fármacos constituyen una opción valedera por sus parecidos efectos antiproteinúricos y renoprotectores.</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ocurre lo mismo con los del grupo de las dihidropiridinas (nifedipino – amlodipino) y que estas empeorarían la proteinuria y acelerarían la progresión de la enfermedad en pacientes con nefroparía diabética o sin ell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ff66"/>
                </a:solidFill>
                <a:latin typeface="Franklin Gothic Book"/>
              </a:rPr>
              <a:t>PREVENCION Y TRATAMIENTO</a:t>
            </a:r>
            <a:endParaRPr b="0" lang="en-US" sz="3600" spc="-1" strike="noStrike">
              <a:solidFill>
                <a:srgbClr val="ffffff"/>
              </a:solidFill>
              <a:latin typeface="Franklin Gothic Book"/>
            </a:endParaRPr>
          </a:p>
        </p:txBody>
      </p:sp>
      <p:sp>
        <p:nvSpPr>
          <p:cNvPr id="315" name=""/>
          <p:cNvSpPr txBox="1"/>
          <p:nvPr/>
        </p:nvSpPr>
        <p:spPr>
          <a:xfrm>
            <a:off x="457200" y="1988640"/>
            <a:ext cx="8229600" cy="4141800"/>
          </a:xfrm>
          <a:prstGeom prst="rect">
            <a:avLst/>
          </a:prstGeom>
          <a:noFill/>
          <a:ln w="0">
            <a:noFill/>
          </a:ln>
        </p:spPr>
        <p:txBody>
          <a:bodyPr anchor="t">
            <a:normAutofit/>
          </a:bodyPr>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tagonistas de los Receptores de Angiotensina II</a:t>
            </a:r>
            <a:r>
              <a:rPr b="0" lang="es-MX" sz="2000" spc="-1" strike="noStrike">
                <a:solidFill>
                  <a:srgbClr val="ffffff"/>
                </a:solidFill>
                <a:latin typeface="Arial"/>
              </a:rPr>
              <a:t>: varios son los estudios que apoyan el uso de estos fármacos.</a:t>
            </a: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lang="es-MX" sz="2000" spc="-1" strike="noStrike">
                <a:solidFill>
                  <a:srgbClr val="ffffff"/>
                </a:solidFill>
                <a:latin typeface="Arial"/>
              </a:rPr>
              <a:t>IRBESARTAN</a:t>
            </a:r>
            <a:r>
              <a:rPr b="0" lang="es-MX" sz="2000" spc="-1" strike="noStrike">
                <a:solidFill>
                  <a:srgbClr val="ffffff"/>
                </a:solidFill>
                <a:latin typeface="Arial"/>
              </a:rPr>
              <a:t> en dosis de 150 – 300mg/d demostró tener un efecto renoprotector independientemente de su efecto hipotensor en pacientes con DBT tipo II y microalbuminuria. </a:t>
            </a: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ARTÁN 50 – 100 mg/d demostró reducir un 28% el riesgo de progresar a ERT en comparación con el grupo placeb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Rectángulo"/>
          <p:cNvSpPr/>
          <p:nvPr/>
        </p:nvSpPr>
        <p:spPr>
          <a:xfrm>
            <a:off x="539640" y="765000"/>
            <a:ext cx="828036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000"/>
                </a:solidFill>
                <a:latin typeface="Verdana"/>
              </a:rPr>
              <a:t>Rastreo y Tratamiento de la Nefropatía </a:t>
            </a:r>
            <a:br>
              <a:rPr sz="3200"/>
            </a:b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ara reducir el riesgo o retrasar la progresión de la nefropatía,  optimizar el control de la glucemi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Realizar una prueba anual para evaluar la excreción de albúmina en la orina en pacientes diabéticos tipo 1 con más de 5 años de enfermedad y a todos los pacientes diabéticos tipo 2 a partir del diagnóstico. (E)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edir creatinina sérica por lo menos una vez por año en todos los adultos con diabetes, independientemente del grado de excreción urinaria de albúmina. La creatinina sérica se debe utilizar para estimar la TFG y el estadío de enfermedad renal crónica, si está presente. (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1 Rectángulo"/>
          <p:cNvSpPr/>
          <p:nvPr/>
        </p:nvSpPr>
        <p:spPr>
          <a:xfrm>
            <a:off x="539640" y="750960"/>
            <a:ext cx="8064720" cy="47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Rastreo y Tratamiento de la Nefropatía </a:t>
            </a:r>
            <a:br>
              <a:rPr sz="2800"/>
            </a:br>
            <a:endParaRPr b="0" lang="en-US" sz="2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1 , hipertensión y cualquier grado de albuminuria, los IECA han demostrado retrasar la progresión de la nefropatí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2, hipertensión y microalbuminuria, los inhibidores de la ECA y los ARA II han demostrado retrasar la progresión hacia la macroalbuminuri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2, hipertensión, macroalbuminuria e insuficiencia renal (creatinina sérica &gt; 1,5 mg / dl), los ARA II han demostrado retrasar la progresión de la nefropatía. (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r>
              <a:rPr b="0" lang="es-ES_tradnl"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319" name=""/>
          <p:cNvSpPr txBox="1"/>
          <p:nvPr/>
        </p:nvSpPr>
        <p:spPr>
          <a:xfrm>
            <a:off x="468360" y="1988640"/>
            <a:ext cx="8229600" cy="416556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DIDAS DIETETICAS:</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tricción de ingesta de proteínas.</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eta de restricción proteica retarda el progreso de nefropatia al evitar el aumento de la TFG que produce una dieta normal o hiperproteica.</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3716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gesta de proteínas (0.6 g/Kg/día) y fósforo en la dieta puede disminuir la pendiente de deterioro de la función renal en pacientes con DM tipo I y nefropatia fran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INSUFICIENCIA RENAL CRONICA TERMINAL</a:t>
            </a:r>
            <a:endParaRPr b="0" lang="en-US" sz="3200" spc="-1" strike="noStrike">
              <a:solidFill>
                <a:srgbClr val="ffffff"/>
              </a:solidFill>
              <a:latin typeface="Franklin Gothic Book"/>
            </a:endParaRPr>
          </a:p>
        </p:txBody>
      </p:sp>
      <p:sp>
        <p:nvSpPr>
          <p:cNvPr id="321" name=""/>
          <p:cNvSpPr txBox="1"/>
          <p:nvPr/>
        </p:nvSpPr>
        <p:spPr>
          <a:xfrm>
            <a:off x="468360" y="1844640"/>
            <a:ext cx="8229600" cy="45259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rapia de reemplazo:</a:t>
            </a:r>
            <a:endParaRPr b="0" lang="en-US" sz="24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emodiálisis.</a:t>
            </a:r>
            <a:endParaRPr b="0" lang="en-US" sz="20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álisis peritoneal.</a:t>
            </a:r>
            <a:endParaRPr b="0" lang="en-US" sz="20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rasplante renal.</a:t>
            </a:r>
            <a:endParaRPr b="0" lang="en-US" sz="20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iabético urémico: Retinopatía, HTA, arteriopatía periférica en el 50%, IMA: 30%.</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icto manejo de glicemia, &lt;140 mg en ayuno y &lt;180 mg postprandial. </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eatinina entre 7 a 9 mg%: Diálisis.</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lesiones diabéticas pueden reproducirse en riñón trasplantado.</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COMPLICACIONES</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orbilidad y mortalidad por enfermedad ateroesclerótic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yor riesgo de problemas cardiovasculares: Cerebrales y vasculares periférica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yor incidencia de enfermedad coronari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lnutrición e infeccion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nor sobrev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1 Rectángulo"/>
          <p:cNvSpPr/>
          <p:nvPr/>
        </p:nvSpPr>
        <p:spPr>
          <a:xfrm>
            <a:off x="468360" y="1582560"/>
            <a:ext cx="842472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Rastreo y Tratamiento de la Nefropatía </a:t>
            </a:r>
            <a:br>
              <a:rPr sz="2800"/>
            </a:b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Verdana"/>
              </a:rPr>
              <a:t>Considerar la derivación a un médico con experiencia en el cuidado de la enfermedad renal cuando existe incertidumbre acerca de la etiología de la misma (sedimento urinario activo, la ausencia de retinopatía, rápida disminución de la tasa de filtración glomerular), las cuestiones de difícil manejo, o enfermedad renal avanzada. (B)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tretch/>
        </p:blipFill>
        <p:spPr>
          <a:xfrm>
            <a:off x="395280" y="0"/>
            <a:ext cx="8353440" cy="659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277560"/>
            <a:ext cx="3995640" cy="1927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ff"/>
                </a:solidFill>
                <a:latin typeface="Franklin Gothic Book"/>
              </a:rPr>
              <a:t>  </a:t>
            </a:r>
            <a:r>
              <a:rPr b="0" lang="es-ES_tradnl" sz="4600" spc="-1" strike="noStrike">
                <a:solidFill>
                  <a:srgbClr val="ffffff"/>
                </a:solidFill>
                <a:latin typeface="Franklin Gothic Book"/>
              </a:rPr>
              <a:t>GRACIAS</a:t>
            </a:r>
            <a:r>
              <a:rPr b="0" lang="es-ES_tradnl" sz="4600" spc="-1" strike="noStrike">
                <a:solidFill>
                  <a:srgbClr val="000000"/>
                </a:solidFill>
                <a:latin typeface="Franklin Gothic Book"/>
              </a:rPr>
              <a:t>.</a:t>
            </a:r>
            <a:endParaRPr b="0" lang="en-US" sz="4600" spc="-1" strike="noStrike">
              <a:solidFill>
                <a:srgbClr val="ffffff"/>
              </a:solidFill>
              <a:latin typeface="Franklin Gothic Book"/>
            </a:endParaRPr>
          </a:p>
        </p:txBody>
      </p:sp>
      <p:pic>
        <p:nvPicPr>
          <p:cNvPr id="326" name="Picture 18" descr="fondoriñon"/>
          <p:cNvPicPr/>
          <p:nvPr/>
        </p:nvPicPr>
        <p:blipFill>
          <a:blip r:embed="rId1"/>
          <a:stretch/>
        </p:blipFill>
        <p:spPr>
          <a:xfrm>
            <a:off x="2556000" y="1989000"/>
            <a:ext cx="6146640" cy="417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971640" y="414360"/>
            <a:ext cx="7345440" cy="61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aa8a14"/>
                </a:solidFill>
                <a:latin typeface="Franklin Gothic Book"/>
              </a:rPr>
              <a:t>INCIDENCIA</a:t>
            </a:r>
            <a:endParaRPr b="0" lang="en-US" sz="4600" spc="-1" strike="noStrike">
              <a:solidFill>
                <a:srgbClr val="ffffff"/>
              </a:solidFill>
              <a:latin typeface="Franklin Gothic Book"/>
            </a:endParaRPr>
          </a:p>
        </p:txBody>
      </p:sp>
      <p:sp>
        <p:nvSpPr>
          <p:cNvPr id="262" name=""/>
          <p:cNvSpPr txBox="1"/>
          <p:nvPr/>
        </p:nvSpPr>
        <p:spPr>
          <a:xfrm>
            <a:off x="457200" y="1599840"/>
            <a:ext cx="8686800" cy="4530600"/>
          </a:xfrm>
          <a:prstGeom prst="rect">
            <a:avLst/>
          </a:prstGeom>
          <a:noFill/>
          <a:ln w="0">
            <a:noFill/>
          </a:ln>
        </p:spPr>
        <p:txBody>
          <a:bodyPr anchor="t">
            <a:normAutofit/>
          </a:bodyPr>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La incidencia de nefropatía difiere entre los 2 tipos principales de diabetes.</a:t>
            </a: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Diabetes tipo 1: Probabilidad de 30 a 40% de desarrollar nefropatia después de 20 años. </a:t>
            </a: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Diabéticos tipo 2: del 15 al 20 % desarrolla enfermedad renal clínica.</a:t>
            </a:r>
            <a:br>
              <a:rPr sz="3000"/>
            </a:br>
            <a:r>
              <a:rPr b="0" lang="es-MX"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jul-ago-1996_Picture7"/>
          <p:cNvPicPr/>
          <p:nvPr/>
        </p:nvPicPr>
        <p:blipFill>
          <a:blip r:embed="rId1"/>
          <a:stretch/>
        </p:blipFill>
        <p:spPr>
          <a:xfrm>
            <a:off x="1692360" y="404640"/>
            <a:ext cx="5543640" cy="613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ETIOLOGIA</a:t>
            </a:r>
            <a:endParaRPr b="0" lang="en-US" sz="4600" spc="-1" strike="noStrike">
              <a:solidFill>
                <a:srgbClr val="ffffff"/>
              </a:solidFill>
              <a:latin typeface="Franklin Gothic Book"/>
            </a:endParaRPr>
          </a:p>
        </p:txBody>
      </p:sp>
      <p:sp>
        <p:nvSpPr>
          <p:cNvPr id="265" name=""/>
          <p:cNvSpPr txBox="1"/>
          <p:nvPr/>
        </p:nvSpPr>
        <p:spPr>
          <a:xfrm>
            <a:off x="457200" y="1773360"/>
            <a:ext cx="8229600" cy="435744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iperglicemi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ficiencia de insulin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remento de glucagon y hormona de crecimiento.</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mento de los cuerpos cetonicos.</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ión arterial sistémica y presión intraglomerular.</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ceso de proteínas en la diet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aciones en el sistema renina angiotensin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aciones en la producción de prostaglandinas.</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c000"/>
                </a:solidFill>
                <a:latin typeface="Franklin Gothic Book"/>
              </a:rPr>
              <a:t>FACTORES PREDISPONENTES</a:t>
            </a:r>
            <a:endParaRPr b="0" lang="en-US" sz="4600" spc="-1" strike="noStrike">
              <a:solidFill>
                <a:srgbClr val="ffffff"/>
              </a:solidFill>
              <a:latin typeface="Franklin Gothic Book"/>
            </a:endParaRPr>
          </a:p>
        </p:txBody>
      </p:sp>
      <p:sp>
        <p:nvSpPr>
          <p:cNvPr id="267" name=""/>
          <p:cNvSpPr txBox="1"/>
          <p:nvPr/>
        </p:nvSpPr>
        <p:spPr>
          <a:xfrm>
            <a:off x="456840" y="1844280"/>
            <a:ext cx="7467480" cy="4281480"/>
          </a:xfrm>
          <a:prstGeom prst="rect">
            <a:avLst/>
          </a:prstGeom>
          <a:noFill/>
          <a:ln w="0">
            <a:noFill/>
          </a:ln>
        </p:spPr>
        <p:txBody>
          <a:bodyPr anchor="t">
            <a:normAutofit/>
          </a:bodyPr>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ecedentes familiares de Hipertensión arterial triplican el riesgo</a:t>
            </a: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adores bioquimicos y genéticos: Bomba de sodio y polimorfismos como el alelo DD de la enzima convertidora de la angiotensina y el M235T del angiotensinógeno que predisponen al desarrollo de la nefropatía diabética</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6:14:30Z</dcterms:created>
  <dc:creator>ARIAS</dc:creator>
  <dc:description/>
  <dc:language>en-US</dc:language>
  <cp:lastModifiedBy>IRMA</cp:lastModifiedBy>
  <dcterms:modified xsi:type="dcterms:W3CDTF">2010-09-24T10:44:48Z</dcterms:modified>
  <cp:revision>79</cp:revision>
  <dc:subject/>
  <dc:title>NEFROPATIA DIABETICA</dc:title>
</cp:coreProperties>
</file>