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Krishna%20%20-%20Instruimen.wav" ContentType="audio/x-wav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1F1CA-D945-498D-8060-3BE5CD5716E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8FE87-0787-4695-8EC4-7ECA6CBA183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4812D-1265-47C3-922F-CEF0CEB6175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26FD5-E7A3-496B-9F55-D48EA88856A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D509D-DA5F-4A28-AA03-B41843AABAE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1CBEE-E769-4400-BA6B-CDDE77BC227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63D01-605A-4CE1-B7DD-8F50E6F59BC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A5B0E-E0C7-4ABB-AEC8-E4DEFAB3C75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B0306-178C-4B9E-B318-354CA4F5F70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3592B-12A3-4D55-9939-A56CBB2AA5A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AFC0E-5679-40C2-B2DE-22B8AC78F59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0B266-1570-4351-9783-625A3174B0F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9A096-A041-4426-9E42-6A7605661B5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D75FA-4362-45A8-918E-CE03982D284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B5FAE-2F93-4756-A2BF-F0EA20E031E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C3059-DA06-473C-986F-EFCEA4B0543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DF279-4955-427B-976E-BE85816D10F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A1CD9-F5E5-40EA-A39B-A43A055721C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9C45-2BC6-4B6F-86C0-6745E61B7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A8F1-DBC0-4D8B-BFD4-F41355A88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FA51-25DB-4AA9-8B64-08E61395E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2733-4EE4-4639-B52E-3E8581DFB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15DF-253A-48C4-80A7-6B113E941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3B56-1B4A-4ECA-A995-ACAFA61F7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A22A-DA7F-4BC4-8F42-CD1D38813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2494-6E17-40FD-9982-C2A01CAD1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6B8F-ABFD-41A9-97B7-CAD8C60D9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AB64-819E-43AD-917C-8367E1064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1910-6973-40CA-93E1-64C486EDB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58BE-66A5-4367-9AAD-6BDE032A8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833DA-CAA2-4F6D-8B2F-27777AEE8E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Krishna%20%20-%20Instruimen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0" descr="letras"/>
          <p:cNvPicPr/>
          <p:nvPr/>
        </p:nvPicPr>
        <p:blipFill>
          <a:blip r:embed="rId1"/>
          <a:stretch/>
        </p:blipFill>
        <p:spPr>
          <a:xfrm>
            <a:off x="2843280" y="5084640"/>
            <a:ext cx="3560760" cy="1471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Gráfico1"/>
          <p:cNvPicPr/>
          <p:nvPr/>
        </p:nvPicPr>
        <p:blipFill>
          <a:blip r:embed="rId2"/>
          <a:stretch/>
        </p:blipFill>
        <p:spPr>
          <a:xfrm>
            <a:off x="-108000" y="0"/>
            <a:ext cx="9433080" cy="4927680"/>
          </a:xfrm>
          <a:prstGeom prst="rect">
            <a:avLst/>
          </a:prstGeom>
          <a:ln w="0">
            <a:noFill/>
          </a:ln>
        </p:spPr>
      </p:pic>
      <p:sp>
        <p:nvSpPr>
          <p:cNvPr id="50" name="5 CuadroTexto"/>
          <p:cNvSpPr/>
          <p:nvPr/>
        </p:nvSpPr>
        <p:spPr>
          <a:xfrm>
            <a:off x="3550320" y="6072120"/>
            <a:ext cx="2381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040"/>
                </a:solidFill>
                <a:latin typeface="Imprint MT Shadow"/>
              </a:rPr>
              <a:t>El Divino Canto de D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7" descr="Gráfico1"/>
          <p:cNvPicPr/>
          <p:nvPr/>
        </p:nvPicPr>
        <p:blipFill>
          <a:blip r:embed="rId1"/>
          <a:stretch/>
        </p:blipFill>
        <p:spPr>
          <a:xfrm>
            <a:off x="826920" y="0"/>
            <a:ext cx="75232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533520" y="860400"/>
            <a:ext cx="807696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l cambio es la ley del univer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o que ustedes consideran como muert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s en realidad la vi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n cualquier momento podr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er millonario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y en el siguiente pue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aer en pobrez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5715000" y="3808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7" descr="Gráfico1"/>
          <p:cNvPicPr/>
          <p:nvPr/>
        </p:nvPicPr>
        <p:blipFill>
          <a:blip r:embed="rId1"/>
          <a:stretch/>
        </p:blipFill>
        <p:spPr>
          <a:xfrm>
            <a:off x="2021040" y="-3240"/>
            <a:ext cx="510192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228600" y="380880"/>
            <a:ext cx="8686800" cy="63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uyos y míos, grandes y pequeños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borren esas ideas de su 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ntonces todo les pertenecerá y todos serán dueñ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se cuerpo no les pertenec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ampoco ustedes son de ese cuerp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l cuerpo esta formado por fuego, agua, aire, tierra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ter, y retornará en estos elemen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Pero el alma es permanente – así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¿Quien eres realmente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5334120" y="53352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5" descr="Gráfico1"/>
          <p:cNvPicPr/>
          <p:nvPr/>
        </p:nvPicPr>
        <p:blipFill>
          <a:blip r:embed="rId1"/>
          <a:stretch/>
        </p:blipFill>
        <p:spPr>
          <a:xfrm>
            <a:off x="2048040" y="0"/>
            <a:ext cx="508608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380880" y="609480"/>
            <a:ext cx="838224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Dediquen su ser a D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Él es el único que deben confi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Quienes conocen esta verdad son por siemp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ibres de temor, preocupación y dol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Hagas lo que haga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hazlo dedicado como una ofrenda a D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sto les llevará a experimentar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a alegría, la libertad y la vida por siemp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6019920" y="83808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7" descr="Gráfico1"/>
          <p:cNvPicPr/>
          <p:nvPr/>
        </p:nvPicPr>
        <p:blipFill>
          <a:blip r:embed="rId1"/>
          <a:stretch/>
        </p:blipFill>
        <p:spPr>
          <a:xfrm>
            <a:off x="1708200" y="0"/>
            <a:ext cx="5727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457200" y="838080"/>
            <a:ext cx="838188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Gracias por la lectura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intent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aplicarlo honestamente, 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en su vida diari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533520" y="5708520"/>
            <a:ext cx="8215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Comparte esta presentación con tus amig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Gráfico1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380880" y="447840"/>
            <a:ext cx="838224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Por qué te preocupas sin motivo alguno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 quien temes sin raz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Quien te podría matar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l alma no nace, ni mu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ualquier cosa que pas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pasará por tu bien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o que este sucediend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stá sucediendo para bien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o que vaya a pasa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ambién sucederá para bi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5943600" y="380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6" descr="Gráfico1"/>
          <p:cNvPicPr/>
          <p:nvPr/>
        </p:nvPicPr>
        <p:blipFill>
          <a:blip r:embed="rId1"/>
          <a:stretch/>
        </p:blipFill>
        <p:spPr>
          <a:xfrm>
            <a:off x="539640" y="-6480"/>
            <a:ext cx="8064720" cy="68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380880" y="1447920"/>
            <a:ext cx="8382240" cy="39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o debes lamentarte por el pasad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o debes preocuparte por el futu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l presente está sucediendo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Qué perdida te hace llor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Que has traído contig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¿Que crees que has perdido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5334120" y="1600200"/>
            <a:ext cx="350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7" descr="Gráfico1"/>
          <p:cNvPicPr/>
          <p:nvPr/>
        </p:nvPicPr>
        <p:blipFill>
          <a:blip r:embed="rId1"/>
          <a:stretch/>
        </p:blipFill>
        <p:spPr>
          <a:xfrm>
            <a:off x="539640" y="1440"/>
            <a:ext cx="806472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304920" y="447840"/>
            <a:ext cx="853416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¿Que has producid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Que piensas que se ha destrui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o has dado nad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ustedes no han traído nada consig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ualquier cosa que posean, la han recibido aquí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ualquier cosa que hayan tomado, la tomaron de D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o que sea que hayan dado, se lo han dado a É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Ustedes llegaron con las manos vacía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y regrasaran con las manos vací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6" descr="Gráfico1"/>
          <p:cNvPicPr/>
          <p:nvPr/>
        </p:nvPicPr>
        <p:blipFill>
          <a:blip r:embed="rId1"/>
          <a:stretch/>
        </p:blipFill>
        <p:spPr>
          <a:xfrm>
            <a:off x="755640" y="-7920"/>
            <a:ext cx="756144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380880" y="1154160"/>
            <a:ext cx="84582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ualquier cosa que posean hoy,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pertenecía a otra persona el día de ayer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pertenecerá a otra diferente el día de mañ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rroneamente ustedes han disfrutado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sa ide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de perten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s esta falsa fel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a causa de sus pen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5T14:26:37Z</dcterms:created>
  <dc:creator>Recopilado por Harshad Maniar</dc:creator>
  <dc:description/>
  <dc:language>en-US</dc:language>
  <cp:lastModifiedBy>Angel</cp:lastModifiedBy>
  <dcterms:modified xsi:type="dcterms:W3CDTF">2009-06-19T17:44:31Z</dcterms:modified>
  <cp:revision>88</cp:revision>
  <dc:subject>El Gita simplificado</dc:subject>
  <dc:title>PowerPoint Presentation</dc:title>
</cp:coreProperties>
</file>