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Krishna%20%20-%20Instruimen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FBB6-D764-4042-832C-9C59BDE49F2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2608-20D9-44B7-A219-763A142084E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6A02-70DB-49A0-9F9B-E5AAD71F7C8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B710-042A-4281-89C8-68F12891DEF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3622-1E9D-452A-B7B9-6F69954EDE6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87C5-DCBD-4149-B185-F8B257C0303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76CA-E983-401A-AAE0-A7923B39B0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67A3-697F-4A67-AC10-BA273AB437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9486-F568-4B14-AF1A-7EA005BB7AD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D81B-8DEF-493D-8160-359B73577CF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7972-DC17-4B4D-99A1-4C00A8C71D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E744-0648-467D-BBD4-3CC3CEC6B9A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EAEF-1A7D-4A4D-8BA9-5A9D7A887B1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7D5D-E4AD-49D8-A916-A50E524DA9A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78E4-32A9-491D-B45E-3E32A8757DC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392D-2D0B-4552-AD86-9E5B2866311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4B9F-AD95-46DC-9B11-3AD65492378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71AF-814B-4786-A374-46D4008E05C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601-DD37-4DD6-9C00-A8EDE0D8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78CE-10C6-4960-9035-233D88F9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737-B91E-4D2A-A5AA-20568A47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44D-5D26-4DC7-8A16-C1B8231F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2C1-39BF-4975-8059-BCB4B99E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0CF-3825-4129-8BC0-15FA3C9C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EB7-B35A-45E6-B93F-EEB6339F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BE7-94E6-434B-9758-491B996F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24E-949B-4D62-90AB-1916F013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F218-424F-4659-8D57-9850C963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05B-8A68-4EEE-A525-72999BBF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BC1-DE4F-43BC-9FAF-FEB0D4C3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643C-9721-4705-8907-0B3413B16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Krishna%20%20-%20Instruime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letras"/>
          <p:cNvPicPr/>
          <p:nvPr/>
        </p:nvPicPr>
        <p:blipFill>
          <a:blip r:embed="rId1"/>
          <a:stretch/>
        </p:blipFill>
        <p:spPr>
          <a:xfrm>
            <a:off x="2843280" y="5084640"/>
            <a:ext cx="3560760" cy="147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Gráfico1"/>
          <p:cNvPicPr/>
          <p:nvPr/>
        </p:nvPicPr>
        <p:blipFill>
          <a:blip r:embed="rId2"/>
          <a:stretch/>
        </p:blipFill>
        <p:spPr>
          <a:xfrm>
            <a:off x="-108000" y="0"/>
            <a:ext cx="9433080" cy="4927680"/>
          </a:xfrm>
          <a:prstGeom prst="rect">
            <a:avLst/>
          </a:prstGeom>
          <a:ln w="0">
            <a:noFill/>
          </a:ln>
        </p:spPr>
      </p:pic>
      <p:sp>
        <p:nvSpPr>
          <p:cNvPr id="50" name="5 CuadroTexto"/>
          <p:cNvSpPr/>
          <p:nvPr/>
        </p:nvSpPr>
        <p:spPr>
          <a:xfrm>
            <a:off x="3550320" y="6072120"/>
            <a:ext cx="2381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Imprint MT Shadow"/>
              </a:rPr>
              <a:t>El Divino Canto de D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Gráfico1"/>
          <p:cNvPicPr/>
          <p:nvPr/>
        </p:nvPicPr>
        <p:blipFill>
          <a:blip r:embed="rId1"/>
          <a:stretch/>
        </p:blipFill>
        <p:spPr>
          <a:xfrm>
            <a:off x="826920" y="0"/>
            <a:ext cx="75232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533520" y="860400"/>
            <a:ext cx="80769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 cambio es la ley del unive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 que ustedes consideran como muer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 en realidad l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 cualquier momento pod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r millonari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y en el siguiente pue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er en pobr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715000" y="380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Gráfico1"/>
          <p:cNvPicPr/>
          <p:nvPr/>
        </p:nvPicPr>
        <p:blipFill>
          <a:blip r:embed="rId1"/>
          <a:stretch/>
        </p:blipFill>
        <p:spPr>
          <a:xfrm>
            <a:off x="2021040" y="-3240"/>
            <a:ext cx="51019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28600" y="380880"/>
            <a:ext cx="86868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uyos y míos, grandes y pequeño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orren esas ideas de su 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tonces todo les pertenecerá y todos serán due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e cuerpo no les pertene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mpoco ustedes son de ese cuer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 cuerpo esta formado por fuego, agua, aire, tierra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ter, y retornará en estos ele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ro el alma es permanente – así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ien eres realment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334120" y="533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Gráfico1"/>
          <p:cNvPicPr/>
          <p:nvPr/>
        </p:nvPicPr>
        <p:blipFill>
          <a:blip r:embed="rId1"/>
          <a:stretch/>
        </p:blipFill>
        <p:spPr>
          <a:xfrm>
            <a:off x="2048040" y="0"/>
            <a:ext cx="50860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0880" y="609480"/>
            <a:ext cx="8382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diquen su ser a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Él es el único que deben conf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ienes conocen esta verdad son por siemp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ibres de temor, preocupación y do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agas lo que hag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azlo dedicado como una ofrenda a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to les llevará a experimenta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 alegría, la libertad y la vida por siemp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019920" y="8380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Gráfico1"/>
          <p:cNvPicPr/>
          <p:nvPr/>
        </p:nvPicPr>
        <p:blipFill>
          <a:blip r:embed="rId1"/>
          <a:stretch/>
        </p:blipFill>
        <p:spPr>
          <a:xfrm>
            <a:off x="1708200" y="0"/>
            <a:ext cx="572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57200" y="838080"/>
            <a:ext cx="83818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racias por la lectura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nten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plicarlo honestamente,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n su vida diar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3520" y="5708520"/>
            <a:ext cx="82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mparte esta presentación con tu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Gráfico1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80880" y="447840"/>
            <a:ext cx="83822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or qué te preocupas sin motivo algun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quien temes sin raz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ien te podría mat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 alma no nace, ni mu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alquier cosa que pa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asará por tu bie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 que este sucedien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tá sucediendo para bie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 que vaya a pas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mbién sucederá para bi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943600" y="380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Gráfico1"/>
          <p:cNvPicPr/>
          <p:nvPr/>
        </p:nvPicPr>
        <p:blipFill>
          <a:blip r:embed="rId1"/>
          <a:stretch/>
        </p:blipFill>
        <p:spPr>
          <a:xfrm>
            <a:off x="539640" y="-6480"/>
            <a:ext cx="80647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1447920"/>
            <a:ext cx="838224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debes lamentarte por el pas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debes preocuparte por el fut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 presente está sucedien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é perdida te hace llo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e has traído contig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e crees que has perdid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34120" y="160020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Gráfico1"/>
          <p:cNvPicPr/>
          <p:nvPr/>
        </p:nvPicPr>
        <p:blipFill>
          <a:blip r:embed="rId1"/>
          <a:stretch/>
        </p:blipFill>
        <p:spPr>
          <a:xfrm>
            <a:off x="539640" y="1440"/>
            <a:ext cx="806472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04920" y="447840"/>
            <a:ext cx="85341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e has produci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e piensas que se ha destru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has dado nad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stedes no han traído nada consi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alquier cosa que posean, la han recibido aqu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alquier cosa que hayan tomado, la tomaron de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 que sea que hayan dado, se lo han dado a É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stedes llegaron con las manos vací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y regrasaran con las manos vac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Gráfico1"/>
          <p:cNvPicPr/>
          <p:nvPr/>
        </p:nvPicPr>
        <p:blipFill>
          <a:blip r:embed="rId1"/>
          <a:stretch/>
        </p:blipFill>
        <p:spPr>
          <a:xfrm>
            <a:off x="755640" y="-7920"/>
            <a:ext cx="75614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80880" y="1154160"/>
            <a:ext cx="8458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alquier cosa que posean hoy,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rtenecía a otra persona el día de ayer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rtenecerá a otra diferente el día de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rroneamente ustedes han disfrutad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a id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 perten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 esta falsa fe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 causa de sus pe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4:26:37Z</dcterms:created>
  <dc:creator>Recopilado por Harshad Maniar</dc:creator>
  <dc:description/>
  <dc:language>en-US</dc:language>
  <cp:lastModifiedBy>Angel</cp:lastModifiedBy>
  <dcterms:modified xsi:type="dcterms:W3CDTF">2009-06-19T17:44:31Z</dcterms:modified>
  <cp:revision>88</cp:revision>
  <dc:subject>El Gita simplificado</dc:subject>
  <dc:title>PowerPoint Presentation</dc:title>
</cp:coreProperties>
</file>