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42C1-D52F-4130-98D0-9F015E39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D2A6-9F20-460A-A92F-F59EFC37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: the expected information needed to classify a given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(entropy) : expected information based on the partitioning into subsets by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0D70-60A9-433D-B274-568FC7938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3202-4D10-4C3D-A8D7-408AD076D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F9C-EEF4-4394-BE1C-0CD94ECA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EAC-AAB0-4F86-8EA7-11B447FE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A5EE-3437-4F3A-8C04-AD4E911E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1F51-917B-4D0D-9C8D-5E87584F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5360-8190-4D8D-A5A8-D3B0022A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C596-3F00-4A85-8699-B60B04BB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3475-B1A6-4F2E-82A7-EACC1FA1B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F20-CF2A-4A4B-B858-F4E948B9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5DC-3E2D-4DCB-92AA-49AFC2A9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F8A-0AAE-4AD8-9A15-427BEACD1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4360" cy="341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0263-3BA0-430E-89A4-AE40B002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B954-B4A4-4F7F-AC3B-D958FA38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726F-DD7D-4930-B1A9-FD50427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94F4-B9BA-4286-B58C-6C63D828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8FDC-B514-48B6-BF15-2656BDA2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B0B9-8F69-4318-95A1-D59801B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63F6-0768-4EB4-857D-B4A7DCEB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86F-355F-430E-A409-26E21AC8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675D-4F92-4024-96C9-596B01E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9695-8F80-4C5E-BB0B-68CEB4BC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1F81-85BA-461E-959C-FCD2746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EEFF-DF45-406A-9E11-ADB565E4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B486-5DD7-4EC2-9704-BD48121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6B3C-F793-41BC-A119-AA5DC19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D3FF-C023-493B-BF46-CFE30045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520A-CDF3-4FE1-A107-7D3A23B4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7CC-55EB-418D-A8FD-4D89B3C5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CB12-44DB-4CBE-8750-4648DF24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0883-7736-4889-AC69-7F5774C8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23C5-D70F-4A10-AC28-1912602D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5913-2AAD-43FC-8876-D0D8CD27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94F4-605C-40FF-AC6F-DBF0E3B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664D-32E4-48D7-857D-6083698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92BF-138F-435C-B272-5B92D585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BBF0-E64A-4B97-A693-436C812BE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A25-6EC8-4E50-97CB-D09A89B0B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320" y="2437920"/>
            <a:ext cx="66294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课 数据分类和预测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81080" y="46479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从富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副教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浙江大学人工智能研究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905120" y="5493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浙江大学本科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挖掘导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 Tree Induction: Training Data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3"/>
          <p:cNvGraphicFramePr/>
          <p:nvPr/>
        </p:nvGraphicFramePr>
        <p:xfrm>
          <a:off x="2236680" y="2097000"/>
          <a:ext cx="6450120" cy="36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2097000"/>
                    <a:ext cx="64501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4"/>
          <p:cNvSpPr/>
          <p:nvPr/>
        </p:nvSpPr>
        <p:spPr>
          <a:xfrm>
            <a:off x="228600" y="2133720"/>
            <a:ext cx="190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llows an  example of Quinlan’s ID3 (Playing Tenn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0981"/>
                </a:solidFill>
                <a:latin typeface="Times New Roman"/>
              </a:rPr>
              <a:t>Output: A Decision Tree for “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uys_computer</a:t>
            </a:r>
            <a:r>
              <a:rPr b="0" i="1" lang="en-US" sz="3600" spc="-1" strike="noStrike">
                <a:solidFill>
                  <a:srgbClr val="170981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185480" y="1901880"/>
            <a:ext cx="5936400" cy="4190400"/>
            <a:chOff x="1185480" y="1901880"/>
            <a:chExt cx="5936400" cy="4190400"/>
          </a:xfrm>
        </p:grpSpPr>
        <p:sp>
          <p:nvSpPr>
            <p:cNvPr id="173" name="Rectangle 4"/>
            <p:cNvSpPr/>
            <p:nvPr/>
          </p:nvSpPr>
          <p:spPr>
            <a:xfrm>
              <a:off x="3531960" y="1901880"/>
              <a:ext cx="744480" cy="4582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g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3299760" y="2876400"/>
              <a:ext cx="120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verc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1693080" y="3790800"/>
              <a:ext cx="1203120" cy="45828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uden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5187960" y="3790800"/>
              <a:ext cx="1806480" cy="4582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edit rat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1186920" y="4757760"/>
              <a:ext cx="489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2750400" y="4757760"/>
              <a:ext cx="59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0"/>
            <p:cNvSpPr/>
            <p:nvPr/>
          </p:nvSpPr>
          <p:spPr>
            <a:xfrm>
              <a:off x="6511680" y="4772160"/>
              <a:ext cx="610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1"/>
            <p:cNvSpPr/>
            <p:nvPr/>
          </p:nvSpPr>
          <p:spPr>
            <a:xfrm>
              <a:off x="4876200" y="4786200"/>
              <a:ext cx="128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cell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>
              <a:off x="2308320" y="2394000"/>
              <a:ext cx="992160" cy="13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 flipH="1">
              <a:off x="3900600" y="2440080"/>
              <a:ext cx="144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4565520" y="2470320"/>
              <a:ext cx="1489320" cy="13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2144880" y="2819520"/>
              <a:ext cx="837360" cy="458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=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5077800" y="2936880"/>
              <a:ext cx="66348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 flipH="1">
              <a:off x="1479240" y="4344840"/>
              <a:ext cx="49356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2608200" y="4390920"/>
              <a:ext cx="42084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 flipH="1">
              <a:off x="5454360" y="4390920"/>
              <a:ext cx="34452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0"/>
            <p:cNvSpPr/>
            <p:nvPr/>
          </p:nvSpPr>
          <p:spPr>
            <a:xfrm>
              <a:off x="6434280" y="4405320"/>
              <a:ext cx="32832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>
              <a:off x="1430280" y="52293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6815160" y="51832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3"/>
            <p:cNvSpPr/>
            <p:nvPr/>
          </p:nvSpPr>
          <p:spPr>
            <a:xfrm>
              <a:off x="5516640" y="519912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>
              <a:off x="3044880" y="519912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>
              <a:off x="3902040" y="3294000"/>
              <a:ext cx="0" cy="43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185480" y="5634000"/>
              <a:ext cx="48996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5270040" y="5634000"/>
              <a:ext cx="489960" cy="45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2747520" y="5634000"/>
              <a:ext cx="591840" cy="45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6519240" y="5634000"/>
              <a:ext cx="591840" cy="45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3606120" y="3794040"/>
              <a:ext cx="591840" cy="458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3352680" y="2971800"/>
              <a:ext cx="106704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..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for Decision Tree In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ic algorithm (a greedy algorith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ee is constructed in a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top-down recursive divide-and-conquer m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start, all the training examples are at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are categorical (if continuous-valued, they are discretized in adv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are partitioned recursively based on selected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attributes are selected on the basis of a heuristic or statistical measure (e.g.,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information g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s for stopping partiti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amples for a given node belong to the sam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no remaining attributes for further partitioning –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majority vo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mployed for classifying the le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are no samples le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09480" y="4572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Selection Measure: Information Gain (ID3/C4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5238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attribute with the highest information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s of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sures info required to classify any arbitrary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ttrib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values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formation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ranching on attrib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e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652760" y="2819520"/>
          <a:ext cx="355248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2819520"/>
                    <a:ext cx="3552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5"/>
          <p:cNvGraphicFramePr/>
          <p:nvPr/>
        </p:nvGraphicFramePr>
        <p:xfrm>
          <a:off x="1951200" y="4038480"/>
          <a:ext cx="379224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0" y="4038480"/>
                    <a:ext cx="37922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1647720" y="5699160"/>
          <a:ext cx="440208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7720" y="5699160"/>
                    <a:ext cx="44020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Selection by Information Gain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Class P: buys_computer = “y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Class N: buys_computer = “n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I(p, n) = I(9, 5) =0.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8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Compute the entropy for </a:t>
            </a:r>
            <a:r>
              <a:rPr b="0" i="1" lang="en-US" sz="2000" spc="-1" strike="noStrike">
                <a:solidFill>
                  <a:srgbClr val="121328"/>
                </a:solidFill>
                <a:latin typeface="Times New Roman"/>
              </a:rPr>
              <a:t>age</a:t>
            </a:r>
            <a:r>
              <a:rPr b="0" lang="en-US" sz="2000" spc="-1" strike="noStrike">
                <a:solidFill>
                  <a:srgbClr val="121328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24280" y="2743200"/>
            <a:ext cx="41529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328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121328"/>
                </a:solidFill>
                <a:latin typeface="Times New Roman"/>
              </a:rPr>
              <a:t>means “age &lt;=30” has 5 out of 14 samples, with 2 yes’es  and 3 no’s. He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762120" y="2743200"/>
          <a:ext cx="3354120" cy="14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33541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4876920" y="1371600"/>
                <a:ext cx="3429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2,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4,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3,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5181480" y="5410080"/>
                <a:ext cx="3594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uden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edi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tin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8"/>
              <p:cNvSpPr txBox="1"/>
              <p:nvPr/>
            </p:nvSpPr>
            <p:spPr>
              <a:xfrm>
                <a:off x="4648320" y="4343400"/>
                <a:ext cx="449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Object 9"/>
          <p:cNvGraphicFramePr/>
          <p:nvPr/>
        </p:nvGraphicFramePr>
        <p:xfrm>
          <a:off x="152280" y="4191120"/>
          <a:ext cx="44197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91120"/>
                    <a:ext cx="44197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Object 10"/>
              <p:cNvSpPr txBox="1"/>
              <p:nvPr/>
            </p:nvSpPr>
            <p:spPr>
              <a:xfrm>
                <a:off x="4495680" y="2743200"/>
                <a:ext cx="107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2,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 Box 11"/>
          <p:cNvSpPr/>
          <p:nvPr/>
        </p:nvSpPr>
        <p:spPr>
          <a:xfrm>
            <a:off x="4800600" y="48769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328"/>
                </a:solidFill>
                <a:latin typeface="Times New Roman"/>
              </a:rPr>
              <a:t>Similar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Information-Gain for Continuous-Value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attrib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a continuous-valu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determine the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best split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th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increas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d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each pair of adjacent values is considered as a possible spli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2 is the midpoint between the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int with th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inimum expected information requi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lected as the split-poin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tupl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lit-point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tupl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split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55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tracting Classification Rules from Tre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 the knowledge in the form of </a:t>
            </a: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IF-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rule is created for each path from the root to a 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attribute-value pair along a path forms a 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af node holds the clas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s are easier for humans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lt;=30”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lt;=30”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31…40”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gt;40”  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edit_r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&lt;=30”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edit_r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ys_compu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oid Overfitting in 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verfi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n induced tree may overfit the training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o many branches, some may reflect anomalies due to noise or outl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or accuracy for unseen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pproaches to avoid overfi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reprun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alt tree construction early—do not split a node if this would result in the goodness measure falling below a thres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icult to choose an appropriate thres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ostprun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emove branches from a “fully grown” tree—get a sequence of progressively pruned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set of data different from the training data to decide which is the “best pruned tre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to Determine the Final Tree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34400" cy="36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training (2/3) and testing (1/3)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ross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ll the data fo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pply a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tatistical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chi-square) to estimate whether expanding or pruning a node may improve the entir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hancements to Basic Decision Tree In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continuous-value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ynamically define new discrete-valued attributes that partition the continuous attribute value into a discrete set of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 missing attribut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the most common value of the at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probability to each of the possible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new attributes based on existing ones that are sparsely repres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8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reduces fragmentation, repetition, and re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905120" y="3352680"/>
            <a:ext cx="75960" cy="76320"/>
          </a:xfrm>
          <a:prstGeom prst="flowChartInternalStora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990720" y="3581280"/>
            <a:ext cx="7086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990720" y="3505320"/>
            <a:ext cx="7162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内容提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lassification? What is predi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regarding classification and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by decision tre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esian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in Large Data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9880" y="1371600"/>
            <a:ext cx="8539200" cy="515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—a classical problem extensively studied by statisticians and machine learning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: Classifying data sets with millions of examples and hundreds of attributes with reasonabl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ecision tree induction in data m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faster learning speed (than other classification meth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ible to simple and easy to understand classific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SQL queries for access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ble classification accuracy with oth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calable Decision Tree Induction Metho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LI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DBT’96 — Mehta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an index for each attribute and only class list and the current attribute list reside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PR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LDB’96 — J. Shafer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s an attribute list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LDB’98 — Rastogi &amp; Sh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ree splitting and tree pruning: stop growing the tree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ainFor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VLDB’98 — Gehrke, Ramakrishnan &amp; G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the scalability aspects from the criteria that determine the quality of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an AVC-list (attribute, value, class 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153280" cy="4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sentation of Classific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lass2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328"/>
                </a:solidFill>
                <a:latin typeface="Times New Roman"/>
              </a:rPr>
              <a:t>Visualization of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ecis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21328"/>
                </a:solidFill>
                <a:latin typeface="Times New Roman"/>
              </a:rPr>
              <a:t>in SGI/MineSet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02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nteractive Visual M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Perception-Based Classification (P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yesian Classification: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stic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alculate explicit probabilities for hypothesis, among the most practical approaches to certain types of learn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training example can incrementally increase/decrease the probability that a hypothesis is correct.  Prior knowledge can be combined with observ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stic predi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redict multiple hypotheses, weighted by their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ven when Bayesian methods are computationally intractable, they can provide a standard of optimal decision making against which other methods can be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6096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yesian Theorem: 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data sample whose class lab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hypothesis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longs to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ification problems, deter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|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probability that the hypothesis holds given the observed data s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H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or probability of hypothes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the initial probability before we observe any data, reflects the background k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bability that sample data is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bability of observing the s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iven that the hypothesis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5484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raining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i probability of a hypothes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, P(H|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s the Bayes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ly, this can be written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i = likelihood x prior /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(maximum posteriori)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al difficulty: require initial knowledge of many probabilities, significant computa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752480" y="2590920"/>
                <a:ext cx="3657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5"/>
          <p:cNvGraphicFramePr/>
          <p:nvPr/>
        </p:nvGraphicFramePr>
        <p:xfrm>
          <a:off x="1219320" y="4724280"/>
          <a:ext cx="61722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724280"/>
                    <a:ext cx="61722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ïve Bayes Classifi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ified assumption: attributes are conditionally 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duct of occurrence of say 2 elem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iven the current class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the product of the probabilities of each element taken separately, given the same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[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, C) = 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) * 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pendence relation between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ly reduces the computation cost, only count the class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known, 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class with maximu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X|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* P(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1143000" y="1676520"/>
                <a:ext cx="3200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data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2743200" y="1828800"/>
          <a:ext cx="61675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61675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4"/>
          <p:cNvSpPr/>
          <p:nvPr/>
        </p:nvSpPr>
        <p:spPr>
          <a:xfrm>
            <a:off x="224640" y="2065320"/>
            <a:ext cx="226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:buys_computer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:buys_computer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(age&lt;=3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=mediu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=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_rating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080560" cy="38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s categorical class labels (discrete or no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s data (constructs a model) based on the training set and the values (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lass lab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a classifying attribute and uses it in classifying ne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Predi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inuous-valued functions, i.e., predicts unknown or missing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ud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480"/>
            <a:ext cx="716292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vs. 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4572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ïve Bayesian Classifier: 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P(X|Ci) for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age=“&lt;30” | buys_computer=“yes”)  = 2/9=0.2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age=“&lt;30” | buys_computer=“no”) = 3/5 =0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income=“medium” | buys_computer=“yes”)= 4/9 =0.4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income=“medium” | buys_computer=“no”) = 2/5 = 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student=“yes” | buys_computer=“yes)= 6/9 =0.6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student=“yes” | buys_computer=“no”)= 1/5=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credit_rating=“fair” | buys_computer=“yes”)=6/9=0.6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credit_rating=“fair” | buys_computer=“no”)=2/5=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=(age&lt;=30 , income =medium, student=yes, credit_rating=f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(X|Ci)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(X|buys_computer=“yes”)= 0.222 x 0.444 x 0.667 x 0.0.667 =0.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|buys_computer=“no”)= 0.6 x 0.4 x 0.2 x 0.4 =0.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(X|Ci)*P(Ci )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|buys_computer=“yes”) * P(buys_computer=“yes”)=0.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|buys_computer=“no”) * P(buys_computer=“no”)=0.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fore,  X belongs to  class “buys_computer=yes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632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ïve Bayesian Classifier: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imp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results obtained in most of th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ption: class conditional independence, therefore loss of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ly, dependencies exist among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 hospitals: patients: Profile: age, family history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ptoms: fever, cough etc., Disease: lung cancer, diabetes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ies among these cannot be modeled by Naïve Bayesian Class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al with these dependen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yesian Belief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yesian Belief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esian belief network allow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variables conditional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ical model of caus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pend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the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a specification of joint probability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447920" y="4876920"/>
            <a:ext cx="457200" cy="457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1066680" y="4343400"/>
            <a:ext cx="1904760" cy="1905120"/>
            <a:chOff x="1066680" y="4343400"/>
            <a:chExt cx="1904760" cy="1905120"/>
          </a:xfrm>
        </p:grpSpPr>
        <p:sp>
          <p:nvSpPr>
            <p:cNvPr id="270" name="AutoShape 6"/>
            <p:cNvSpPr/>
            <p:nvPr/>
          </p:nvSpPr>
          <p:spPr>
            <a:xfrm>
              <a:off x="2209680" y="4724640"/>
              <a:ext cx="457200" cy="457200"/>
            </a:xfrm>
            <a:prstGeom prst="flowChart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1447560" y="5562720"/>
              <a:ext cx="457200" cy="457200"/>
            </a:xfrm>
            <a:prstGeom prst="flowChart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"/>
            <p:cNvSpPr/>
            <p:nvPr/>
          </p:nvSpPr>
          <p:spPr>
            <a:xfrm>
              <a:off x="1218960" y="518184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H="1">
              <a:off x="1752120" y="510552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10"/>
            <p:cNvSpPr/>
            <p:nvPr/>
          </p:nvSpPr>
          <p:spPr>
            <a:xfrm>
              <a:off x="2514240" y="5791320"/>
              <a:ext cx="457200" cy="457200"/>
            </a:xfrm>
            <a:prstGeom prst="flowChartConnector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1"/>
            <p:cNvSpPr/>
            <p:nvPr/>
          </p:nvSpPr>
          <p:spPr>
            <a:xfrm>
              <a:off x="2514240" y="5181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>
              <a:off x="1066680" y="4343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>
              <a:off x="2285640" y="4343400"/>
              <a:ext cx="763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14"/>
          <p:cNvSpPr/>
          <p:nvPr/>
        </p:nvSpPr>
        <p:spPr>
          <a:xfrm>
            <a:off x="3429000" y="4038480"/>
            <a:ext cx="55483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: rando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s: depend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e par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ar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pendency betwe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o loops or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Belief Network: An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57200" y="1447920"/>
            <a:ext cx="1295280" cy="761760"/>
          </a:xfrm>
          <a:prstGeom prst="ellipse">
            <a:avLst/>
          </a:prstGeom>
          <a:solidFill>
            <a:srgbClr val="f6e6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57200" y="3048120"/>
            <a:ext cx="1295280" cy="7617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ung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533520" y="4724280"/>
            <a:ext cx="1295280" cy="762120"/>
          </a:xfrm>
          <a:prstGeom prst="ellipse">
            <a:avLst/>
          </a:prstGeom>
          <a:solidFill>
            <a:srgbClr val="fae2f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tiveX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666880" y="1447920"/>
            <a:ext cx="1295640" cy="761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743200" y="3048120"/>
            <a:ext cx="1295280" cy="761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2895480" y="4724280"/>
            <a:ext cx="1295640" cy="76212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143000" y="2209680"/>
            <a:ext cx="0" cy="838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1143000" y="3809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335268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429000" y="3809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 flipH="1">
            <a:off x="1219320" y="2133720"/>
            <a:ext cx="1752480" cy="9144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1143000" y="3809880"/>
            <a:ext cx="22096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4267080" y="2590920"/>
            <a:ext cx="4648320" cy="1218960"/>
          </a:xfrm>
          <a:prstGeom prst="rect">
            <a:avLst/>
          </a:prstGeom>
          <a:solidFill>
            <a:srgbClr val="00e4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419720" y="3200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5105520" y="2590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548640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731520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640080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81532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4740480" y="27194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4579920" y="3252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5492160" y="2233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FH,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329520" y="22096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FH, ~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7243920" y="22096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~FH,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8119440" y="220968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(~FH, ~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5762880" y="27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5759640" y="3328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677280" y="27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6674040" y="3328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7512480" y="2719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7515720" y="3290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8277480" y="2757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8274240" y="3328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09840" y="571500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esian Belie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7"/>
          <p:cNvSpPr/>
          <p:nvPr/>
        </p:nvSpPr>
        <p:spPr>
          <a:xfrm>
            <a:off x="4419720" y="4038480"/>
            <a:ext cx="455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al probability table for the variable LungCanc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the conditional probability for each possible combination of it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8"/>
              <p:cNvSpPr txBox="1"/>
              <p:nvPr/>
            </p:nvSpPr>
            <p:spPr>
              <a:xfrm>
                <a:off x="5029200" y="5791320"/>
                <a:ext cx="3124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z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ents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8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both the network structure and all variables observable: learn only the C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known, some hidden variables: method of gradient descent, analogous to neural network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unknown, all variables observable: search through the model space to reconstruct graph to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 structure, all hidden variables: no good algorithms known for thi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eckerman, Bayesian networks for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umerical) prediction is similar to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odel to predict continuous or ordered  value for a give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on is different from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cation refers to predict categorical class 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ion models continuous-valu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method for prediction: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the relationship between one or mo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an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and multiple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regression methods: generalized linear model, Poisson regression, log-linear models, regressio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 reg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volves a response variable y and a single predictor variable 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y-intercept) and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lope) are regression coeffici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 of least squ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stimates the best-fitting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e linear reg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volves more than one predictor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 is of the form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…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|D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|D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. For 2-D data, we may have: y 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able by extension of least square method or using SAS, 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nonlinear functions can be transformed into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1143000" y="3200400"/>
                <a:ext cx="2224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4267080" y="3429000"/>
                <a:ext cx="1557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nonlinear models can be modeled by a polynomi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ynomial regression model can be transformed into linear regression model. 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ible to linear with new variables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unctions, such as power function, can also be transformed to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odels are intractable nonlinear (e.g., sum of exponential te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obtain least square estimates through extensive calculation on more complex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linear Regres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ized linea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ation on which linear regression can be applied to modeling categorical respons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ce of y is a function of the mean value of y, not a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gistic 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dels the prob. of some event occurring as a linear function of a set of predicto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sson 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dels the data that exhibit a Poiss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g-linear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for categorical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 discrete multidimensional prob. distrib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seful for data compression and 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ession trees and model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s to predict continuous values rather than class lab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gression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00424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ssion Trees and Model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tree: proposed in CART system (Breiman et al. 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: Classification And Regressio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leaf store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inuous-valued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verage value of the predicted 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training tuples that reach the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ee: proposed by Quinlan 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leaf holds a regression model—a multivariate linear equation for the predicted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re general case than regressio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and model trees tend to be more accurate than linear regression when the data are not represented well by a simple 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—A Two-Step Proc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Model co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scribing a set of predetermine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ple/sample is assumed to belong to a predefined class, as determined by the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class label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t of tuples used for model construction is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training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del is represented as classification rules, decision trees, or mathematical formu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Model us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or classifying future or unknow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stimate accu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nown label of test sample is compared with the classified result from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cy rate is the percentage of test set samples that are correctly classifi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set is independent of training set, otherwise over-fitting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accuracy is acceptable, use the model to 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classify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uples whose class labels are not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ve modeling: Predict data values or construct   generalized linear models based on the databa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an only predict value ranges or categor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out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relevan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d linear model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major factors which influence th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elevance analysis: uncertainty measurement, entropy analysis, expert judge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prediction: drill-down and roll-u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4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dictive Modeling in Multidimensional Data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01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: Numer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predcurve"/>
          <p:cNvPicPr/>
          <p:nvPr/>
        </p:nvPicPr>
        <p:blipFill>
          <a:blip r:embed="rId1"/>
          <a:stretch/>
        </p:blipFill>
        <p:spPr>
          <a:xfrm>
            <a:off x="380880" y="1233360"/>
            <a:ext cx="8382240" cy="53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66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on: Categor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predpie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ification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e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wo forms of data analysis that can be used to extrac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cribing important data classes or to predict future data tr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and scalable methods have been developed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cision trees induction, Naive Bayesian classification, Bayesian belief network, rule-based classifier, Backpropagation, Support Vector Machine (SVM), associative classification, nearest neighbor classifiers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se-based reaso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other classification methods such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tic algorithms, rough set and fuzzy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ro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ear, nonlinear, and generalized linear models of reg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used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ed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Many nonlinear problems can be converted to linear problems by performing transformations on the predictor variables.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gression tre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del tre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lso used for predi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R. Quinlan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duction of decision tre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achine Learning, 1:81-106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R. Quinlan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4.5: Programs for Machine Learn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gan Kaufmann,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O. Duda, P. E. Hart, and D. G. Stork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attern Classification (2nd ed.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hn Wiley &amp; Sons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M. Mitchell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achine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cGraw Hill, 199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Process (1): Model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036880" y="1774800"/>
            <a:ext cx="1698480" cy="1506600"/>
            <a:chOff x="2036880" y="1774800"/>
            <a:chExt cx="1698480" cy="1506600"/>
          </a:xfrm>
        </p:grpSpPr>
        <p:pic>
          <p:nvPicPr>
            <p:cNvPr id="124" name="Picture 4" descr=""/>
            <p:cNvPicPr/>
            <p:nvPr/>
          </p:nvPicPr>
          <p:blipFill>
            <a:blip r:embed="rId1"/>
            <a:stretch/>
          </p:blipFill>
          <p:spPr>
            <a:xfrm>
              <a:off x="2036880" y="1774800"/>
              <a:ext cx="1698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5"/>
            <p:cNvSpPr/>
            <p:nvPr/>
          </p:nvSpPr>
          <p:spPr>
            <a:xfrm>
              <a:off x="2138400" y="2218680"/>
              <a:ext cx="1482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Object 6"/>
          <p:cNvGraphicFramePr/>
          <p:nvPr/>
        </p:nvGraphicFramePr>
        <p:xfrm>
          <a:off x="289080" y="3825720"/>
          <a:ext cx="5437080" cy="24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" y="3825720"/>
                    <a:ext cx="5437080" cy="24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Line 7"/>
          <p:cNvSpPr/>
          <p:nvPr/>
        </p:nvSpPr>
        <p:spPr>
          <a:xfrm flipH="1">
            <a:off x="306000" y="3111480"/>
            <a:ext cx="164484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736800" y="3111480"/>
            <a:ext cx="202572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483960" y="1627920"/>
            <a:ext cx="186588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"/>
          <p:cNvSpPr/>
          <p:nvPr/>
        </p:nvSpPr>
        <p:spPr>
          <a:xfrm rot="20460000">
            <a:off x="4235400" y="2074680"/>
            <a:ext cx="1657440" cy="483840"/>
          </a:xfrm>
          <a:prstGeom prst="rightArrow">
            <a:avLst>
              <a:gd name="adj1" fmla="val 50000"/>
              <a:gd name="adj2" fmla="val 85671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952600" y="5316840"/>
            <a:ext cx="2999880" cy="1189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ank = ‘professo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ears 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enured = ‘ye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2"/>
          <p:cNvGrpSpPr/>
          <p:nvPr/>
        </p:nvGrpSpPr>
        <p:grpSpPr>
          <a:xfrm>
            <a:off x="6478560" y="3216240"/>
            <a:ext cx="1889280" cy="1506600"/>
            <a:chOff x="6478560" y="3216240"/>
            <a:chExt cx="1889280" cy="1506600"/>
          </a:xfrm>
        </p:grpSpPr>
        <p:pic>
          <p:nvPicPr>
            <p:cNvPr id="134" name="Picture 13" descr=""/>
            <p:cNvPicPr/>
            <p:nvPr/>
          </p:nvPicPr>
          <p:blipFill>
            <a:blip r:embed="rId4"/>
            <a:stretch/>
          </p:blipFill>
          <p:spPr>
            <a:xfrm>
              <a:off x="6478560" y="3216240"/>
              <a:ext cx="188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6735960" y="3660120"/>
              <a:ext cx="1356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od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Line 15"/>
          <p:cNvSpPr/>
          <p:nvPr/>
        </p:nvSpPr>
        <p:spPr>
          <a:xfrm flipH="1">
            <a:off x="5946480" y="4621320"/>
            <a:ext cx="531720" cy="71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8369280" y="4543560"/>
            <a:ext cx="57780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7143840" y="2576520"/>
            <a:ext cx="546120" cy="592200"/>
          </a:xfrm>
          <a:prstGeom prst="downArrow">
            <a:avLst>
              <a:gd name="adj1" fmla="val 50000"/>
              <a:gd name="adj2" fmla="val 27119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assification Process (2): Use the Model in Predi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4444920" y="1569960"/>
            <a:ext cx="1889280" cy="1506600"/>
            <a:chOff x="4444920" y="1569960"/>
            <a:chExt cx="1889280" cy="1506600"/>
          </a:xfrm>
        </p:grpSpPr>
        <p:pic>
          <p:nvPicPr>
            <p:cNvPr id="141" name="Picture 4" descr=""/>
            <p:cNvPicPr/>
            <p:nvPr/>
          </p:nvPicPr>
          <p:blipFill>
            <a:blip r:embed="rId1"/>
            <a:stretch/>
          </p:blipFill>
          <p:spPr>
            <a:xfrm>
              <a:off x="4444920" y="1569960"/>
              <a:ext cx="188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5"/>
            <p:cNvSpPr/>
            <p:nvPr/>
          </p:nvSpPr>
          <p:spPr>
            <a:xfrm>
              <a:off x="4702320" y="2196720"/>
              <a:ext cx="135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6"/>
          <p:cNvGrpSpPr/>
          <p:nvPr/>
        </p:nvGrpSpPr>
        <p:grpSpPr>
          <a:xfrm>
            <a:off x="2157480" y="2735280"/>
            <a:ext cx="1698480" cy="1506600"/>
            <a:chOff x="2157480" y="2735280"/>
            <a:chExt cx="1698480" cy="1506600"/>
          </a:xfrm>
        </p:grpSpPr>
        <p:pic>
          <p:nvPicPr>
            <p:cNvPr id="144" name="Picture 7" descr=""/>
            <p:cNvPicPr/>
            <p:nvPr/>
          </p:nvPicPr>
          <p:blipFill>
            <a:blip r:embed="rId2"/>
            <a:stretch/>
          </p:blipFill>
          <p:spPr>
            <a:xfrm>
              <a:off x="2157480" y="2735280"/>
              <a:ext cx="1698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8"/>
            <p:cNvSpPr/>
            <p:nvPr/>
          </p:nvSpPr>
          <p:spPr>
            <a:xfrm>
              <a:off x="2259000" y="3179160"/>
              <a:ext cx="1482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6" name="Object 9"/>
          <p:cNvGraphicFramePr/>
          <p:nvPr/>
        </p:nvGraphicFramePr>
        <p:xfrm>
          <a:off x="457200" y="4800600"/>
          <a:ext cx="5438880" cy="17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00600"/>
                    <a:ext cx="54388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Line 10"/>
          <p:cNvSpPr/>
          <p:nvPr/>
        </p:nvSpPr>
        <p:spPr>
          <a:xfrm flipH="1">
            <a:off x="426600" y="4071960"/>
            <a:ext cx="164484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857760" y="4071960"/>
            <a:ext cx="202536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7792920" y="5000760"/>
            <a:ext cx="546120" cy="591840"/>
          </a:xfrm>
          <a:prstGeom prst="downArrow">
            <a:avLst>
              <a:gd name="adj1" fmla="val 50000"/>
              <a:gd name="adj2" fmla="val 27103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3"/>
          <p:cNvSpPr/>
          <p:nvPr/>
        </p:nvSpPr>
        <p:spPr>
          <a:xfrm>
            <a:off x="6523200" y="2173320"/>
            <a:ext cx="941400" cy="766800"/>
          </a:xfrm>
          <a:prstGeom prst="pie">
            <a:avLst/>
          </a:prstGeom>
          <a:solidFill>
            <a:srgbClr val="2597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6647040" y="3187800"/>
            <a:ext cx="1780920" cy="815760"/>
            <a:chOff x="6647040" y="3187800"/>
            <a:chExt cx="1780920" cy="815760"/>
          </a:xfrm>
        </p:grpSpPr>
        <p:pic>
          <p:nvPicPr>
            <p:cNvPr id="153" name="Picture 15" descr=""/>
            <p:cNvPicPr/>
            <p:nvPr/>
          </p:nvPicPr>
          <p:blipFill>
            <a:blip r:embed="rId5"/>
            <a:stretch/>
          </p:blipFill>
          <p:spPr>
            <a:xfrm>
              <a:off x="6647040" y="3187800"/>
              <a:ext cx="1780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6"/>
            <p:cNvSpPr/>
            <p:nvPr/>
          </p:nvSpPr>
          <p:spPr>
            <a:xfrm>
              <a:off x="6655320" y="3414240"/>
              <a:ext cx="175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seen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Rectangle 17"/>
          <p:cNvSpPr/>
          <p:nvPr/>
        </p:nvSpPr>
        <p:spPr>
          <a:xfrm>
            <a:off x="6303240" y="4262400"/>
            <a:ext cx="245880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, Professor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6167160" y="3903840"/>
            <a:ext cx="47124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8448840" y="3903840"/>
            <a:ext cx="36324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3360600" y="2031840"/>
            <a:ext cx="901800" cy="594000"/>
          </a:xfrm>
          <a:prstGeom prst="pie">
            <a:avLst/>
          </a:prstGeom>
          <a:solidFill>
            <a:srgbClr val="2597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1" descr=""/>
          <p:cNvPicPr/>
          <p:nvPr/>
        </p:nvPicPr>
        <p:blipFill>
          <a:blip r:embed="rId6"/>
          <a:stretch/>
        </p:blipFill>
        <p:spPr>
          <a:xfrm>
            <a:off x="7719840" y="5738760"/>
            <a:ext cx="720720" cy="6285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2"/>
          <p:cNvSpPr/>
          <p:nvPr/>
        </p:nvSpPr>
        <p:spPr>
          <a:xfrm>
            <a:off x="6221160" y="4959360"/>
            <a:ext cx="152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u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0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vised vs. Unsupervised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848360" cy="37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3f24"/>
                </a:solidFill>
                <a:latin typeface="Times New Roman"/>
              </a:rPr>
              <a:t>Supervised learning (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ion: The training data (observations, measurements, etc.) are accompanied by labels indicating the class of th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ata is classified based on the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3f24"/>
                </a:solidFill>
                <a:latin typeface="Times New Roman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clust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 labels of training data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measurements, observations, etc. with the aim of establishing the existence of classes or clusters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-1117440">
              <a:lnSpc>
                <a:spcPct val="100000"/>
              </a:lnSpc>
              <a:buClr>
                <a:srgbClr val="170981"/>
              </a:buClr>
              <a:buFont typeface="Times New Roman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0981"/>
                </a:solidFill>
                <a:latin typeface="Times New Roman"/>
              </a:rPr>
              <a:t>Issues Regarding Classification and Prediction (1): Data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7480" cy="32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 data in order to reduce noise and handle missing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ce analysis (feature sel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irrelevant or redundant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 and/or normali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0981"/>
                </a:solidFill>
                <a:latin typeface="Times New Roman"/>
              </a:rPr>
              <a:t>Issues regarding classification and prediction (2): Evaluating classific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8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: classifier accuracy and predictor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and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construct the model (traini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use the model (classification/prediction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noise and missing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in disk-resident datab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and insight provided by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easures, e.g., goodness of rules, such as decision tree size or compactness of classific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3-18T07:30:23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