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36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20.png" ContentType="image/png"/>
  <Override PartName="/ppt/media/image2.wmf" ContentType="image/x-wmf"/>
  <Override PartName="/ppt/media/image19.png" ContentType="image/png"/>
  <Override PartName="/ppt/media/image18.wmf" ContentType="image/x-wmf"/>
  <Override PartName="/ppt/media/image17.wmf" ContentType="image/x-wmf"/>
  <Override PartName="/ppt/media/image16.png" ContentType="image/png"/>
  <Override PartName="/ppt/media/image15.png" ContentType="image/png"/>
  <Override PartName="/ppt/media/image1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2.xlsx" ContentType="application/vnd.openxmlformats-officedocument.spreadsheetml.shee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2D96B-635C-4B56-B0CF-0D07CB1A83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1615C-73B6-49E5-AD98-908864608C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: the expected information needed to classify a given s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 (entropy) : expected information based on the partitioning into subsets by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9FBCD-5903-4C9C-96A6-5CB576C0FF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ACC87-80C2-4880-8D3C-A3F336053E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1BF7D-6D2A-47AF-AF00-D7ED69EDB7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54160" y="692280"/>
            <a:ext cx="4554360" cy="341604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35967-19BE-4395-8B86-987D3B3C86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E6A28-FADF-4890-86E2-E6E7CAE940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54160" y="692280"/>
            <a:ext cx="4554360" cy="34160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921B5-A0FE-45CE-9B86-626B4B8926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611F1-883A-4D91-A246-1780759BD1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9FFBE-B579-406C-9FCF-F88D72B769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63D34-5333-4910-928E-A2EC828BFF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E581A-1D58-4CF0-8B5A-37B9DB0F95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54160" y="692280"/>
            <a:ext cx="4554360" cy="34160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DAF2F-1228-4B43-860E-21F59D1282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54160" y="692280"/>
            <a:ext cx="4554360" cy="341604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A82CB-1967-43B4-8BD8-F8EE44919C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54160" y="692280"/>
            <a:ext cx="4554360" cy="341604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C794D8-5288-4A7D-988D-FEA34C64A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6461D2-4999-4D9C-8978-F3AC7715B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B90446-79D0-4FA9-B5F9-077F7BFE1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E25712-E62F-4043-A9EC-0C1B3273C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B8304-A819-4B2F-BE8E-DF0143E7C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9BADE-840D-434F-BD21-ABF7FC163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E9321-0288-4355-A2E6-F6B3E6AE6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7A640-FF5C-45F2-A75C-3645D4BCD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3F9AE-C49C-4C88-9107-7AC67112E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45E98-104A-48DC-9F23-E99A79FE1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4060C-072A-49D6-86AE-239CC9DCC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9E40AB-D6D1-438F-868B-271FA687F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9707F-9657-4A48-9BF9-F95970B75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BDDD6-57AA-4800-A3E8-36450A796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810F1-4546-4048-AD2C-05540C655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D8CE8-BF9F-446E-A052-62B8E4CC4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8B160-F776-4D1F-A363-BC9C5981C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39D04B-9371-4A9E-8A51-816EA6179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ADC0A5-2275-4AF3-A8FB-777136E5C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9EFF94-208C-421D-BF0B-63AAC2602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BD67EE-2116-407B-B1D9-BD7BF1144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7DD8A8-28B1-46F9-BD30-83ED65DAD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ACF991-148A-495B-AD19-25B2D6BA4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C9412A-8611-4A5A-BFE8-6B50A5EE5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2342A-7EE9-447E-B409-E339E035EB2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C7F61-809A-4519-8099-1EAE018441D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package" Target="../embeddings/oleObject1.xlsx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6.wmf"/><Relationship Id="rId5" Type="http://schemas.openxmlformats.org/officeDocument/2006/relationships/image" Target="../media/image7.wmf"/><Relationship Id="rId6" Type="http://schemas.openxmlformats.org/officeDocument/2006/relationships/image" Target="../media/image8.wmf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09320" y="2437920"/>
            <a:ext cx="6629400" cy="172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ffffff"/>
                </a:solidFill>
                <a:latin typeface="Arial"/>
              </a:rPr>
              <a:t>第</a:t>
            </a: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zh-CN" sz="5000" spc="-1" strike="noStrike">
                <a:solidFill>
                  <a:srgbClr val="ffffff"/>
                </a:solidFill>
                <a:latin typeface="Arial"/>
              </a:rPr>
              <a:t>课 数据分类和预测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1981080" y="4647960"/>
            <a:ext cx="701064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徐从富，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副教授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浙江大学人工智能研究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1905120" y="549360"/>
            <a:ext cx="723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浙江大学本科生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《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数据挖掘导论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》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课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17440" indent="-1117440">
              <a:lnSpc>
                <a:spcPct val="100000"/>
              </a:lnSpc>
              <a:buClr>
                <a:srgbClr val="000000"/>
              </a:buClr>
              <a:buFont typeface="Times New Roman"/>
              <a:buAutoNum type="romanU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ecision Tree Induction: Training Datas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8" name="Object 3"/>
          <p:cNvGraphicFramePr/>
          <p:nvPr/>
        </p:nvGraphicFramePr>
        <p:xfrm>
          <a:off x="2236680" y="2097000"/>
          <a:ext cx="6450120" cy="3654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36680" y="2097000"/>
                    <a:ext cx="6450120" cy="365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0" name="Text Box 4"/>
          <p:cNvSpPr/>
          <p:nvPr/>
        </p:nvSpPr>
        <p:spPr>
          <a:xfrm>
            <a:off x="228600" y="2133720"/>
            <a:ext cx="19051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follows an  example of Quinlan’s ID3 (Playing Tenni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28600" y="76176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70981"/>
                </a:solidFill>
                <a:latin typeface="Times New Roman"/>
              </a:rPr>
              <a:t>Output: A Decision Tree for “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buys_computer</a:t>
            </a:r>
            <a:r>
              <a:rPr b="0" i="1" lang="en-US" sz="3600" spc="-1" strike="noStrike">
                <a:solidFill>
                  <a:srgbClr val="170981"/>
                </a:solidFill>
                <a:latin typeface="Times New Roman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Group 3"/>
          <p:cNvGrpSpPr/>
          <p:nvPr/>
        </p:nvGrpSpPr>
        <p:grpSpPr>
          <a:xfrm>
            <a:off x="1185480" y="1901880"/>
            <a:ext cx="5936400" cy="4190400"/>
            <a:chOff x="1185480" y="1901880"/>
            <a:chExt cx="5936400" cy="4190400"/>
          </a:xfrm>
        </p:grpSpPr>
        <p:sp>
          <p:nvSpPr>
            <p:cNvPr id="173" name="Rectangle 4"/>
            <p:cNvSpPr/>
            <p:nvPr/>
          </p:nvSpPr>
          <p:spPr>
            <a:xfrm>
              <a:off x="3531960" y="1901880"/>
              <a:ext cx="744480" cy="45828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ge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5"/>
            <p:cNvSpPr/>
            <p:nvPr/>
          </p:nvSpPr>
          <p:spPr>
            <a:xfrm>
              <a:off x="3299760" y="2876400"/>
              <a:ext cx="12031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overcas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"/>
            <p:cNvSpPr/>
            <p:nvPr/>
          </p:nvSpPr>
          <p:spPr>
            <a:xfrm>
              <a:off x="1693080" y="3790800"/>
              <a:ext cx="1203120" cy="458280"/>
            </a:xfrm>
            <a:prstGeom prst="rect">
              <a:avLst/>
            </a:prstGeom>
            <a:solidFill>
              <a:srgbClr val="00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tudent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Rectangle 7"/>
            <p:cNvSpPr/>
            <p:nvPr/>
          </p:nvSpPr>
          <p:spPr>
            <a:xfrm>
              <a:off x="5187960" y="3790800"/>
              <a:ext cx="1806480" cy="458280"/>
            </a:xfrm>
            <a:prstGeom prst="rect">
              <a:avLst/>
            </a:prstGeom>
            <a:solidFill>
              <a:srgbClr val="99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redit rating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8"/>
            <p:cNvSpPr/>
            <p:nvPr/>
          </p:nvSpPr>
          <p:spPr>
            <a:xfrm>
              <a:off x="1186920" y="4757760"/>
              <a:ext cx="4899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n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9"/>
            <p:cNvSpPr/>
            <p:nvPr/>
          </p:nvSpPr>
          <p:spPr>
            <a:xfrm>
              <a:off x="2750400" y="4757760"/>
              <a:ext cx="5918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Rectangle 10"/>
            <p:cNvSpPr/>
            <p:nvPr/>
          </p:nvSpPr>
          <p:spPr>
            <a:xfrm>
              <a:off x="6511680" y="4772160"/>
              <a:ext cx="6102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ai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11"/>
            <p:cNvSpPr/>
            <p:nvPr/>
          </p:nvSpPr>
          <p:spPr>
            <a:xfrm>
              <a:off x="4876200" y="4786200"/>
              <a:ext cx="12884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xcell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Line 12"/>
            <p:cNvSpPr/>
            <p:nvPr/>
          </p:nvSpPr>
          <p:spPr>
            <a:xfrm flipH="1">
              <a:off x="2308320" y="2394000"/>
              <a:ext cx="992160" cy="1324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Line 13"/>
            <p:cNvSpPr/>
            <p:nvPr/>
          </p:nvSpPr>
          <p:spPr>
            <a:xfrm flipH="1">
              <a:off x="3900600" y="2440080"/>
              <a:ext cx="1440" cy="546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Line 14"/>
            <p:cNvSpPr/>
            <p:nvPr/>
          </p:nvSpPr>
          <p:spPr>
            <a:xfrm>
              <a:off x="4565520" y="2470320"/>
              <a:ext cx="1489320" cy="130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15"/>
            <p:cNvSpPr/>
            <p:nvPr/>
          </p:nvSpPr>
          <p:spPr>
            <a:xfrm>
              <a:off x="2144880" y="2819520"/>
              <a:ext cx="837360" cy="4582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&lt;=3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16"/>
            <p:cNvSpPr/>
            <p:nvPr/>
          </p:nvSpPr>
          <p:spPr>
            <a:xfrm>
              <a:off x="5077800" y="2936880"/>
              <a:ext cx="663480" cy="4582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&gt;4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Line 17"/>
            <p:cNvSpPr/>
            <p:nvPr/>
          </p:nvSpPr>
          <p:spPr>
            <a:xfrm flipH="1">
              <a:off x="1479240" y="4344840"/>
              <a:ext cx="49356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Line 18"/>
            <p:cNvSpPr/>
            <p:nvPr/>
          </p:nvSpPr>
          <p:spPr>
            <a:xfrm>
              <a:off x="2608200" y="4390920"/>
              <a:ext cx="420840" cy="424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Line 19"/>
            <p:cNvSpPr/>
            <p:nvPr/>
          </p:nvSpPr>
          <p:spPr>
            <a:xfrm flipH="1">
              <a:off x="5454360" y="4390920"/>
              <a:ext cx="344520" cy="455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Line 20"/>
            <p:cNvSpPr/>
            <p:nvPr/>
          </p:nvSpPr>
          <p:spPr>
            <a:xfrm>
              <a:off x="6434280" y="4405320"/>
              <a:ext cx="328320" cy="395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Line 21"/>
            <p:cNvSpPr/>
            <p:nvPr/>
          </p:nvSpPr>
          <p:spPr>
            <a:xfrm>
              <a:off x="1430280" y="5229360"/>
              <a:ext cx="0" cy="43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Line 22"/>
            <p:cNvSpPr/>
            <p:nvPr/>
          </p:nvSpPr>
          <p:spPr>
            <a:xfrm>
              <a:off x="6815160" y="5183280"/>
              <a:ext cx="0" cy="43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Line 23"/>
            <p:cNvSpPr/>
            <p:nvPr/>
          </p:nvSpPr>
          <p:spPr>
            <a:xfrm>
              <a:off x="5516640" y="5199120"/>
              <a:ext cx="0" cy="43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Line 24"/>
            <p:cNvSpPr/>
            <p:nvPr/>
          </p:nvSpPr>
          <p:spPr>
            <a:xfrm>
              <a:off x="3044880" y="5199120"/>
              <a:ext cx="0" cy="43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Line 25"/>
            <p:cNvSpPr/>
            <p:nvPr/>
          </p:nvSpPr>
          <p:spPr>
            <a:xfrm>
              <a:off x="3902040" y="3294000"/>
              <a:ext cx="0" cy="43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Rectangle 26"/>
            <p:cNvSpPr/>
            <p:nvPr/>
          </p:nvSpPr>
          <p:spPr>
            <a:xfrm>
              <a:off x="1185480" y="5634000"/>
              <a:ext cx="489960" cy="45828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n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Rectangle 27"/>
            <p:cNvSpPr/>
            <p:nvPr/>
          </p:nvSpPr>
          <p:spPr>
            <a:xfrm>
              <a:off x="5270040" y="5634000"/>
              <a:ext cx="489960" cy="45828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n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Rectangle 28"/>
            <p:cNvSpPr/>
            <p:nvPr/>
          </p:nvSpPr>
          <p:spPr>
            <a:xfrm>
              <a:off x="2747520" y="5634000"/>
              <a:ext cx="591840" cy="45828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Rectangle 29"/>
            <p:cNvSpPr/>
            <p:nvPr/>
          </p:nvSpPr>
          <p:spPr>
            <a:xfrm>
              <a:off x="6519240" y="5634000"/>
              <a:ext cx="591840" cy="45828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Rectangle 30"/>
            <p:cNvSpPr/>
            <p:nvPr/>
          </p:nvSpPr>
          <p:spPr>
            <a:xfrm>
              <a:off x="3606120" y="3794040"/>
              <a:ext cx="591840" cy="45828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Rectangle 31"/>
            <p:cNvSpPr/>
            <p:nvPr/>
          </p:nvSpPr>
          <p:spPr>
            <a:xfrm>
              <a:off x="3352680" y="2971800"/>
              <a:ext cx="1067040" cy="304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30..4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lgorithm for Decision Tree Indu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5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Basic algorithm (a greedy algorithm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ree is constructed in a </a:t>
            </a:r>
            <a:r>
              <a:rPr b="0" lang="en-US" sz="2200" spc="-1" strike="noStrike">
                <a:solidFill>
                  <a:srgbClr val="666699"/>
                </a:solidFill>
                <a:latin typeface="Times New Roman"/>
              </a:rPr>
              <a:t>top-down recursive divide-and-conquer mann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t start, all the training examples are at the roo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ttributes are categorical (if continuous-valued, they are discretized in advanc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amples are partitioned recursively based on selected attribu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est attributes are selected on the basis of a heuristic or statistical measure (e.g., </a:t>
            </a:r>
            <a:r>
              <a:rPr b="0" lang="en-US" sz="2200" spc="-1" strike="noStrike">
                <a:solidFill>
                  <a:srgbClr val="666699"/>
                </a:solidFill>
                <a:latin typeface="Times New Roman"/>
              </a:rPr>
              <a:t>information gai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nditions for stopping partition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ll samples for a given node belong to the same cla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ere are no remaining attributes for further partitioning – </a:t>
            </a:r>
            <a:r>
              <a:rPr b="0" lang="en-US" sz="2200" spc="-1" strike="noStrike">
                <a:solidFill>
                  <a:srgbClr val="666699"/>
                </a:solidFill>
                <a:latin typeface="Times New Roman"/>
              </a:rPr>
              <a:t>majority voting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is employed for classifying the leaf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ere are no samples lef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2"/>
          <p:cNvSpPr/>
          <p:nvPr/>
        </p:nvSpPr>
        <p:spPr>
          <a:xfrm>
            <a:off x="609480" y="457200"/>
            <a:ext cx="75438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tribute Selection Measure: Information Gain (ID3/C4.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3"/>
          <p:cNvSpPr/>
          <p:nvPr/>
        </p:nvSpPr>
        <p:spPr>
          <a:xfrm>
            <a:off x="304920" y="1523880"/>
            <a:ext cx="84582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cccce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 the attribute with the highest information g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ccce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tain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uples of clas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ccce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Times New Roman"/>
              </a:rPr>
              <a:t>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easures info required to classify any arbitrary tu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ccce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ccce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Times New Roman"/>
              </a:rPr>
              <a:t>entrop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attribu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values 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…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ccce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ccce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ccce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Times New Roman"/>
              </a:rPr>
              <a:t>information gain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branching on attribu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ccce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5" name="Object 4"/>
          <p:cNvGraphicFramePr/>
          <p:nvPr/>
        </p:nvGraphicFramePr>
        <p:xfrm>
          <a:off x="1652760" y="2819520"/>
          <a:ext cx="3552480" cy="850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52760" y="2819520"/>
                    <a:ext cx="3552480" cy="85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7" name="Object 5"/>
          <p:cNvGraphicFramePr/>
          <p:nvPr/>
        </p:nvGraphicFramePr>
        <p:xfrm>
          <a:off x="1951200" y="4038480"/>
          <a:ext cx="3792240" cy="924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8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51200" y="4038480"/>
                    <a:ext cx="3792240" cy="92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9" name="Object 6"/>
          <p:cNvGraphicFramePr/>
          <p:nvPr/>
        </p:nvGraphicFramePr>
        <p:xfrm>
          <a:off x="1647720" y="5699160"/>
          <a:ext cx="4402080" cy="536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0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647720" y="5699160"/>
                    <a:ext cx="4402080" cy="53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51920" y="533160"/>
            <a:ext cx="89917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tribute Selection by Information Gain Compu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040280" cy="12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751"/>
              </a:spcBef>
              <a:buClr>
                <a:srgbClr val="00007d"/>
              </a:buClr>
              <a:buSzPct val="80000"/>
              <a:buFont typeface="Marlett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21328"/>
                </a:solidFill>
                <a:latin typeface="Times New Roman"/>
              </a:rPr>
              <a:t>Class P: buys_computer = “ye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751"/>
              </a:spcBef>
              <a:buClr>
                <a:srgbClr val="00007d"/>
              </a:buClr>
              <a:buSzPct val="80000"/>
              <a:buFont typeface="Marlett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21328"/>
                </a:solidFill>
                <a:latin typeface="Times New Roman"/>
              </a:rPr>
              <a:t>Class N: buys_computer = “no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751"/>
              </a:spcBef>
              <a:buClr>
                <a:srgbClr val="00007d"/>
              </a:buClr>
              <a:buSzPct val="80000"/>
              <a:buFont typeface="Marlett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21328"/>
                </a:solidFill>
                <a:latin typeface="Times New Roman"/>
              </a:rPr>
              <a:t>I(p, n) = I(9, 5) =0.9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751"/>
              </a:spcBef>
              <a:buClr>
                <a:srgbClr val="00007d"/>
              </a:buClr>
              <a:buSzPct val="80000"/>
              <a:buFont typeface="Marlett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21328"/>
                </a:solidFill>
                <a:latin typeface="Times New Roman"/>
              </a:rPr>
              <a:t>Compute the entropy for </a:t>
            </a:r>
            <a:r>
              <a:rPr b="0" i="1" lang="en-US" sz="2000" spc="-1" strike="noStrike">
                <a:solidFill>
                  <a:srgbClr val="121328"/>
                </a:solidFill>
                <a:latin typeface="Times New Roman"/>
              </a:rPr>
              <a:t>age</a:t>
            </a:r>
            <a:r>
              <a:rPr b="0" lang="en-US" sz="2000" spc="-1" strike="noStrike">
                <a:solidFill>
                  <a:srgbClr val="121328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724280" y="2743200"/>
            <a:ext cx="415296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21328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121328"/>
                </a:solidFill>
                <a:latin typeface="Times New Roman"/>
              </a:rPr>
              <a:t>means “age &lt;=30” has 5 out of 14 samples, with 2 yes’es  and 3 no’s. Henc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4" name="Object 5"/>
          <p:cNvGraphicFramePr/>
          <p:nvPr/>
        </p:nvGraphicFramePr>
        <p:xfrm>
          <a:off x="762120" y="2743200"/>
          <a:ext cx="3354120" cy="1440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743200"/>
                    <a:ext cx="3354120" cy="144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16" name="Object 6"/>
              <p:cNvSpPr txBox="1"/>
              <p:nvPr/>
            </p:nvSpPr>
            <p:spPr>
              <a:xfrm>
                <a:off x="4876920" y="1371600"/>
                <a:ext cx="34290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E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age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</m:den>
                        </m:f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2,3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</m:den>
                        </m:f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4,0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</m:den>
                        </m:f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3,2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94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" name="Object 7"/>
              <p:cNvSpPr txBox="1"/>
              <p:nvPr/>
            </p:nvSpPr>
            <p:spPr>
              <a:xfrm>
                <a:off x="5181480" y="5410080"/>
                <a:ext cx="3594240" cy="119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Gain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income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29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Gain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studen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51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Gain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redi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ating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48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" name="Object 8"/>
              <p:cNvSpPr txBox="1"/>
              <p:nvPr/>
            </p:nvSpPr>
            <p:spPr>
              <a:xfrm>
                <a:off x="4648320" y="4343400"/>
                <a:ext cx="44956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Gain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age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,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E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age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46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19" name="Object 9"/>
          <p:cNvGraphicFramePr/>
          <p:nvPr/>
        </p:nvGraphicFramePr>
        <p:xfrm>
          <a:off x="152280" y="4191120"/>
          <a:ext cx="4419720" cy="26668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20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280" y="4191120"/>
                    <a:ext cx="4419720" cy="26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21" name="Object 10"/>
              <p:cNvSpPr txBox="1"/>
              <p:nvPr/>
            </p:nvSpPr>
            <p:spPr>
              <a:xfrm>
                <a:off x="4495680" y="2743200"/>
                <a:ext cx="1073160" cy="66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den>
                    </m:f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2,3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2" name="Text Box 11"/>
          <p:cNvSpPr/>
          <p:nvPr/>
        </p:nvSpPr>
        <p:spPr>
          <a:xfrm>
            <a:off x="4800600" y="4876920"/>
            <a:ext cx="153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21328"/>
                </a:solidFill>
                <a:latin typeface="Times New Roman"/>
              </a:rPr>
              <a:t>Similarly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uting Information-Gain for Continuous-Value Attribu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62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t attribu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e a continuous-valued attribu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62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st determine the </a:t>
            </a:r>
            <a:r>
              <a:rPr b="0" lang="en-US" sz="2000" spc="-1" strike="noStrike">
                <a:solidFill>
                  <a:srgbClr val="666699"/>
                </a:solidFill>
                <a:latin typeface="Times New Roman"/>
              </a:rPr>
              <a:t>best split poi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for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24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rt the valu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 increasing or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24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ypically, the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midpoi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etween each pair of adjacent values is considered as a possible split po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5000"/>
              </a:lnSpc>
              <a:spcBef>
                <a:spcPts val="624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+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/2 is the midpoint between the values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+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24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point with the 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minimum expected information requireme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for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lected as the split-point for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li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he set of tuple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atisfying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ahoma"/>
              </a:rPr>
              <a:t>≤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plit-point, 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he set of tuple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atisfying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&gt; split-po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5550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Extracting Classification Rules from Tree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8305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2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present the knowledge in the form of </a:t>
            </a:r>
            <a:r>
              <a:rPr b="0" lang="en-US" sz="1800" spc="-1" strike="noStrike">
                <a:solidFill>
                  <a:srgbClr val="666699"/>
                </a:solidFill>
                <a:latin typeface="Times New Roman"/>
              </a:rPr>
              <a:t>IF-THE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ru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2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ne rule is created for each path from the root to a le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2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ach attribute-value pair along a path forms a conj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2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leaf node holds the class predi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2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ules are easier for humans to underst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2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ag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= “&lt;=30” AND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studen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= “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”  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THE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buys_comput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= “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ag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= “&lt;=30” AND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studen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= “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ye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” 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THE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buys_comput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= “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ye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ag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= “31…40”                                 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THE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buys_comput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= “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ye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ag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= “&gt;40”   AND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credit_rating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= “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excellen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”  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THE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buys_computer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 “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ye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ag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= “&lt;=30” AND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credit_rating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= “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fai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” 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THE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buys_comput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= “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28600" y="53316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void Overfitting in Classific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Overfitt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 An induced tree may overfit the training dat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oo many branches, some may reflect anomalies due to noise or outli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oor accuracy for unseen samp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pproaches to avoid overfit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Prepruning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: Halt tree construction early—do not split a node if this would result in the goodness measure falling below a threshol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55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ifficult to choose an appropriate threshol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Postpruning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: Remove branches from a “fully grown” tree—get a sequence of progressively pruned tre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55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 a set of data different from the training data to decide which is the “best pruned tree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to Determine the Final Tree Siz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34400" cy="3652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parate training (2/3) and testing (1/3) 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cross valid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all the data for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10000"/>
              </a:lnSpc>
              <a:spcBef>
                <a:spcPts val="9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apply a </a:t>
            </a:r>
            <a:r>
              <a:rPr b="0" lang="en-US" sz="2400" spc="-1" strike="noStrike">
                <a:solidFill>
                  <a:srgbClr val="666699"/>
                </a:solidFill>
                <a:latin typeface="Times New Roman"/>
              </a:rPr>
              <a:t>statistical te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e.g., chi-square) to estimate whether expanding or pruning a node may improve the entire distrib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9172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Enhancements to Basic Decision Tree Induc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228240" y="17524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5000"/>
              </a:lnSpc>
              <a:spcBef>
                <a:spcPts val="7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ow for continuous-valued attrib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68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ynamically define new discrete-valued attributes that partition the continuous attribute value into a discrete set of interva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ndle missing attribute val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68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ssign the most common value of the attribu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68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ssign probability to each of the possible valu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ribute co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68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reate new attributes based on existing ones that are sparsely represent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68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is reduces fragmentation, repetition, and replic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4"/>
          <p:cNvSpPr/>
          <p:nvPr/>
        </p:nvSpPr>
        <p:spPr>
          <a:xfrm>
            <a:off x="1905120" y="3352680"/>
            <a:ext cx="75960" cy="76320"/>
          </a:xfrm>
          <a:prstGeom prst="flowChartInternalStorag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15480" bIns="15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Line 5"/>
          <p:cNvSpPr/>
          <p:nvPr/>
        </p:nvSpPr>
        <p:spPr>
          <a:xfrm>
            <a:off x="990720" y="3581280"/>
            <a:ext cx="70866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Line 6"/>
          <p:cNvSpPr/>
          <p:nvPr/>
        </p:nvSpPr>
        <p:spPr>
          <a:xfrm>
            <a:off x="990720" y="3505320"/>
            <a:ext cx="71625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内容提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22168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classification? What is predic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sues regarding classification and predi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sification by decision tree 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yesian Class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di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77929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assification in Large Databas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299880" y="1371600"/>
            <a:ext cx="8539200" cy="515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sification—a classical problem extensively studied by statisticians and machine learning researc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alability: Classifying data sets with millions of examples and hundreds of attributes with reasonable sp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y decision tree induction in data min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atively faster learning speed (than other classification metho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vertible to simple and easy to understand classification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use SQL queries for accessing datab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rable classification accuracy with other meth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4560" y="533160"/>
            <a:ext cx="88390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Scalable Decision Tree Induction Method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80520" y="1218960"/>
            <a:ext cx="853452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SLI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EDBT’96 — Mehta et al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s an index for each attribute and only class list and the current attribute list reside 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SPR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VLDB’96 — J. Shafer et al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tructs an attribute list data structu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PUBL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VLDB’98 — Rastogi &amp; Shi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grates tree splitting and tree pruning: stop growing the tree earl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RainFores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VLDB’98 — Gehrke, Ramakrishnan &amp; Gant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parates the scalability aspects from the criteria that determine the quality of the t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s an AVC-list (attribute, value, class labe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8153280" cy="406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resentation of Classification Resul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3" descr="class2"/>
          <p:cNvPicPr/>
          <p:nvPr/>
        </p:nvPicPr>
        <p:blipFill>
          <a:blip r:embed="rId1"/>
          <a:stretch/>
        </p:blipFill>
        <p:spPr>
          <a:xfrm>
            <a:off x="152280" y="685800"/>
            <a:ext cx="8763120" cy="617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8915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21328"/>
                </a:solidFill>
                <a:latin typeface="Times New Roman"/>
              </a:rPr>
              <a:t>Visualization of 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666699"/>
                </a:solidFill>
                <a:latin typeface="Times New Roman"/>
              </a:rPr>
              <a:t>Decision Tre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121328"/>
                </a:solidFill>
                <a:latin typeface="Times New Roman"/>
              </a:rPr>
              <a:t>in SGI/MineSet 3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3" descr=""/>
          <p:cNvPicPr/>
          <p:nvPr/>
        </p:nvPicPr>
        <p:blipFill>
          <a:blip r:embed="rId1"/>
          <a:stretch/>
        </p:blipFill>
        <p:spPr>
          <a:xfrm>
            <a:off x="0" y="685800"/>
            <a:ext cx="9144000" cy="617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840276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99"/>
                </a:solidFill>
                <a:latin typeface="Times New Roman"/>
              </a:rPr>
              <a:t>Interactive Visual Min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y Perception-Based Classification (PB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3" descr=""/>
          <p:cNvPicPr/>
          <p:nvPr/>
        </p:nvPicPr>
        <p:blipFill>
          <a:blip r:embed="rId1"/>
          <a:stretch/>
        </p:blipFill>
        <p:spPr>
          <a:xfrm>
            <a:off x="685800" y="1066680"/>
            <a:ext cx="7696080" cy="5791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533160"/>
            <a:ext cx="76964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1117440" indent="-1117440">
              <a:lnSpc>
                <a:spcPct val="100000"/>
              </a:lnSpc>
              <a:buClr>
                <a:srgbClr val="000000"/>
              </a:buClr>
              <a:buFont typeface="Times New Roman"/>
              <a:buAutoNum type="romanU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ayesian Classification: Wh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4582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obabilistic learn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 Calculate explicit probabilities for hypothesis, among the most practical approaches to certain types of learning 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crement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Each training example can incrementally increase/decrease the probability that a hypothesis is correct.  Prior knowledge can be combined with observed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obabilistic predic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 Predict multiple hypotheses, weighted by their probabi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tandar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Even when Bayesian methods are computationally intractable, they can provide a standard of optimal decision making against which other methods can be measu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762120"/>
            <a:ext cx="609624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ayesian Theorem: Basic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 a data sample whose class label is unkn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 a hypothesis tha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longs to clas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classification problems, determin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(H|X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the probability that the hypothesis holds given the observed data sampl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(H)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ior probability of hypothesi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i.e. the initial probability before we observe any data, reflects the background knowledg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(X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probability that sample data is obser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(X|H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probability of observing the sampl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given that the hypothesis hol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548496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yesian Theor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82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training dat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X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teriori probability of a hypothesi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, P(H|X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llows the Bayes theor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ally, this can be written 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teriori = likelihood x prior / ev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P (maximum posteriori) hypothe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actical difficulty: require initial knowledge of many probabilities, significant computational c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2" name="Object 4"/>
              <p:cNvSpPr txBox="1"/>
              <p:nvPr/>
            </p:nvSpPr>
            <p:spPr>
              <a:xfrm>
                <a:off x="1752480" y="2590920"/>
                <a:ext cx="365760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|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|</m:t>
                        </m:r>
                        <m:r>
                          <m:t xml:space="preserve">H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H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253" name="Object 5"/>
          <p:cNvGraphicFramePr/>
          <p:nvPr/>
        </p:nvGraphicFramePr>
        <p:xfrm>
          <a:off x="1219320" y="4724280"/>
          <a:ext cx="6172200" cy="68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4724280"/>
                    <a:ext cx="6172200" cy="68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77929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aïve Bayes Classifie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53416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simplified assumption: attributes are conditionally independ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roduct of occurrence of say 2 element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given the current class i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is the product of the probabilities of each element taken separately, given the same clas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([y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y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], C) = P(y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C) * P(y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ependence relation between attribut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eatly reduces the computation cost, only count the class distrib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the probabilit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(X|C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known, assig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the class with maximu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(X|C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 * P(C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7" name="Object 4"/>
              <p:cNvSpPr txBox="1"/>
              <p:nvPr/>
            </p:nvSpPr>
            <p:spPr>
              <a:xfrm>
                <a:off x="1143000" y="1676520"/>
                <a:ext cx="320040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∏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aining datas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9" name="Object 3"/>
          <p:cNvGraphicFramePr/>
          <p:nvPr/>
        </p:nvGraphicFramePr>
        <p:xfrm>
          <a:off x="2743200" y="1828800"/>
          <a:ext cx="6167520" cy="4495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6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1828800"/>
                    <a:ext cx="6167520" cy="449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1" name="Text Box 4"/>
          <p:cNvSpPr/>
          <p:nvPr/>
        </p:nvSpPr>
        <p:spPr>
          <a:xfrm>
            <a:off x="224640" y="2065320"/>
            <a:ext cx="22654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as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1:buys_computer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es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2:buys_computer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 samp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 =(age&lt;=30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come=medium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udent=y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_rating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ai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609480" y="1600200"/>
            <a:ext cx="8080560" cy="3827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0000"/>
          </a:bodyPr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Times New Roman"/>
              </a:rPr>
              <a:t>Classific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dicts categorical class labels (discrete or nomin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sifies data (constructs a model) based on the training set and the values (</a:t>
            </a:r>
            <a:r>
              <a:rPr b="0" lang="en-US" sz="2400" spc="-1" strike="noStrike">
                <a:solidFill>
                  <a:srgbClr val="666699"/>
                </a:solidFill>
                <a:latin typeface="Times New Roman"/>
              </a:rPr>
              <a:t>class label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n a classifying attribute and uses it in classifying new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Times New Roman"/>
              </a:rPr>
              <a:t>Prediction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inuous-valued functions, i.e., predicts unknown or missing valu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 ap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dit approv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rget marke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dical diagno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ud det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title"/>
          </p:nvPr>
        </p:nvSpPr>
        <p:spPr>
          <a:xfrm>
            <a:off x="685440" y="609480"/>
            <a:ext cx="7162920" cy="8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1117440" indent="-1117440">
              <a:lnSpc>
                <a:spcPct val="100000"/>
              </a:lnSpc>
              <a:buClr>
                <a:srgbClr val="000000"/>
              </a:buClr>
              <a:buFont typeface="Times New Roman"/>
              <a:buAutoNum type="roman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assification vs. Predi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755640" y="457200"/>
            <a:ext cx="76327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Naïve Bayesian Classifier:  An 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e P(X|Ci) for each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(age=“&lt;30” | buys_computer=“yes”)  = 2/9=0.22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(age=“&lt;30” | buys_computer=“no”) = 3/5 =0.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(income=“medium” | buys_computer=“yes”)= 4/9 =0.44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(income=“medium” | buys_computer=“no”) = 2/5 = 0.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(student=“yes” | buys_computer=“yes)= 6/9 =0.66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(student=“yes” | buys_computer=“no”)= 1/5=0.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(credit_rating=“fair” | buys_computer=“yes”)=6/9=0.66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(credit_rating=“fair” | buys_computer=“no”)=2/5=0.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X=(age&lt;=30 , income =medium, student=yes, credit_rating=fai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(X|Ci) :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P(X|buys_computer=“yes”)= 0.222 x 0.444 x 0.667 x 0.0.667 =0.04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(X|buys_computer=“no”)= 0.6 x 0.4 x 0.2 x 0.4 =0.01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(X|Ci)*P(Ci ) :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(X|buys_computer=“yes”) * P(buys_computer=“yes”)=0.0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(X|buys_computer=“no”) * P(buys_computer=“no”)=0.00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refore,  X belongs to  class “buys_computer=yes”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76327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aïve Bayesian Classifier: Com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61048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vantag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sy to implem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od results obtained in most of the c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dvan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mption: class conditional independence, therefore loss of accura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actically, dependencies exist among variabl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.g.,  hospitals: patients: Profile: age, family history et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ymptoms: fever, cough etc., Disease: lung cancer, diabetes et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cies among these cannot be modeled by Naïve Bayesian Classifi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to deal with these dependenci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yesian Belief Network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ayesian Belief Network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yesian belief network allows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bs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variables conditionally independ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graphical model of causal relationsh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resent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pendenc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mong the variabl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s a specification of joint probability distribu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AutoShape 4"/>
          <p:cNvSpPr/>
          <p:nvPr/>
        </p:nvSpPr>
        <p:spPr>
          <a:xfrm>
            <a:off x="1447920" y="4876920"/>
            <a:ext cx="457200" cy="457200"/>
          </a:xfrm>
          <a:prstGeom prst="flowChartConnector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9" name="Group 5"/>
          <p:cNvGrpSpPr/>
          <p:nvPr/>
        </p:nvGrpSpPr>
        <p:grpSpPr>
          <a:xfrm>
            <a:off x="1066680" y="4343400"/>
            <a:ext cx="1904760" cy="1905120"/>
            <a:chOff x="1066680" y="4343400"/>
            <a:chExt cx="1904760" cy="1905120"/>
          </a:xfrm>
        </p:grpSpPr>
        <p:sp>
          <p:nvSpPr>
            <p:cNvPr id="270" name="AutoShape 6"/>
            <p:cNvSpPr/>
            <p:nvPr/>
          </p:nvSpPr>
          <p:spPr>
            <a:xfrm>
              <a:off x="2209680" y="4724640"/>
              <a:ext cx="457200" cy="457200"/>
            </a:xfrm>
            <a:prstGeom prst="flowChartConnector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AutoShape 7"/>
            <p:cNvSpPr/>
            <p:nvPr/>
          </p:nvSpPr>
          <p:spPr>
            <a:xfrm>
              <a:off x="1447560" y="5562720"/>
              <a:ext cx="457200" cy="457200"/>
            </a:xfrm>
            <a:prstGeom prst="flowChartConnector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"/>
            <p:cNvSpPr/>
            <p:nvPr/>
          </p:nvSpPr>
          <p:spPr>
            <a:xfrm>
              <a:off x="1218960" y="5181840"/>
              <a:ext cx="3049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9"/>
            <p:cNvSpPr/>
            <p:nvPr/>
          </p:nvSpPr>
          <p:spPr>
            <a:xfrm flipH="1">
              <a:off x="1752120" y="5105520"/>
              <a:ext cx="53316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AutoShape 10"/>
            <p:cNvSpPr/>
            <p:nvPr/>
          </p:nvSpPr>
          <p:spPr>
            <a:xfrm>
              <a:off x="2514240" y="5791320"/>
              <a:ext cx="457200" cy="457200"/>
            </a:xfrm>
            <a:prstGeom prst="flowChartConnector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11"/>
            <p:cNvSpPr/>
            <p:nvPr/>
          </p:nvSpPr>
          <p:spPr>
            <a:xfrm>
              <a:off x="2514240" y="5181840"/>
              <a:ext cx="15264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12"/>
            <p:cNvSpPr/>
            <p:nvPr/>
          </p:nvSpPr>
          <p:spPr>
            <a:xfrm>
              <a:off x="1066680" y="4343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13"/>
            <p:cNvSpPr/>
            <p:nvPr/>
          </p:nvSpPr>
          <p:spPr>
            <a:xfrm>
              <a:off x="2285640" y="4343400"/>
              <a:ext cx="7632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8" name="Text Box 14"/>
          <p:cNvSpPr/>
          <p:nvPr/>
        </p:nvSpPr>
        <p:spPr>
          <a:xfrm>
            <a:off x="3429000" y="4038480"/>
            <a:ext cx="5548320" cy="207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des: random varia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nks: dependen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re the parents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he parent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dependency betwee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no loops or cyc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79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yesian Belief Network: An Examp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Oval 3"/>
          <p:cNvSpPr/>
          <p:nvPr/>
        </p:nvSpPr>
        <p:spPr>
          <a:xfrm>
            <a:off x="457200" y="1447920"/>
            <a:ext cx="1295280" cy="761760"/>
          </a:xfrm>
          <a:prstGeom prst="ellipse">
            <a:avLst/>
          </a:prstGeom>
          <a:solidFill>
            <a:srgbClr val="f6e6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ami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His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Oval 4"/>
          <p:cNvSpPr/>
          <p:nvPr/>
        </p:nvSpPr>
        <p:spPr>
          <a:xfrm>
            <a:off x="457200" y="3048120"/>
            <a:ext cx="1295280" cy="761760"/>
          </a:xfrm>
          <a:prstGeom prst="ellipse">
            <a:avLst/>
          </a:prstGeom>
          <a:solidFill>
            <a:srgbClr val="cc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ungCanc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Oval 5"/>
          <p:cNvSpPr/>
          <p:nvPr/>
        </p:nvSpPr>
        <p:spPr>
          <a:xfrm>
            <a:off x="533520" y="4724280"/>
            <a:ext cx="1295280" cy="762120"/>
          </a:xfrm>
          <a:prstGeom prst="ellipse">
            <a:avLst/>
          </a:prstGeom>
          <a:solidFill>
            <a:srgbClr val="fae2f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ositiveX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Oval 6"/>
          <p:cNvSpPr/>
          <p:nvPr/>
        </p:nvSpPr>
        <p:spPr>
          <a:xfrm>
            <a:off x="2666880" y="1447920"/>
            <a:ext cx="1295640" cy="76176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mok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Oval 7"/>
          <p:cNvSpPr/>
          <p:nvPr/>
        </p:nvSpPr>
        <p:spPr>
          <a:xfrm>
            <a:off x="2743200" y="3048120"/>
            <a:ext cx="1295280" cy="761760"/>
          </a:xfrm>
          <a:prstGeom prst="ellipse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mphyse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Oval 8"/>
          <p:cNvSpPr/>
          <p:nvPr/>
        </p:nvSpPr>
        <p:spPr>
          <a:xfrm>
            <a:off x="2895480" y="4724280"/>
            <a:ext cx="1295640" cy="762120"/>
          </a:xfrm>
          <a:prstGeom prst="ellipse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yspne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Line 9"/>
          <p:cNvSpPr/>
          <p:nvPr/>
        </p:nvSpPr>
        <p:spPr>
          <a:xfrm>
            <a:off x="1143000" y="2209680"/>
            <a:ext cx="0" cy="838440"/>
          </a:xfrm>
          <a:prstGeom prst="line">
            <a:avLst/>
          </a:prstGeom>
          <a:ln w="38160">
            <a:solidFill>
              <a:srgbClr val="cc0099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Line 10"/>
          <p:cNvSpPr/>
          <p:nvPr/>
        </p:nvSpPr>
        <p:spPr>
          <a:xfrm>
            <a:off x="1143000" y="3809880"/>
            <a:ext cx="0" cy="914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Line 11"/>
          <p:cNvSpPr/>
          <p:nvPr/>
        </p:nvSpPr>
        <p:spPr>
          <a:xfrm>
            <a:off x="3352680" y="2209680"/>
            <a:ext cx="0" cy="838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Line 12"/>
          <p:cNvSpPr/>
          <p:nvPr/>
        </p:nvSpPr>
        <p:spPr>
          <a:xfrm>
            <a:off x="3429000" y="3809880"/>
            <a:ext cx="0" cy="914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13"/>
          <p:cNvSpPr/>
          <p:nvPr/>
        </p:nvSpPr>
        <p:spPr>
          <a:xfrm flipH="1">
            <a:off x="1219320" y="2133720"/>
            <a:ext cx="1752480" cy="91440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14"/>
          <p:cNvSpPr/>
          <p:nvPr/>
        </p:nvSpPr>
        <p:spPr>
          <a:xfrm>
            <a:off x="1143000" y="3809880"/>
            <a:ext cx="2209680" cy="838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Rectangle 15"/>
          <p:cNvSpPr/>
          <p:nvPr/>
        </p:nvSpPr>
        <p:spPr>
          <a:xfrm>
            <a:off x="4267080" y="2590920"/>
            <a:ext cx="4648320" cy="1218960"/>
          </a:xfrm>
          <a:prstGeom prst="rect">
            <a:avLst/>
          </a:prstGeom>
          <a:solidFill>
            <a:srgbClr val="00e49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16"/>
          <p:cNvSpPr/>
          <p:nvPr/>
        </p:nvSpPr>
        <p:spPr>
          <a:xfrm>
            <a:off x="4419720" y="3200400"/>
            <a:ext cx="449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17"/>
          <p:cNvSpPr/>
          <p:nvPr/>
        </p:nvSpPr>
        <p:spPr>
          <a:xfrm>
            <a:off x="5105520" y="259092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18"/>
          <p:cNvSpPr/>
          <p:nvPr/>
        </p:nvSpPr>
        <p:spPr>
          <a:xfrm>
            <a:off x="5486400" y="2590920"/>
            <a:ext cx="0" cy="1218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19"/>
          <p:cNvSpPr/>
          <p:nvPr/>
        </p:nvSpPr>
        <p:spPr>
          <a:xfrm>
            <a:off x="7315200" y="2590920"/>
            <a:ext cx="0" cy="1218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20"/>
          <p:cNvSpPr/>
          <p:nvPr/>
        </p:nvSpPr>
        <p:spPr>
          <a:xfrm>
            <a:off x="6400800" y="2590920"/>
            <a:ext cx="0" cy="1218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21"/>
          <p:cNvSpPr/>
          <p:nvPr/>
        </p:nvSpPr>
        <p:spPr>
          <a:xfrm>
            <a:off x="8153280" y="2590920"/>
            <a:ext cx="0" cy="1218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Text Box 22"/>
          <p:cNvSpPr/>
          <p:nvPr/>
        </p:nvSpPr>
        <p:spPr>
          <a:xfrm>
            <a:off x="4740480" y="271944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Text Box 23"/>
          <p:cNvSpPr/>
          <p:nvPr/>
        </p:nvSpPr>
        <p:spPr>
          <a:xfrm>
            <a:off x="4579920" y="3252960"/>
            <a:ext cx="66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~L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Text Box 24"/>
          <p:cNvSpPr/>
          <p:nvPr/>
        </p:nvSpPr>
        <p:spPr>
          <a:xfrm>
            <a:off x="5492160" y="2233440"/>
            <a:ext cx="80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99"/>
                </a:solidFill>
                <a:latin typeface="Times New Roman"/>
              </a:rPr>
              <a:t>(FH, 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Text Box 25"/>
          <p:cNvSpPr/>
          <p:nvPr/>
        </p:nvSpPr>
        <p:spPr>
          <a:xfrm>
            <a:off x="6329520" y="220968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99"/>
                </a:solidFill>
                <a:latin typeface="Times New Roman"/>
              </a:rPr>
              <a:t>(FH, ~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Text Box 26"/>
          <p:cNvSpPr/>
          <p:nvPr/>
        </p:nvSpPr>
        <p:spPr>
          <a:xfrm>
            <a:off x="7243920" y="220968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99"/>
                </a:solidFill>
                <a:latin typeface="Times New Roman"/>
              </a:rPr>
              <a:t>(~FH, 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Text Box 27"/>
          <p:cNvSpPr/>
          <p:nvPr/>
        </p:nvSpPr>
        <p:spPr>
          <a:xfrm>
            <a:off x="8119440" y="2209680"/>
            <a:ext cx="101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99"/>
                </a:solidFill>
                <a:latin typeface="Times New Roman"/>
              </a:rPr>
              <a:t>(~FH, ~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Text Box 28"/>
          <p:cNvSpPr/>
          <p:nvPr/>
        </p:nvSpPr>
        <p:spPr>
          <a:xfrm>
            <a:off x="5762880" y="275760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0.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Text Box 29"/>
          <p:cNvSpPr/>
          <p:nvPr/>
        </p:nvSpPr>
        <p:spPr>
          <a:xfrm>
            <a:off x="5759640" y="332892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Text Box 30"/>
          <p:cNvSpPr/>
          <p:nvPr/>
        </p:nvSpPr>
        <p:spPr>
          <a:xfrm>
            <a:off x="6677280" y="275760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Text Box 31"/>
          <p:cNvSpPr/>
          <p:nvPr/>
        </p:nvSpPr>
        <p:spPr>
          <a:xfrm>
            <a:off x="6674040" y="332892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Text Box 32"/>
          <p:cNvSpPr/>
          <p:nvPr/>
        </p:nvSpPr>
        <p:spPr>
          <a:xfrm>
            <a:off x="7512480" y="271944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0.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Text Box 33"/>
          <p:cNvSpPr/>
          <p:nvPr/>
        </p:nvSpPr>
        <p:spPr>
          <a:xfrm>
            <a:off x="7515720" y="329076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Text Box 34"/>
          <p:cNvSpPr/>
          <p:nvPr/>
        </p:nvSpPr>
        <p:spPr>
          <a:xfrm>
            <a:off x="8277480" y="275760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Text Box 35"/>
          <p:cNvSpPr/>
          <p:nvPr/>
        </p:nvSpPr>
        <p:spPr>
          <a:xfrm>
            <a:off x="8274240" y="332892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0.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Text Box 36"/>
          <p:cNvSpPr/>
          <p:nvPr/>
        </p:nvSpPr>
        <p:spPr>
          <a:xfrm>
            <a:off x="609840" y="5715000"/>
            <a:ext cx="350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ayesian Belief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Text Box 37"/>
          <p:cNvSpPr/>
          <p:nvPr/>
        </p:nvSpPr>
        <p:spPr>
          <a:xfrm>
            <a:off x="4419720" y="4038480"/>
            <a:ext cx="4551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onditional probability table for the variable LungCanc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ows the conditional probability for each possible combination of its par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5" name="Object 38"/>
              <p:cNvSpPr txBox="1"/>
              <p:nvPr/>
            </p:nvSpPr>
            <p:spPr>
              <a:xfrm>
                <a:off x="5029200" y="5791320"/>
                <a:ext cx="31240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zn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∏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arents</m:t>
                            </m:r>
                            <m:r>
                              <m:t xml:space="preserve">(</m:t>
                            </m:r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76176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arning Bayesian Networ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0820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ral c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both the network structure and all variables observable: learn only the C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 structure known, some hidden variables: method of gradient descent, analogous to neural network lear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 structure unknown, all variables observable: search through the model space to reconstruct graph topolog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known structure, all hidden variables: no good algorithms known for this purp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. Heckerman, Bayesian networks for data m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17440" indent="-1117440">
              <a:lnSpc>
                <a:spcPct val="100000"/>
              </a:lnSpc>
              <a:buClr>
                <a:srgbClr val="000000"/>
              </a:buClr>
              <a:buFont typeface="Times New Roman"/>
              <a:buAutoNum type="romanU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Predictio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Numerical) prediction is similar to class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truct a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model to predict continuous or ordered  value for a given in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diction is different from class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assification refers to predict categorical class lab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diction models continuous-valued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jor method for prediction: reg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del the relationship between one or mo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ndepende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edict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variables and a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epende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vari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ression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near and multiple reg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n-linear reg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ther regression methods: generalized linear model, Poisson regression, log-linear models, regression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near Regression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inear regr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involves a response variable y and a single predictor variable 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 = 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ere w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y-intercept) and w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slope) are regression coefficients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ethod of least squar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estimates the best-fitting straigh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ltiple linear regr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involves more than one predictor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ining data is of the form 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,…, 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|D|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|D|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. For 2-D data, we may have: y = w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+ w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 w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lvable by extension of least square method or using SAS, S-Pl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y nonlinear functions can be transformed into the abo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2" name="Object 4"/>
              <p:cNvSpPr txBox="1"/>
              <p:nvPr/>
            </p:nvSpPr>
            <p:spPr>
              <a:xfrm>
                <a:off x="1143000" y="3200400"/>
                <a:ext cx="2224080" cy="8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|</m:t>
                            </m:r>
                            <m:r>
                              <m:t xml:space="preserve">D</m:t>
                            </m:r>
                            <m:r>
                              <m:t xml:space="preserve">|</m:t>
                            </m:r>
                          </m:sup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  <m:r>
                              <m:t xml:space="preserve">)</m:t>
                            </m:r>
                          </m:e>
                        </m:nary>
                      </m:num>
                      <m:den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|</m:t>
                            </m:r>
                            <m:r>
                              <m:t xml:space="preserve">D</m:t>
                            </m:r>
                            <m:r>
                              <m:t xml:space="preserve">|</m:t>
                            </m:r>
                          </m:sup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3" name="Object 5"/>
              <p:cNvSpPr txBox="1"/>
              <p:nvPr/>
            </p:nvSpPr>
            <p:spPr>
              <a:xfrm>
                <a:off x="4267080" y="3429000"/>
                <a:ext cx="155736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−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/>
          </p:nvPr>
        </p:nvSpPr>
        <p:spPr>
          <a:xfrm>
            <a:off x="304920" y="1295280"/>
            <a:ext cx="8686800" cy="518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nonlinear models can be modeled by a polynomial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polynomial regression model can be transformed into linear regression model. 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 = w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w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x + w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w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vertible to linear with new variables: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 = w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w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x + w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w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functions, such as power function, can also be transformed to linear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models are intractable nonlinear (e.g., sum of exponential term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sible to obtain least square estimates through extensive calculation on more complex formula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title"/>
          </p:nvPr>
        </p:nvSpPr>
        <p:spPr>
          <a:xfrm>
            <a:off x="4572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nlinear Regression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/>
          </p:nvPr>
        </p:nvSpPr>
        <p:spPr>
          <a:xfrm>
            <a:off x="304920" y="1295280"/>
            <a:ext cx="8610480" cy="518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neralized linear mod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ndation on which linear regression can be applied to modeling categorical response vari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riance of y is a function of the mean value of y, not a const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Logistic regress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models the prob. of some event occurring as a linear function of a set of predictor vari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Poisson regress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models the data that exhibit a Poisson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og-linear model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(for categorical dat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roximate discrete multidimensional prob. distribu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so useful for data compression and smooth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gression trees and model tre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ees to predict continuous values rather than class lab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title"/>
          </p:nvPr>
        </p:nvSpPr>
        <p:spPr>
          <a:xfrm>
            <a:off x="22860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Regression-Based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004240" cy="109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gression Trees and Model Tre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3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ression tree: proposed in CART system (Breiman et al. 198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12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: Classification And Regression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12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ch leaf stores a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ontinuous-valued predi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12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t is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verage value of the predicted attribut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for the training tuples that reach the lea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3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tree: proposed by Quinlan (199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12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ch leaf holds a regression model—a multivariate linear equation for the predicted attribu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12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more general case than regression tr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3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ression and model trees tend to be more accurate than linear regression when the data are not represented well by a simple linear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assification—A Two-Step Proces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Times New Roman"/>
              </a:rPr>
              <a:t>Model construc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describing a set of predetermined cla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ch tuple/sample is assumed to belong to a predefined class, as determined by the </a:t>
            </a:r>
            <a:r>
              <a:rPr b="0" lang="en-US" sz="2000" spc="-1" strike="noStrike">
                <a:solidFill>
                  <a:srgbClr val="666699"/>
                </a:solidFill>
                <a:latin typeface="Times New Roman"/>
              </a:rPr>
              <a:t>class label attribu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set of tuples used for model construction is </a:t>
            </a:r>
            <a:r>
              <a:rPr b="0" lang="en-US" sz="2000" spc="-1" strike="noStrike">
                <a:solidFill>
                  <a:srgbClr val="666699"/>
                </a:solidFill>
                <a:latin typeface="Times New Roman"/>
              </a:rPr>
              <a:t>training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model is represented as classification rules, decision trees, or mathematical formula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Times New Roman"/>
              </a:rPr>
              <a:t>Model usag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for classifying future or unknown ob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Times New Roman"/>
              </a:rPr>
              <a:t>Estimate accurac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the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known label of test sample is compared with the classified result from the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curacy rate is the percentage of test set samples that are correctly classified by the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st set is independent of training set, otherwise over-fitting will occ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the accuracy is acceptable, use the model to </a:t>
            </a:r>
            <a:r>
              <a:rPr b="0" lang="en-US" sz="2000" spc="-1" strike="noStrike">
                <a:solidFill>
                  <a:srgbClr val="666699"/>
                </a:solidFill>
                <a:latin typeface="Times New Roman"/>
              </a:rPr>
              <a:t>classify dat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uples whose class labels are not know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/>
          </p:nvPr>
        </p:nvSpPr>
        <p:spPr>
          <a:xfrm>
            <a:off x="380520" y="137160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dictive modeling: Predict data values or construct   generalized linear models based on the databas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 can only predict value ranges or category distrib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 outlin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nimal gener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ribute relevance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lized linear model co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di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ermine the major factors which influence the predi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relevance analysis: uncertainty measurement, entropy analysis, expert judgement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-level prediction: drill-down and roll-up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title"/>
          </p:nvPr>
        </p:nvSpPr>
        <p:spPr>
          <a:xfrm>
            <a:off x="533520" y="685440"/>
            <a:ext cx="8610480" cy="406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edictive Modeling in Multidimensional Databa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01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diction: Numerical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3" name="Picture 3" descr="predcurve"/>
          <p:cNvPicPr/>
          <p:nvPr/>
        </p:nvPicPr>
        <p:blipFill>
          <a:blip r:embed="rId1"/>
          <a:stretch/>
        </p:blipFill>
        <p:spPr>
          <a:xfrm>
            <a:off x="380880" y="1233360"/>
            <a:ext cx="8382240" cy="5396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662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diction: Categorical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Picture 3" descr="predpie"/>
          <p:cNvPicPr/>
          <p:nvPr/>
        </p:nvPicPr>
        <p:blipFill>
          <a:blip r:embed="rId1"/>
          <a:stretch/>
        </p:blipFill>
        <p:spPr>
          <a:xfrm>
            <a:off x="380880" y="1143000"/>
            <a:ext cx="8305920" cy="556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17440" indent="-1117440">
              <a:lnSpc>
                <a:spcPct val="100000"/>
              </a:lnSpc>
              <a:buClr>
                <a:srgbClr val="000000"/>
              </a:buClr>
              <a:buFont typeface="Times New Roman"/>
              <a:buAutoNum type="romanUcPeriod" startAt="6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38224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Classification</a:t>
            </a:r>
            <a:r>
              <a:rPr b="0" lang="en-US" sz="2000" spc="-1" strike="noStrike">
                <a:solidFill>
                  <a:srgbClr val="666699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2000" spc="-1" strike="noStrike">
                <a:solidFill>
                  <a:srgbClr val="666699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predic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re two forms of data analysis that can be used to extract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model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escribing important data classes or to predict future data trend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ffective and scalable methods have been developed for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decision trees induction, Naive Bayesian classification, Bayesian belief network, rule-based classifier, Backpropagation, Support Vector Machine (SVM), associative classification, nearest neighbor classifiers</a:t>
            </a:r>
            <a:r>
              <a:rPr b="0" lang="en-US" sz="2000" spc="-1" strike="noStrike">
                <a:solidFill>
                  <a:srgbClr val="666699"/>
                </a:solidFill>
                <a:latin typeface="Times New Roman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case-based reasonin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and other classification methods such as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genetic algorithms, rough set and fuzzy se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pproach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Linear, nonlinear, and generalized linear models of regress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 be used for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predic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Many nonlinear problems can be converted to linear problems by performing transformations on the predictor variables. 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Regression tre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model tre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re also used for prediction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17440" indent="-1117440">
              <a:lnSpc>
                <a:spcPct val="100000"/>
              </a:lnSpc>
              <a:buClr>
                <a:srgbClr val="000000"/>
              </a:buClr>
              <a:buFont typeface="Times New Roman"/>
              <a:buAutoNum type="romanUcPeriod" startAt="7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. R. Quinlan.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Induction of decision tre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Machine Learning, 1:81-106, 1986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. R. Quinlan.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C4.5: Programs for Machine Learning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organ Kaufmann, 199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. O. Duda, P. E. Hart, and D. G. Stork.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Pattern Classification (2nd ed.)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John Wiley &amp; Sons, 200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. M. Mitchell.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Machine Learn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McGraw Hill, 1997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07732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assification Process (1): Model Constr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Group 3"/>
          <p:cNvGrpSpPr/>
          <p:nvPr/>
        </p:nvGrpSpPr>
        <p:grpSpPr>
          <a:xfrm>
            <a:off x="2036880" y="1774800"/>
            <a:ext cx="1698480" cy="1506600"/>
            <a:chOff x="2036880" y="1774800"/>
            <a:chExt cx="1698480" cy="1506600"/>
          </a:xfrm>
        </p:grpSpPr>
        <p:pic>
          <p:nvPicPr>
            <p:cNvPr id="124" name="Picture 4" descr=""/>
            <p:cNvPicPr/>
            <p:nvPr/>
          </p:nvPicPr>
          <p:blipFill>
            <a:blip r:embed="rId1"/>
            <a:stretch/>
          </p:blipFill>
          <p:spPr>
            <a:xfrm>
              <a:off x="2036880" y="1774800"/>
              <a:ext cx="1698480" cy="150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Rectangle 5"/>
            <p:cNvSpPr/>
            <p:nvPr/>
          </p:nvSpPr>
          <p:spPr>
            <a:xfrm>
              <a:off x="2138400" y="2218680"/>
              <a:ext cx="14828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rain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6" name="Object 6"/>
          <p:cNvGraphicFramePr/>
          <p:nvPr/>
        </p:nvGraphicFramePr>
        <p:xfrm>
          <a:off x="289080" y="3825720"/>
          <a:ext cx="5437080" cy="24958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27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89080" y="3825720"/>
                    <a:ext cx="5437080" cy="24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" name="Line 7"/>
          <p:cNvSpPr/>
          <p:nvPr/>
        </p:nvSpPr>
        <p:spPr>
          <a:xfrm flipH="1">
            <a:off x="306000" y="3111480"/>
            <a:ext cx="1644840" cy="70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Line 8"/>
          <p:cNvSpPr/>
          <p:nvPr/>
        </p:nvSpPr>
        <p:spPr>
          <a:xfrm>
            <a:off x="3736800" y="3111480"/>
            <a:ext cx="2025720" cy="70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9"/>
          <p:cNvSpPr/>
          <p:nvPr/>
        </p:nvSpPr>
        <p:spPr>
          <a:xfrm>
            <a:off x="6483960" y="1627920"/>
            <a:ext cx="1865880" cy="82404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s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AutoShape 10"/>
          <p:cNvSpPr/>
          <p:nvPr/>
        </p:nvSpPr>
        <p:spPr>
          <a:xfrm rot="20460000">
            <a:off x="4235400" y="2074680"/>
            <a:ext cx="1657440" cy="483840"/>
          </a:xfrm>
          <a:prstGeom prst="rightArrow">
            <a:avLst>
              <a:gd name="adj1" fmla="val 50000"/>
              <a:gd name="adj2" fmla="val 85671"/>
            </a:avLst>
          </a:prstGeom>
          <a:solidFill>
            <a:srgbClr val="2597b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11"/>
          <p:cNvSpPr/>
          <p:nvPr/>
        </p:nvSpPr>
        <p:spPr>
          <a:xfrm>
            <a:off x="5952600" y="5316840"/>
            <a:ext cx="2999880" cy="118980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rank = ‘professor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 years &gt;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N tenured = ‘yes’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" name="Group 12"/>
          <p:cNvGrpSpPr/>
          <p:nvPr/>
        </p:nvGrpSpPr>
        <p:grpSpPr>
          <a:xfrm>
            <a:off x="6478560" y="3216240"/>
            <a:ext cx="1889280" cy="1506600"/>
            <a:chOff x="6478560" y="3216240"/>
            <a:chExt cx="1889280" cy="1506600"/>
          </a:xfrm>
        </p:grpSpPr>
        <p:pic>
          <p:nvPicPr>
            <p:cNvPr id="134" name="Picture 13" descr=""/>
            <p:cNvPicPr/>
            <p:nvPr/>
          </p:nvPicPr>
          <p:blipFill>
            <a:blip r:embed="rId4"/>
            <a:stretch/>
          </p:blipFill>
          <p:spPr>
            <a:xfrm>
              <a:off x="6478560" y="3216240"/>
              <a:ext cx="1889280" cy="150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Rectangle 14"/>
            <p:cNvSpPr/>
            <p:nvPr/>
          </p:nvSpPr>
          <p:spPr>
            <a:xfrm>
              <a:off x="6735960" y="3660120"/>
              <a:ext cx="13568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lassifi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Model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" name="Line 15"/>
          <p:cNvSpPr/>
          <p:nvPr/>
        </p:nvSpPr>
        <p:spPr>
          <a:xfrm flipH="1">
            <a:off x="5946480" y="4621320"/>
            <a:ext cx="531720" cy="714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Line 16"/>
          <p:cNvSpPr/>
          <p:nvPr/>
        </p:nvSpPr>
        <p:spPr>
          <a:xfrm>
            <a:off x="8369280" y="4543560"/>
            <a:ext cx="577800" cy="790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AutoShape 17"/>
          <p:cNvSpPr/>
          <p:nvPr/>
        </p:nvSpPr>
        <p:spPr>
          <a:xfrm>
            <a:off x="7143840" y="2576520"/>
            <a:ext cx="546120" cy="592200"/>
          </a:xfrm>
          <a:prstGeom prst="downArrow">
            <a:avLst>
              <a:gd name="adj1" fmla="val 50000"/>
              <a:gd name="adj2" fmla="val 27119"/>
            </a:avLst>
          </a:prstGeom>
          <a:solidFill>
            <a:srgbClr val="2597b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1920" y="5331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Classification Process (2): Use the Model in Prediction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Group 3"/>
          <p:cNvGrpSpPr/>
          <p:nvPr/>
        </p:nvGrpSpPr>
        <p:grpSpPr>
          <a:xfrm>
            <a:off x="4444920" y="1569960"/>
            <a:ext cx="1889280" cy="1506600"/>
            <a:chOff x="4444920" y="1569960"/>
            <a:chExt cx="1889280" cy="1506600"/>
          </a:xfrm>
        </p:grpSpPr>
        <p:pic>
          <p:nvPicPr>
            <p:cNvPr id="141" name="Picture 4" descr=""/>
            <p:cNvPicPr/>
            <p:nvPr/>
          </p:nvPicPr>
          <p:blipFill>
            <a:blip r:embed="rId1"/>
            <a:stretch/>
          </p:blipFill>
          <p:spPr>
            <a:xfrm>
              <a:off x="4444920" y="1569960"/>
              <a:ext cx="1889280" cy="150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Rectangle 5"/>
            <p:cNvSpPr/>
            <p:nvPr/>
          </p:nvSpPr>
          <p:spPr>
            <a:xfrm>
              <a:off x="4702320" y="2196720"/>
              <a:ext cx="13568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lassifi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Group 6"/>
          <p:cNvGrpSpPr/>
          <p:nvPr/>
        </p:nvGrpSpPr>
        <p:grpSpPr>
          <a:xfrm>
            <a:off x="2157480" y="2735280"/>
            <a:ext cx="1698480" cy="1506600"/>
            <a:chOff x="2157480" y="2735280"/>
            <a:chExt cx="1698480" cy="1506600"/>
          </a:xfrm>
        </p:grpSpPr>
        <p:pic>
          <p:nvPicPr>
            <p:cNvPr id="144" name="Picture 7" descr=""/>
            <p:cNvPicPr/>
            <p:nvPr/>
          </p:nvPicPr>
          <p:blipFill>
            <a:blip r:embed="rId2"/>
            <a:stretch/>
          </p:blipFill>
          <p:spPr>
            <a:xfrm>
              <a:off x="2157480" y="2735280"/>
              <a:ext cx="1698480" cy="150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Rectangle 8"/>
            <p:cNvSpPr/>
            <p:nvPr/>
          </p:nvSpPr>
          <p:spPr>
            <a:xfrm>
              <a:off x="2259000" y="3179160"/>
              <a:ext cx="14828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es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46" name="Object 9"/>
          <p:cNvGraphicFramePr/>
          <p:nvPr/>
        </p:nvGraphicFramePr>
        <p:xfrm>
          <a:off x="457200" y="4800600"/>
          <a:ext cx="5438880" cy="17654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47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4800600"/>
                    <a:ext cx="5438880" cy="176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8" name="Line 10"/>
          <p:cNvSpPr/>
          <p:nvPr/>
        </p:nvSpPr>
        <p:spPr>
          <a:xfrm flipH="1">
            <a:off x="426600" y="4071960"/>
            <a:ext cx="1644840" cy="70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Line 11"/>
          <p:cNvSpPr/>
          <p:nvPr/>
        </p:nvSpPr>
        <p:spPr>
          <a:xfrm>
            <a:off x="3857760" y="4071960"/>
            <a:ext cx="2025360" cy="70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AutoShape 12"/>
          <p:cNvSpPr/>
          <p:nvPr/>
        </p:nvSpPr>
        <p:spPr>
          <a:xfrm>
            <a:off x="7792920" y="5000760"/>
            <a:ext cx="546120" cy="591840"/>
          </a:xfrm>
          <a:prstGeom prst="downArrow">
            <a:avLst>
              <a:gd name="adj1" fmla="val 50000"/>
              <a:gd name="adj2" fmla="val 27103"/>
            </a:avLst>
          </a:prstGeom>
          <a:solidFill>
            <a:srgbClr val="2597b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Freeform 13"/>
          <p:cNvSpPr/>
          <p:nvPr/>
        </p:nvSpPr>
        <p:spPr>
          <a:xfrm>
            <a:off x="6523200" y="2173320"/>
            <a:ext cx="941400" cy="766800"/>
          </a:xfrm>
          <a:prstGeom prst="pie">
            <a:avLst/>
          </a:prstGeom>
          <a:solidFill>
            <a:srgbClr val="2597b8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Group 14"/>
          <p:cNvGrpSpPr/>
          <p:nvPr/>
        </p:nvGrpSpPr>
        <p:grpSpPr>
          <a:xfrm>
            <a:off x="6647040" y="3187800"/>
            <a:ext cx="1780920" cy="815760"/>
            <a:chOff x="6647040" y="3187800"/>
            <a:chExt cx="1780920" cy="815760"/>
          </a:xfrm>
        </p:grpSpPr>
        <p:pic>
          <p:nvPicPr>
            <p:cNvPr id="153" name="Picture 15" descr=""/>
            <p:cNvPicPr/>
            <p:nvPr/>
          </p:nvPicPr>
          <p:blipFill>
            <a:blip r:embed="rId5"/>
            <a:stretch/>
          </p:blipFill>
          <p:spPr>
            <a:xfrm>
              <a:off x="6647040" y="3187800"/>
              <a:ext cx="1780920" cy="81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Rectangle 16"/>
            <p:cNvSpPr/>
            <p:nvPr/>
          </p:nvSpPr>
          <p:spPr>
            <a:xfrm>
              <a:off x="6655320" y="3414240"/>
              <a:ext cx="17517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nseen Dat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5" name="Rectangle 17"/>
          <p:cNvSpPr/>
          <p:nvPr/>
        </p:nvSpPr>
        <p:spPr>
          <a:xfrm>
            <a:off x="6303240" y="4262400"/>
            <a:ext cx="2458800" cy="4582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Jeff, Professor, 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Line 18"/>
          <p:cNvSpPr/>
          <p:nvPr/>
        </p:nvSpPr>
        <p:spPr>
          <a:xfrm flipH="1">
            <a:off x="6167160" y="3903840"/>
            <a:ext cx="471240" cy="393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Line 19"/>
          <p:cNvSpPr/>
          <p:nvPr/>
        </p:nvSpPr>
        <p:spPr>
          <a:xfrm>
            <a:off x="8448840" y="3903840"/>
            <a:ext cx="363240" cy="349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Freeform 20"/>
          <p:cNvSpPr/>
          <p:nvPr/>
        </p:nvSpPr>
        <p:spPr>
          <a:xfrm>
            <a:off x="3360600" y="2031840"/>
            <a:ext cx="901800" cy="594000"/>
          </a:xfrm>
          <a:prstGeom prst="pie">
            <a:avLst/>
          </a:prstGeom>
          <a:solidFill>
            <a:srgbClr val="2597b8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Picture 21" descr=""/>
          <p:cNvPicPr/>
          <p:nvPr/>
        </p:nvPicPr>
        <p:blipFill>
          <a:blip r:embed="rId6"/>
          <a:stretch/>
        </p:blipFill>
        <p:spPr>
          <a:xfrm>
            <a:off x="7719840" y="5738760"/>
            <a:ext cx="720720" cy="628560"/>
          </a:xfrm>
          <a:prstGeom prst="rect">
            <a:avLst/>
          </a:prstGeom>
          <a:ln w="0">
            <a:noFill/>
          </a:ln>
        </p:spPr>
      </p:pic>
      <p:sp>
        <p:nvSpPr>
          <p:cNvPr id="160" name="Rectangle 22"/>
          <p:cNvSpPr/>
          <p:nvPr/>
        </p:nvSpPr>
        <p:spPr>
          <a:xfrm>
            <a:off x="6221160" y="4959360"/>
            <a:ext cx="1526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ur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40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upervised vs. Unsupervised Lear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33160" y="1523880"/>
            <a:ext cx="7848360" cy="371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3f24"/>
                </a:solidFill>
                <a:latin typeface="Times New Roman"/>
              </a:rPr>
              <a:t>Supervised learning (classific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12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ervision: The training data (observations, measurements, etc.) are accompanied by labels indicating the class of th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12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w data is classified based on the training 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3f24"/>
                </a:solidFill>
                <a:latin typeface="Times New Roman"/>
              </a:rPr>
              <a:t>Unsupervised learn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(cluster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12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ass labels of training data is unkn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12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set of measurements, observations, etc. with the aim of establishing the existence of classes or clusters in th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4560" y="5331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1117440" indent="-1117440">
              <a:lnSpc>
                <a:spcPct val="100000"/>
              </a:lnSpc>
              <a:buClr>
                <a:srgbClr val="170981"/>
              </a:buClr>
              <a:buFont typeface="Times New Roman"/>
              <a:buAutoNum type="romanU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70981"/>
                </a:solidFill>
                <a:latin typeface="Times New Roman"/>
              </a:rPr>
              <a:t>Issues Regarding Classification and Prediction (1): Data Prepar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09120" y="1828800"/>
            <a:ext cx="8007480" cy="32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clea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1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process data in order to reduce noise and handle missing val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evance analysis (feature selec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1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ove the irrelevant or redundant attrib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trans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1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lize and/or normaliz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0981"/>
                </a:solidFill>
                <a:latin typeface="Times New Roman"/>
              </a:rPr>
              <a:t>Issues regarding classification and prediction (2): Evaluating classification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37864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uracy: classifier accuracy and predictor accura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ed and scal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 to construct the model (training tim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 to use the model (classification/prediction tim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bust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ndling noise and missing val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al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fficiency in disk-resident databas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pret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standing and insight provided by the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measures, e.g., goodness of rules, such as decision tree size or compactness of classification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dmin</dc:creator>
  <dc:description/>
  <dc:language>en-US</dc:language>
  <cp:lastModifiedBy>Admin</cp:lastModifiedBy>
  <dcterms:modified xsi:type="dcterms:W3CDTF">2019-03-18T07:30:23Z</dcterms:modified>
  <cp:revision>13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