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57C-CEB8-4A68-BFFB-368F3EC0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697-C97E-4EA1-BC3D-78DC1445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EC2-D720-4C14-B62B-93C9BD03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A69-CEB7-418A-A206-BA342761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94F7-3239-4DEC-8C12-2CB3BAB3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7959-D5B3-4287-B479-278050E4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7F6F-0C46-47D7-835A-2E1BCA61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0CFA-1327-4D21-8918-4FAE6849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8C17-C890-4021-84E7-14A65C6D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9E14-5D53-497F-8A90-FB840015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F5A6-6A8D-44A6-9AE0-DCCE7543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A4A-3536-4787-A592-65134304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6C8F-C416-4F7B-8DD8-2D98DA7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A435-BC0B-437B-AD6E-468F9D59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00EA-2A6F-4575-ABEF-614A4497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E2B9-38C0-412B-985B-66E89E41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9B6E-D21D-4621-9F1F-B8F525B6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4B64-477F-40A3-AF67-44EFE32F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5C41-F7B8-4272-B2B5-7B47BE11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3264-5526-4F32-8C18-B3FE479C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7F06-3342-4C9A-81DD-19245F32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6594-07E2-44D8-B38B-3CE77F20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BE9-81FF-40BC-BFF5-3B0B8C74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62B8-087B-4970-972F-EE6177C6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9534-2597-4C01-A814-CAADC14D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AA09-E102-49C7-B7B7-38397D8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349A-3195-4E32-B055-FA4E162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8B40-5EC5-4285-ACB8-D504D1D8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D347-42D8-4D8E-B229-D4F1CC9D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2748-9682-4A21-A6B6-67826D07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C692-1B88-4B1E-945A-4277015B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C836-6E98-42BF-9285-86A5584C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470E-EC3E-462B-B605-51854DB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046-A781-4254-A4A5-73896461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DE08-80BC-43D3-93EC-38812C6D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658F6-A5BD-4DD3-86A2-C88B73C9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BD77-C940-44F8-BDEA-40B8EDA1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456F-5306-4259-ADED-6B43569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6D62F-2E41-42FE-A3A7-AA27A205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FF1B-219A-4FE4-B808-F844EEEA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0309-6D24-4A88-B85E-9EEF598F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5D8C-E42C-405C-A125-2013818B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3F55-7B2A-48DF-889C-2C0398F9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8D5A-F3F1-4ACD-B716-795578EA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5E0-90CD-45DC-8338-7205684A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254C-91A3-4429-9A80-C2103DB8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81EA-F36B-4A98-BA12-AC5EC988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8F8C-8408-4424-8489-9DBA956F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E26A-A0C4-4EF1-A498-19FAF017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0547-0DCA-461F-8ADB-A6D83354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905F9-B0B6-4AC7-B456-74DD860F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97ABF-FB99-487E-AD92-B131124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3D6D-799D-4067-9F6A-8306D675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6F02F-93D3-418B-B116-E4581D8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AFF11-7B2C-4950-B7F3-088A9C14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E23-CE80-450C-A932-83AD9D3A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0BB7F-D32C-48C2-9CE8-55E89040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7781F-409E-421B-931E-56485084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F441-F8BE-41BC-B3C0-82B8D583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E2E30-88DA-4CC3-AB9E-1FA456B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9763-158D-4AD3-A6EA-A68C2757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D9BB6-7F74-4F25-864B-7059391F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271DC-DD6B-466C-B699-629E03D6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6A69A-5F87-42E4-9383-42EB0FB9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6C475-DC53-4355-A426-428F5FA1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47F40-F68B-455F-96F7-24525A61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A0F-C02B-4C55-989D-50A4DA6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7E58-D4E1-4CE5-A5C2-0614435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0FD4-916D-4A71-ACDB-C41595FF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2FF6-3A71-44E2-B02B-F4C2A60A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AD39-F76B-4314-95D6-2015A2EB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BF828-2CEA-4C20-98CF-D6214B85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BA755-3784-46C7-AC01-8F640454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471D0-ABC0-458F-A20A-B24381F8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0519C-9DC8-488F-84FC-655F8CFE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B9E34-5441-4E91-B854-5789FEA3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7292-884C-4C0D-8760-059F13A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5FD-B585-4853-B17A-74D017F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DC7E-9DDF-4702-9667-CF84DAB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269C-D765-4D3E-B4E4-AA88D91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9C0E8-DEAA-49EF-B4A6-C887201D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36B50-35A2-4D47-82D4-0DEDD11D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15BF8-F055-43E8-9075-ACFE7F3B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B352E-E408-4AE0-9D5A-CFE415F8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EF032-010C-4EEC-B502-78D474E5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BF5AB-5507-40C5-A2A4-29D784D4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809E1-CE3D-43B9-AA45-199CA170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8DA33-90F4-452E-9714-6ACD62BF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B06-EBCB-435A-B657-5F7D990E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F1D65-7207-49AE-A054-FA62F22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6B5DB-117D-4CD3-A00D-8413FBA2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E95D7-1766-4EC9-A946-C54BD8DA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7CA47-572A-4B3D-98DC-32CF823E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3B53D-DB80-49A2-9628-4E42A18A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8977C-F82E-40CF-9075-975A682D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691C1-4502-49EC-AE1B-6F5543F8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9910-BA7C-4E83-BBE9-7BB3425B7E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5BD3-5F6F-4377-B93F-B85B27BC1D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B7C3-4C92-4329-AB8D-0898AC38F9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C20D-C989-407E-BC59-7931764324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446-E520-4049-93C9-59F3B12FC8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8A9C-E943-4C08-B9E6-D43CC9692E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DEF3-4C56-4C9D-9274-85408875B1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AC1C-47C3-4E23-8150-409A62221D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73120" y="1689120"/>
            <a:ext cx="7894440" cy="1901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omic Sans MS"/>
              </a:rPr>
              <a:t>PRESENTED BY ICN ROHANA BINTI MUS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ow conduction through the SA and AV nod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interrupt the reentry pathway through the AV nod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resses left ventricular function but effect is the transient due to short life tim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sion to sinus rhythm or paroxysmal supraventricular  tachycardia (PSVT) associated with accessory bypass tract (wolffparkinson – white syndrome) thalium stress tes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load reducing agent in low output state to prevent graft occlusion following aorta-coronary by pass surgery to produce controlled hypotension during cerebral aneurysm surgery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mg rapid IV push (1-3 sec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fter 1-2 min cardioversion does not occur , administer 12 mg rapid IV push ( 1-3 sec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AU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not be used i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r third degree heart bloc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ck sinus syndrom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 hypersensitivity to the dru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thma pati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DE EFFEC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VS-Transient bradycardia &amp; vantricular ectopy are command after termination of PSVT with adenosin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S-Dizziness , headach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- Facial flushing , SOB , Chest pain and nause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774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AUTIO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rological changes may occur ( slurred speech , altered conciousness , muscle twicthing , seizures and bradycardia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es should be reduced i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C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der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patic dysfun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1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5235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RSING IMPLICATIO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rapid bolus 1-2 sec because of the short half-life (10 sec) and followed by rapid saline flu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high level block develops after 1 dose , do not  repeat dose , monitor B/P 15-30 sec for several minute after administra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d at room tempreture 15º-30ºC. Do not refrigerate , as crystallization may occur , if crystals form- dissolve by warming at room tempretur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 the time of conversion to normal sinus rhythm , PVC , PAC , sinus bradycardia and sinus tachycardia as well as various degrees of AV block are seen on the ECG. These usually last only a few seconds and resolve without interven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 patient that facial flushing may occu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6:24:56Z</dcterms:created>
  <dc:creator>User</dc:creator>
  <dc:description/>
  <dc:language>en-US</dc:language>
  <cp:lastModifiedBy>User</cp:lastModifiedBy>
  <dcterms:modified xsi:type="dcterms:W3CDTF">2008-12-08T07:48:05Z</dcterms:modified>
  <cp:revision>9</cp:revision>
  <dc:subject/>
  <dc:title>CARDIOVASCULAR AGENT  ADENOSINE LIDOCAINE</dc:title>
</cp:coreProperties>
</file>