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C2D-9571-44B4-937E-1DD27934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78C-EE5B-473C-80F5-B071DAB0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40B-B09A-4B8D-9ACE-E076D59E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5A4-FC55-4F49-93F4-EEA8FBD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EBB6-FF5C-4AFA-A939-0E03DEA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3DF3-84D1-47EA-AE1E-C3AD708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0893-EB58-4A9F-9AF2-86C1A5F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9F4-1810-4385-9646-14C51671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5F2C-0584-4F82-8AB0-6E34D00F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79C4-3AC5-487A-AE96-D8725850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C506-F323-438D-8C51-F32F4ED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82E-588D-4D0C-9709-EA1E0A5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7E48-45AE-4A1C-AE55-0DE64510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925C-E7C7-48D2-8FBC-1F40932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B5BD-E928-44C2-B4F3-F502B37C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70C-9F44-4482-A380-BDAB199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DEA-E905-4362-89F9-D88FABEA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47F5-DE78-4530-B8FC-DBD57640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599B-4146-4987-B083-AA386B88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3895-D962-4E13-8CE9-56582C55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246CC-8781-4938-A7BE-C75A24B8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61FF-68E3-4C06-B34E-18D5574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80B-5F5B-4D1B-9BBD-0A7C2927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D25B-B6FA-45C5-B88D-22569AA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BD51-4D8F-4F67-BD45-9BA11091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6686-4A44-4D16-8CC8-FFE6D3C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91EA-7657-40B6-BC7F-26FACF3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121D-F48B-430E-970E-C36E16EB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1F2C-4A3C-46B9-8282-97AA6A36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378C-DA39-4D76-A98C-D4A7373B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9CA70-45E3-47A6-B8CB-A27A9261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8FA6-E86E-4337-A9F2-8AF6334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FF09-A14F-4F09-8F13-9BBD60B0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A5F-2FC4-482A-9C3D-C13002EC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5BEC-EB00-444D-9F3A-DE59A548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FE65-8AD2-4F88-A196-6DE4A8AA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E8DA-6856-4365-83EC-3475B64B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45DEA-FF38-4878-963D-5E3B7A2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261A-FF11-4458-BFC2-D9329EDB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3D2E-9CE4-4E27-AA49-3CE380D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3106-0D4E-4C48-A420-8781E782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9541-1B49-4994-A8A5-53E1CC9B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BAEF-84CF-45B3-87D0-2A87CFC6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5F209-F3C6-442D-8FB0-B2817955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D88-1055-40DF-9B6A-5D9130CE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130D-97D2-4630-B932-8A2674F3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0691-046B-4D79-96AC-95646E5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6E8D-A78A-4634-8056-575CC385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CA4B-7645-47C7-A657-4673EEA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07B4-DBC9-47EF-B1AC-1F01F9C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0CC0-A7BF-4CAB-91A2-C4C7F8D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4561-BA16-4C7E-B247-F181B90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ED52-0B85-4537-B780-33CF1A6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60C9-8463-44E0-859C-4BE5789C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370EF-7B56-45A1-A083-6C4982E4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916-DCA3-4CD4-858D-9DA2473D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CF59-3815-4094-95CF-AE3B652D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C31E-16BA-4905-90DD-E5293A30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E559-3692-4226-B581-C602A24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ED7F-6FE2-4682-8972-FFE432C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8EDB-D237-418B-99EB-2E8343F8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7258-9C22-4096-A2A8-4BAF6F2B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15B2-67A3-474D-962C-E1CB7F90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D63F-0A12-45B9-96E8-65300374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D116-D1E9-459C-A997-AEEACC7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0FA5-83CD-4CC2-A49D-33C05D5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9F7-2216-4914-B2F3-EBF1406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58C8-1D3E-43CA-8A24-570A257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D5B6-5D5B-4FE1-9848-B9B8AB49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F132-AD2B-454F-AFD2-3EBA597A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62279-5D77-4758-AC12-0F0AE2F5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272C-8AC0-4110-98E6-E3B77211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87E35-030C-4D07-85CD-986AF896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EEB90-1465-4838-9305-16328DB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4B0B-CCEF-4A56-A453-6366BB9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A854-CD07-41D0-81E2-C87713F9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93F87-6AF4-430B-93A2-AB980BE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5BF-A651-4999-BFF9-A95B15F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B8169-6F52-4B70-B2B1-1F27BAE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3551-F560-405C-8EDC-813CA5B3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8909-ADC8-4FA5-BFAF-7DCD0850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132FC-5FF6-4F5D-B436-2FC8C741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0C0E0-95C7-4B61-AE9F-B1CC00AC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62837-9C07-46C1-97A3-E0E000E7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E9231-6819-4CD6-ACFD-2D5BD343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9ED31-0EDF-47A6-BB1C-34EB586F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2C118-2EE8-4D08-9457-EF95B4D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F414A-52F3-4034-9AE0-9F61D2E0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E2F-85F7-4C0A-8A5C-21DE489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AD7BA-E626-4E7E-8010-B2667E5D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878E-3FDC-4903-AEA0-9E92D6D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FAA9-B575-4B37-9A21-7602D4FD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E009E-B36A-4DCA-916C-0AE5863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EDF8-733C-455E-B1C7-DA46EB9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FEF5-37EB-4B37-BA95-77580E85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53328-1AB7-49FB-A23E-5772E4BE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8DA-98B1-4648-A184-5C9B732FDD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573-77EE-41D5-8337-F75E9CFD3C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3F3B-C826-4770-ADB0-A7113067D7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8317-0115-4C24-B35A-578D2E21D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5A5-550A-4903-9438-F80BA3B884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200A-E09F-4FC3-9F71-4FA3681DEB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E597-33CC-4097-B1F1-B53A1DA4E1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E62C-B331-435B-AC8D-7F416FC190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73120" y="1689120"/>
            <a:ext cx="7894440" cy="1901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omic Sans MS"/>
              </a:rPr>
              <a:t>PRESENTED BY ICN ROHANA BINTI MU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w conduction through the SA and AV no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interrupt the reentry pathway through the AV no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resses left ventricular function but effect is the transient due to short life tim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sion to sinus rhythm or paroxysmal supraventricular  tachycardia (PSVT) associated with accessory bypass tract (wolffparkinson – white syndrome) thalium stress tes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load reducing agent in low output state to prevent graft occlusion following aorta-coronary by pass surgery to produce controlled hypotension during cerebral aneurysm surger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mg rapid IV push (1-3 sec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fter 1-2 min cardioversion does not occur , administer 12 mg rapid IV push ( 1-3 sec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AU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not be used i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r third degree heart bloc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ck sinus syndrom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 hypersensitivity to the dru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thma pati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DE EFFEC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VS-Transient bradycardia &amp; vantricular ectopy are command after termination of PSVT with adenosin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NS-Dizziness , headach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- Facial flushing , SOB , Chest pain and nause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7740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AUTIO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rological changes may occur ( slurred speech , altered conciousness , muscle twicthing , seizures and bradycardia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es should be reduced i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C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derl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patic dysfun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1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RSING IMPLICATIO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rapid bolus 1-2 sec because of the short half-life (10 sec) and followed by rapid saline flus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high level block develops after 1 dose , do not  repeat dose , monitor B/P 15-30 sec for several minute after administ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d at room tempreture 15º-30ºC. Do not refrigerate , as crystallization may occur , if crystals form- dissolve by warming at room tempretur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 the time of conversion to normal sinus rhythm , PVC , PAC , sinus bradycardia and sinus tachycardia as well as various degrees of AV block are seen on the ECG. These usually last only a few seconds and resolve without interven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 patient that facial flushing may occu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6:24:56Z</dcterms:created>
  <dc:creator>User</dc:creator>
  <dc:description/>
  <dc:language>en-US</dc:language>
  <cp:lastModifiedBy>User</cp:lastModifiedBy>
  <dcterms:modified xsi:type="dcterms:W3CDTF">2008-12-08T07:48:05Z</dcterms:modified>
  <cp:revision>9</cp:revision>
  <dc:subject/>
  <dc:title>CARDIOVASCULAR AGENT  ADENOSINE LIDOCAINE</dc:title>
</cp:coreProperties>
</file>