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Clayderman-Chiquitit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516-D058-449A-88A7-38692068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25DF-C523-4AF4-A07F-81E5D577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6B1-43C4-483C-A13C-E4C77B86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958E-F085-435B-AD1C-5D2EC225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C8CF-D579-4453-9D01-CC8B70F8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EC5-55EE-4219-9ED7-97AAB320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A3A3-14DF-4B19-8B8B-51AE4C67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9A9A-71B4-4E69-BA46-EB83D55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07D-78B2-4166-88EF-59863472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AD9-8CB3-4C75-8473-B1A87C76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83F-6124-419F-8819-0944448E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E2B-BF64-4D09-87BE-57508D9F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478D-3C53-4DEC-82D8-E9750695C4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ayderman-Chiquitit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24840" y="189000"/>
            <a:ext cx="72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- Paradoja de los Sentimientos (y la lógic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corazón tiene razones que la razón no tie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Pasc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2" name="Clayderman-Chiquitit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18680" y="235080"/>
            <a:ext cx="827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0- Paradoja de la Felic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ientras que objetivamente estamos mejor que nun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ubjetivamente nos encontra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rofundamente insatisfech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José Antonio Mari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6400" y="163440"/>
            <a:ext cx="877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1- Paradoja de la Sabidur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Quien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sabe mucho,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scucha;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quien sabe poco, hab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Quien sabe mucho, pregunta;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quien sabe poco, sentencia”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jardin"/>
          <p:cNvPicPr/>
          <p:nvPr/>
        </p:nvPicPr>
        <p:blipFill>
          <a:blip r:embed="rId1"/>
          <a:stretch/>
        </p:blipFill>
        <p:spPr>
          <a:xfrm>
            <a:off x="-181080" y="-144360"/>
            <a:ext cx="9506160" cy="7173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1721160" y="5937120"/>
            <a:ext cx="56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2- Paradoja de la Generos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uanto más damos, más recibimo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95280" y="150840"/>
            <a:ext cx="47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13- Paradoja del Conocimi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l hombre busca respuest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y encuentra pregunt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792080" y="36360"/>
            <a:ext cx="58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4- Paradoja del Hum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La risa es una cosa demasiado seri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Groucho Mar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784880" y="176040"/>
            <a:ext cx="556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5- Paradoja de lo Cotidi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o más pequeño es lo más grand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958040" y="5530680"/>
            <a:ext cx="523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16- Paradoja del Silenc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l silencio es el grito más fuert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(Shopenhauer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55000" y="5562720"/>
            <a:ext cx="567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7- Paradoja del Expert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 hay nada peor que un exp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ara evitar el progreso en un camp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845880" y="3645000"/>
            <a:ext cx="51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8- Paradoja de la Rique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 es más rico el que más tie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ino el que menos necesit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912600" y="181080"/>
            <a:ext cx="731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19- Paradoja del Cariñ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ientras más amor das, de más amor te llen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87948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-81000" y="5516640"/>
            <a:ext cx="92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2- Paradoja de la Cegu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o esencial es invisible a los ojos. Sólo se ve con el coraz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El Principi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009440" y="163440"/>
            <a:ext cx="712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20- Paradoja del Disfru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ufrimos demasiado por lo poco que nos fal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y gozamos poco de lo mucho que tenemo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Shakespear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06280" y="5946840"/>
            <a:ext cx="87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3- Paradoja de la Improvis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mejor improvisación es la adecuadamente preparad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071360" y="4919760"/>
            <a:ext cx="725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4- Paradoja de la 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televisión es una fuente de cultur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cada vez que alguien la enciend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e voy a la habitación de al lado a leer un libro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Groucho Mar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67640" y="189000"/>
            <a:ext cx="818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5- Paradoja de la Ayu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i deseas que alguien te haga un trabaj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ídeselo a quien esté ocup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l que está sin hacer nada te dirá que no tiene tiemp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932400" y="5641920"/>
            <a:ext cx="724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6- Paradoja del Din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Era un hombre tan pobre, tan pobre, tan pob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que lo único que tenía era dine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815840" y="189000"/>
            <a:ext cx="549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7- Paradoja del Tiem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Vísteme despacio que tengo pris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100160" y="5183280"/>
            <a:ext cx="692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8- Paradoja de la Tecnolog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tecnología nos acerca a los más lejanos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s distancia de los más próximo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Michele Nors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80560" y="4797360"/>
            <a:ext cx="56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9- Paradoja del Sent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No llega antes el que va más rápi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ino el que sabe dónde v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(Séneca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23:07:34Z</dcterms:created>
  <dc:creator>Pin</dc:creator>
  <dc:description>20 paradojas célebres</dc:description>
  <dc:language>en-US</dc:language>
  <cp:lastModifiedBy>Rafael</cp:lastModifiedBy>
  <dcterms:modified xsi:type="dcterms:W3CDTF">2011-08-18T09:18:11Z</dcterms:modified>
  <cp:revision>47</cp:revision>
  <dc:subject/>
  <dc:title>Con frases memorables</dc:title>
</cp:coreProperties>
</file>