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Clayderman-Chiquitit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BA20-211F-4038-BB1F-45777C87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5A5F-0C63-4782-A372-8B903713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056-4781-4191-A38B-0EC78C1A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304-9D55-42E7-AAEB-5061DD65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E21B-E358-487E-9870-CB29FDE6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5BCF-B3AF-4381-AFCF-D610D555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B76-5CAD-48CE-B2B9-40DE16F4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3E3A-CCF9-4CDE-880C-3219D1F0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35FD-4E96-4AEA-8DD5-0861213E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31E2-1017-49A1-81E9-9C31A9F0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F77-43EB-473F-BF4C-FDD34CDC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A1F-E42B-4876-B9EA-70964852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600B-BD8B-4ED7-B9DF-9CEF02CED2D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ayderman-Chiquitit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24840" y="189000"/>
            <a:ext cx="72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1- Paradoja de los Sentimientos (y la lógic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l corazón tiene razones que la razón no tien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(Pasc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2" name="Clayderman-Chiquitit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18680" y="235080"/>
            <a:ext cx="827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10- Paradoja de la Felic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Mientras que objetivamente estamos mejor que nunc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ubjetivamente nos encontra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rofundamente insatisfech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(José Antonio Mari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76400" y="163440"/>
            <a:ext cx="877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11- Paradoja de la Sabidur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Quien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abe mucho,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scucha;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quien sabe poco, hab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Quien sabe mucho, pregunta;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quien sabe poco, sentencia”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jardin"/>
          <p:cNvPicPr/>
          <p:nvPr/>
        </p:nvPicPr>
        <p:blipFill>
          <a:blip r:embed="rId1"/>
          <a:stretch/>
        </p:blipFill>
        <p:spPr>
          <a:xfrm>
            <a:off x="-181080" y="-144360"/>
            <a:ext cx="9506160" cy="7173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1721160" y="5937120"/>
            <a:ext cx="56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12- Paradoja de la Generos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uanto más damos, más recibimo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195280" y="150840"/>
            <a:ext cx="473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13- Paradoja del Conoci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l hombre busca respues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y encuentra pregunta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792080" y="36360"/>
            <a:ext cx="58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14- Paradoja del Hum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La risa es una cosa demasiado seri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Groucho Mar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784880" y="176040"/>
            <a:ext cx="556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15- Paradoja de lo Cotidi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o más pequeño es lo más grand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958040" y="5530680"/>
            <a:ext cx="523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16- Paradoja del Silenc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l silencio es el grito más fuert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Shopenhauer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755000" y="5562720"/>
            <a:ext cx="567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17- Paradoja del Expert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No hay nada peor que un exp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ara evitar el progreso en un camp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845880" y="3645000"/>
            <a:ext cx="51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18- Paradoja de la Rique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No es más rico el que más tie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ino el que menos necesit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912600" y="181080"/>
            <a:ext cx="731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19- Paradoja del Cariñ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Mientras más amor das, de más amor te llena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879480" y="85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-81000" y="5516640"/>
            <a:ext cx="92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2- Paradoja de la Cegue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o esencial es invisible a los ojos. Sólo se ve con el coraz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(El Principi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009440" y="163440"/>
            <a:ext cx="712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20- Paradoja del Disfru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ufrimos demasiado por lo poco que nos fal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y gozamos poco de lo mucho que tenemo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(Shakespear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06280" y="5946840"/>
            <a:ext cx="870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3- Paradoja de la Improvis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 mejor improvisación es la adecuadamente preparad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071360" y="4919760"/>
            <a:ext cx="725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4- Paradoja de la Cul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 televisión es una fuente de cultu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ada vez que alguien la enciend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me voy a la habitación de al lado a leer un libro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(Groucho Mar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67640" y="189000"/>
            <a:ext cx="818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5- Paradoja de la Ayu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i deseas que alguien te haga un trabaj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ídeselo a quien esté ocupa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l que está sin hacer nada te dirá que no tiene tiemp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932400" y="5641920"/>
            <a:ext cx="724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6- Paradoja del Din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ra un hombre tan pobre, tan pobre, tan pob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que lo único que tenía era diner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815840" y="189000"/>
            <a:ext cx="549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7- Paradoja del Tiemp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Vísteme despacio que tengo pris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100160" y="5183280"/>
            <a:ext cx="69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8- Paradoja de la Tecnolog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 tecnología nos acerca a los más lejanos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nos distancia de los más próximo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(Michele Nor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780560" y="4797360"/>
            <a:ext cx="567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9- Paradoja del Senti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No llega antes el que va más rápi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ino el que sabe dónde v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(Séneca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23:07:34Z</dcterms:created>
  <dc:creator>Pin</dc:creator>
  <dc:description>20 paradojas célebres</dc:description>
  <dc:language>en-US</dc:language>
  <cp:lastModifiedBy>Rafael</cp:lastModifiedBy>
  <dcterms:modified xsi:type="dcterms:W3CDTF">2011-08-18T09:18:11Z</dcterms:modified>
  <cp:revision>47</cp:revision>
  <dc:subject/>
  <dc:title>Con frases memorables</dc:title>
</cp:coreProperties>
</file>