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  <p:custShowLst>
    <p:custShow name="Le tour" id="0">
      <p:sldLst>
        <p:sld r:id="rId3"/>
        <p:sld r:id="rId11"/>
        <p:sld r:id="rId14"/>
      </p:sldLst>
    </p:custShow>
    <p:custShow name="Copie de Le tour" id="1">
      <p:sldLst>
        <p:sld r:id="rId3"/>
        <p:sld r:id="rId11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225-8159-4DFA-AE0E-875D498F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C99-2852-4603-AE3B-C09F04AB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7B5-8CEA-470F-AF32-5E488992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459-17FA-48A9-9F41-FE600756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24E-4AD8-46CE-A7A3-8EE52F73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49A-63D6-4090-B2D7-0CC6866E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F34-321F-416F-9052-210A4AE5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20A-AA10-4E52-8714-4B5D0D91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497-ECB0-4FE8-B055-A46FEB20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71E-78D4-4850-8F75-634AEF95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5CC-3169-4616-8EBF-84B9CAFA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F7B0-FA99-4218-886F-43669719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4A2B-DF44-4141-9ED9-1D4D2FF2E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In a moment you will pass in a magical worl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066680"/>
            <a:ext cx="42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ccff"/>
                </a:solidFill>
                <a:latin typeface="Times New Roman"/>
              </a:rPr>
              <a:t>NOW look in my eyes and think your card</a:t>
            </a:r>
            <a:r>
              <a:rPr b="0" i="1" lang="pl-PL" sz="2400" spc="-1" strike="noStrike">
                <a:solidFill>
                  <a:srgbClr val="66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457200"/>
            <a:ext cx="429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I can’t find the card that you chose.</a:t>
            </a: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b2b2b2"/>
                </a:solidFill>
                <a:latin typeface="Times New Roman"/>
              </a:rPr>
              <a:t>…</a:t>
            </a:r>
            <a:r>
              <a:rPr b="0" i="1" lang="fr-FR" sz="2400" spc="-1" strike="noStrike">
                <a:solidFill>
                  <a:srgbClr val="b2b2b2"/>
                </a:solidFill>
                <a:latin typeface="Times New Roman"/>
              </a:rPr>
              <a:t>but i can read the card that you have on your min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1000" y="2438280"/>
            <a:ext cx="4297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¡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¡¡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YOUR CARD</a:t>
            </a: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 IT WAS DISAPPEARD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rot="17940000">
            <a:off x="626400" y="2021040"/>
            <a:ext cx="429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MAZING YAH!!!?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5157720"/>
            <a:ext cx="566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¡</a:t>
            </a:r>
            <a:r>
              <a:rPr b="1" i="1" lang="el-GR" sz="4800" spc="-1" strike="noStrike">
                <a:solidFill>
                  <a:srgbClr val="ffffff"/>
                </a:solidFill>
                <a:latin typeface="Times New Roman"/>
              </a:rPr>
              <a:t>….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In a little moment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You will feel something really st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You will see an illussion</a:t>
            </a: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 ...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ne amazing magic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f David Coperfield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ven if you used a simple program you will se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That I can scan your mind  from the monitor…</a:t>
            </a:r>
            <a:r>
              <a:rPr b="0" i="1" lang="el-G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81080"/>
            <a:ext cx="472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saw the 6 c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ink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ust think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n’t touch it.</a:t>
            </a: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n’t click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 will find in once what you thought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2:45:50Z</dcterms:created>
  <dc:creator>Petrina</dc:creator>
  <dc:description/>
  <dc:language>en-US</dc:language>
  <cp:lastModifiedBy>Petrina</cp:lastModifiedBy>
  <dcterms:modified xsi:type="dcterms:W3CDTF">2010-02-11T13:18:00Z</dcterms:modified>
  <cp:revision>3</cp:revision>
  <dc:subject/>
  <dc:title>In a moment you will pass in a magical world!</dc:title>
</cp:coreProperties>
</file>