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  <p:custShowLst>
    <p:custShow name="Le tour" id="0">
      <p:sldLst>
        <p:sld r:id="rId3"/>
        <p:sld r:id="rId11"/>
        <p:sld r:id="rId14"/>
      </p:sldLst>
    </p:custShow>
    <p:custShow name="Copie de Le tour" id="1">
      <p:sldLst>
        <p:sld r:id="rId3"/>
        <p:sld r:id="rId11"/>
        <p:sld r:id="rId14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0CC77-4336-40F6-BFFF-2A5D571629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163CB-C06A-4C7D-9FCD-6890B83FC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331F-B2E1-45A1-80A2-3273E44CA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568E-9DFD-4461-886D-BFC5431926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64BF-A7EC-4ADB-AD5C-056ACE83E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0CC8-91F8-434C-B5BF-A663E53521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B5572-DC94-4697-A756-2861951D1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701E-E390-4781-81A5-B1BA3219E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A46A-FF35-4B6E-87CC-16A79C593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47ACC-2DF5-4681-B231-11CB83B7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62B5-6593-4D2A-B07E-FA9D85696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F45DD-975F-4092-BCF3-CD4F1F7D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742E2-4849-4783-A1EC-BF90271C18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5028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600" spc="-1" strike="noStrike">
                <a:solidFill>
                  <a:srgbClr val="ffffff"/>
                </a:solidFill>
                <a:latin typeface="Times New Roman"/>
              </a:rPr>
              <a:t>In a moment you will pass in a magical worl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228600" y="1066680"/>
            <a:ext cx="4297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66ccff"/>
                </a:solidFill>
                <a:latin typeface="Times New Roman"/>
              </a:rPr>
              <a:t>NOW look in my eyes and think your card</a:t>
            </a:r>
            <a:r>
              <a:rPr b="0" i="1" lang="pl-PL" sz="2400" spc="-1" strike="noStrike">
                <a:solidFill>
                  <a:srgbClr val="66ccff"/>
                </a:solidFill>
                <a:latin typeface="Times New Roman"/>
              </a:rPr>
              <a:t>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52280" y="457200"/>
            <a:ext cx="4297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b2b2b2"/>
                </a:solidFill>
                <a:latin typeface="Times New Roman"/>
              </a:rPr>
              <a:t>I can’t find the card that you chose.</a:t>
            </a:r>
            <a:r>
              <a:rPr b="0" i="1" lang="nb-NO" sz="2400" spc="-1" strike="noStrike">
                <a:solidFill>
                  <a:srgbClr val="b2b2b2"/>
                </a:solidFill>
                <a:latin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400" spc="-1" strike="noStrike">
                <a:solidFill>
                  <a:srgbClr val="b2b2b2"/>
                </a:solidFill>
                <a:latin typeface="Times New Roman"/>
              </a:rPr>
              <a:t>…</a:t>
            </a:r>
            <a:r>
              <a:rPr b="0" i="1" lang="fr-FR" sz="2400" spc="-1" strike="noStrike">
                <a:solidFill>
                  <a:srgbClr val="b2b2b2"/>
                </a:solidFill>
                <a:latin typeface="Times New Roman"/>
              </a:rPr>
              <a:t>but i can read the card that you have on your mind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3352680" y="5408640"/>
            <a:ext cx="3505320" cy="9158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351000" y="2438280"/>
            <a:ext cx="42973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¡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SEE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¡¡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YOUR CARD</a:t>
            </a: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 IT WAS DISAPPEARD</a:t>
            </a:r>
            <a:r>
              <a:rPr b="0" lang="el-GR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9000">
    <p:randomBar dir="vert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" dur="5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0"/>
                            </p:stCondLst>
                            <p:childTnLst>
                              <p:par>
                                <p:cTn id="51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 rot="17940000">
            <a:off x="626400" y="2021040"/>
            <a:ext cx="42973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¿</a:t>
            </a:r>
            <a:r>
              <a:rPr b="1" i="1" lang="en-US" sz="4800" spc="-1" strike="noStrike">
                <a:solidFill>
                  <a:srgbClr val="ffffff"/>
                </a:solidFill>
                <a:latin typeface="Times New Roman"/>
              </a:rPr>
              <a:t>AMAZING YAH!!!??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5000">
    <p:randomBar dir="vert"/>
  </p:transition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042920" y="5157720"/>
            <a:ext cx="5668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b-NO" sz="4800" spc="-1" strike="noStrike">
                <a:solidFill>
                  <a:srgbClr val="ffffff"/>
                </a:solidFill>
                <a:latin typeface="Times New Roman"/>
              </a:rPr>
              <a:t>¡</a:t>
            </a:r>
            <a:r>
              <a:rPr b="1" i="1" lang="el-GR" sz="4800" spc="-1" strike="noStrike">
                <a:solidFill>
                  <a:srgbClr val="ffffff"/>
                </a:solidFill>
                <a:latin typeface="Times New Roman"/>
              </a:rPr>
              <a:t>….</a:t>
            </a:r>
            <a:r>
              <a:rPr b="1" i="1" lang="pl-PL" sz="4800" spc="-1" strike="noStrike">
                <a:solidFill>
                  <a:srgbClr val="ffffff"/>
                </a:solidFill>
                <a:latin typeface="Times New Roman"/>
              </a:rPr>
              <a:t>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In a little moment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4952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You will feel something really strang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You will see an illussion</a:t>
            </a:r>
            <a:r>
              <a:rPr b="0" i="1" lang="nb-NO" sz="4400" spc="-1" strike="noStrike">
                <a:solidFill>
                  <a:srgbClr val="ffffff"/>
                </a:solidFill>
                <a:latin typeface="Times New Roman"/>
              </a:rPr>
              <a:t> ...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5409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ne amazing magic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000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5333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Of David Coperfield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…</a:t>
            </a: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6000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5257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Even if you used a simple program you will see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...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5181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ffff"/>
                </a:solidFill>
                <a:latin typeface="Times New Roman"/>
              </a:rPr>
              <a:t>That I can scan your mind  from the monitor…</a:t>
            </a:r>
            <a:r>
              <a:rPr b="0" i="1" lang="el-GR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i="1" lang="pl-PL" sz="4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randomBa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2"/>
          <a:stretch/>
        </p:blipFill>
        <p:spPr>
          <a:xfrm>
            <a:off x="2514600" y="5194440"/>
            <a:ext cx="4495680" cy="97776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334280" y="5262480"/>
            <a:ext cx="455760" cy="243000"/>
          </a:xfrm>
          <a:custGeom>
            <a:avLst/>
            <a:gdLst/>
            <a:ahLst/>
            <a:rect l="l" t="t" r="r" b="b"/>
            <a:pathLst>
              <a:path w="861" h="459">
                <a:moveTo>
                  <a:pt x="39" y="30"/>
                </a:moveTo>
                <a:lnTo>
                  <a:pt x="26" y="236"/>
                </a:lnTo>
                <a:lnTo>
                  <a:pt x="14" y="446"/>
                </a:lnTo>
                <a:lnTo>
                  <a:pt x="845" y="427"/>
                </a:lnTo>
                <a:lnTo>
                  <a:pt x="813" y="268"/>
                </a:lnTo>
                <a:lnTo>
                  <a:pt x="861" y="436"/>
                </a:lnTo>
                <a:lnTo>
                  <a:pt x="0" y="459"/>
                </a:lnTo>
                <a:lnTo>
                  <a:pt x="26" y="0"/>
                </a:lnTo>
                <a:lnTo>
                  <a:pt x="39" y="30"/>
                </a:lnTo>
                <a:lnTo>
                  <a:pt x="39" y="30"/>
                </a:lnTo>
                <a:close/>
              </a:path>
            </a:pathLst>
          </a:cu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80880" y="1981080"/>
            <a:ext cx="47246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You saw the 6 card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Think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Just think on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n’t touch it.</a:t>
            </a:r>
            <a:r>
              <a:rPr b="0" i="1" lang="nb-NO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Don’t click on i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Times New Roman"/>
              </a:rPr>
              <a:t>I will find in once what you thought!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25000">
    <p:randomBar dir="vert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5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4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6500"/>
                            </p:stCondLst>
                            <p:childTnLst>
                              <p:par>
                                <p:cTn id="24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9000"/>
                            </p:stCondLst>
                            <p:childTnLst>
                              <p:par>
                                <p:cTn id="28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1500"/>
                            </p:stCondLst>
                            <p:childTnLst>
                              <p:par>
                                <p:cTn id="32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14000"/>
                            </p:stCondLst>
                            <p:childTnLst>
                              <p:par>
                                <p:cTn id="36" nodeType="afterEffect" fill="hold" presetClass="entr" presetID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12:45:50Z</dcterms:created>
  <dc:creator>Petrina</dc:creator>
  <dc:description/>
  <dc:language>en-US</dc:language>
  <cp:lastModifiedBy>Petrina</cp:lastModifiedBy>
  <dcterms:modified xsi:type="dcterms:W3CDTF">2010-02-11T13:18:00Z</dcterms:modified>
  <cp:revision>3</cp:revision>
  <dc:subject/>
  <dc:title>In a moment you will pass in a magical world!</dc:title>
</cp:coreProperties>
</file>