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FA7-330D-4623-93C8-8DAE025A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262-7D73-4FDF-B341-BE6BA934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63D-EB0E-44EF-9148-234B6939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BBC-A264-4EFD-A84E-E1F5EFB9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6829-DA6A-46BB-9455-3570DCFE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711D-2C09-4068-993B-7380691D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1B9-06A5-42BC-8C4D-2FFA05D0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6943-F410-4E4C-A9D0-61FCA0DC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1DF4-A9D3-47CD-9C6F-ADD5AE5A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4A13-BCEA-4C77-8F14-7CAA591C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1A70-5B8A-40EA-B34E-6580C25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6D0-9D14-43E1-A2FA-6A58747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CB8E-E34A-4A68-8471-B56D194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9494-ADCD-4844-81D0-3D7B541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5405-3291-4BD1-810B-CE5A97D5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99D-48C4-4992-BB33-B4E5960E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28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1360" y="171936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28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1360" y="4023000"/>
            <a:ext cx="26492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BD4D-7A7D-4A20-9959-3E8402A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4FD-F82E-4F00-BEF3-A50CA227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EBA-E192-4B81-ABF3-C003B5C0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F26-6E1A-46EC-8573-0D72BAA6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2360" cy="59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551-F4A9-4867-913D-67754E71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693-C948-4CB7-BE2E-9105B22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3520" y="402300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0B2-9900-4938-8B47-95A08E3F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719360"/>
            <a:ext cx="40150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000"/>
            <a:ext cx="8228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2BF-FF27-49E0-9A47-558BA16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816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708493-A631-4A0B-ADCC-0B2331165273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8153280" y="152280"/>
            <a:ext cx="790200" cy="1293480"/>
            <a:chOff x="8153280" y="152280"/>
            <a:chExt cx="790200" cy="1293480"/>
          </a:xfrm>
        </p:grpSpPr>
        <p:sp>
          <p:nvSpPr>
            <p:cNvPr id="7" name="Oval 8"/>
            <p:cNvSpPr/>
            <p:nvPr/>
          </p:nvSpPr>
          <p:spPr>
            <a:xfrm>
              <a:off x="815328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Oval 9"/>
            <p:cNvSpPr/>
            <p:nvPr/>
          </p:nvSpPr>
          <p:spPr>
            <a:xfrm>
              <a:off x="832104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Oval 10"/>
            <p:cNvSpPr/>
            <p:nvPr/>
          </p:nvSpPr>
          <p:spPr>
            <a:xfrm>
              <a:off x="8488800" y="15228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Oval 11"/>
            <p:cNvSpPr/>
            <p:nvPr/>
          </p:nvSpPr>
          <p:spPr>
            <a:xfrm>
              <a:off x="815328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Oval 12"/>
            <p:cNvSpPr/>
            <p:nvPr/>
          </p:nvSpPr>
          <p:spPr>
            <a:xfrm>
              <a:off x="832104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488800" y="32040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655120" y="32040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153280" y="48816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Oval 16"/>
            <p:cNvSpPr/>
            <p:nvPr/>
          </p:nvSpPr>
          <p:spPr>
            <a:xfrm>
              <a:off x="8321040" y="48816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Oval 17"/>
            <p:cNvSpPr/>
            <p:nvPr/>
          </p:nvSpPr>
          <p:spPr>
            <a:xfrm>
              <a:off x="8488800" y="4881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Oval 18"/>
            <p:cNvSpPr/>
            <p:nvPr/>
          </p:nvSpPr>
          <p:spPr>
            <a:xfrm>
              <a:off x="8655120" y="4881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Oval 19"/>
            <p:cNvSpPr/>
            <p:nvPr/>
          </p:nvSpPr>
          <p:spPr>
            <a:xfrm>
              <a:off x="8823240" y="4881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Oval 20"/>
            <p:cNvSpPr/>
            <p:nvPr/>
          </p:nvSpPr>
          <p:spPr>
            <a:xfrm>
              <a:off x="8153280" y="654840"/>
              <a:ext cx="120240" cy="120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Oval 21"/>
            <p:cNvSpPr/>
            <p:nvPr/>
          </p:nvSpPr>
          <p:spPr>
            <a:xfrm>
              <a:off x="8321040" y="6548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Oval 22"/>
            <p:cNvSpPr/>
            <p:nvPr/>
          </p:nvSpPr>
          <p:spPr>
            <a:xfrm>
              <a:off x="8488800" y="65484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Oval 23"/>
            <p:cNvSpPr/>
            <p:nvPr/>
          </p:nvSpPr>
          <p:spPr>
            <a:xfrm>
              <a:off x="8655120" y="65484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Oval 24"/>
            <p:cNvSpPr/>
            <p:nvPr/>
          </p:nvSpPr>
          <p:spPr>
            <a:xfrm>
              <a:off x="8153280" y="8229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Oval 25"/>
            <p:cNvSpPr/>
            <p:nvPr/>
          </p:nvSpPr>
          <p:spPr>
            <a:xfrm>
              <a:off x="8321040" y="82296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6"/>
            <p:cNvSpPr/>
            <p:nvPr/>
          </p:nvSpPr>
          <p:spPr>
            <a:xfrm>
              <a:off x="8488800" y="8229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7"/>
            <p:cNvSpPr/>
            <p:nvPr/>
          </p:nvSpPr>
          <p:spPr>
            <a:xfrm>
              <a:off x="8655120" y="82296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8"/>
            <p:cNvSpPr/>
            <p:nvPr/>
          </p:nvSpPr>
          <p:spPr>
            <a:xfrm>
              <a:off x="8823240" y="82296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Oval 29"/>
            <p:cNvSpPr/>
            <p:nvPr/>
          </p:nvSpPr>
          <p:spPr>
            <a:xfrm>
              <a:off x="8153280" y="990720"/>
              <a:ext cx="120240" cy="120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Oval 30"/>
            <p:cNvSpPr/>
            <p:nvPr/>
          </p:nvSpPr>
          <p:spPr>
            <a:xfrm>
              <a:off x="8321040" y="9907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Oval 31"/>
            <p:cNvSpPr/>
            <p:nvPr/>
          </p:nvSpPr>
          <p:spPr>
            <a:xfrm>
              <a:off x="8488800" y="990720"/>
              <a:ext cx="120240" cy="120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Oval 32"/>
            <p:cNvSpPr/>
            <p:nvPr/>
          </p:nvSpPr>
          <p:spPr>
            <a:xfrm>
              <a:off x="8655120" y="990720"/>
              <a:ext cx="120240" cy="120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Oval 33"/>
            <p:cNvSpPr/>
            <p:nvPr/>
          </p:nvSpPr>
          <p:spPr>
            <a:xfrm>
              <a:off x="8153280" y="1159200"/>
              <a:ext cx="1202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4"/>
            <p:cNvSpPr/>
            <p:nvPr/>
          </p:nvSpPr>
          <p:spPr>
            <a:xfrm>
              <a:off x="8321040" y="1159200"/>
              <a:ext cx="1202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5"/>
            <p:cNvSpPr/>
            <p:nvPr/>
          </p:nvSpPr>
          <p:spPr>
            <a:xfrm>
              <a:off x="8488800" y="1159200"/>
              <a:ext cx="12024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6"/>
            <p:cNvSpPr/>
            <p:nvPr/>
          </p:nvSpPr>
          <p:spPr>
            <a:xfrm>
              <a:off x="8655120" y="1159200"/>
              <a:ext cx="12024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7"/>
            <p:cNvSpPr/>
            <p:nvPr/>
          </p:nvSpPr>
          <p:spPr>
            <a:xfrm>
              <a:off x="8321040" y="1326960"/>
              <a:ext cx="12024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8"/>
            <p:cNvSpPr/>
            <p:nvPr/>
          </p:nvSpPr>
          <p:spPr>
            <a:xfrm>
              <a:off x="8655120" y="1326960"/>
              <a:ext cx="120240" cy="1188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"/>
          <p:cNvSpPr/>
          <p:nvPr/>
        </p:nvSpPr>
        <p:spPr>
          <a:xfrm>
            <a:off x="7315200" y="1066680"/>
            <a:ext cx="144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83CF08-E746-4E34-B6E5-18FAE0D8FFC5}" type="slidenum">
              <a:rPr b="0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7493040" y="2992320"/>
            <a:ext cx="1336320" cy="2187360"/>
            <a:chOff x="7493040" y="2992320"/>
            <a:chExt cx="1336320" cy="2187360"/>
          </a:xfrm>
        </p:grpSpPr>
        <p:sp>
          <p:nvSpPr>
            <p:cNvPr id="80" name="Oval 7"/>
            <p:cNvSpPr/>
            <p:nvPr/>
          </p:nvSpPr>
          <p:spPr>
            <a:xfrm>
              <a:off x="749304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"/>
            <p:cNvSpPr/>
            <p:nvPr/>
          </p:nvSpPr>
          <p:spPr>
            <a:xfrm>
              <a:off x="777672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8060760" y="299232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749304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777672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8060760" y="327636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8344440" y="327636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749304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7776720" y="3560040"/>
              <a:ext cx="20124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16"/>
            <p:cNvSpPr/>
            <p:nvPr/>
          </p:nvSpPr>
          <p:spPr>
            <a:xfrm>
              <a:off x="806076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17"/>
            <p:cNvSpPr/>
            <p:nvPr/>
          </p:nvSpPr>
          <p:spPr>
            <a:xfrm>
              <a:off x="8344440" y="356004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8628120" y="356004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7493040" y="3842640"/>
              <a:ext cx="20124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777672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8060760" y="3842640"/>
              <a:ext cx="20124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8344440" y="3842640"/>
              <a:ext cx="20124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749304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7776720" y="412632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806076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8344440" y="412632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8628120" y="4126320"/>
              <a:ext cx="20124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7493040" y="4410720"/>
              <a:ext cx="20124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777672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8060760" y="441072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8344440" y="441072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749304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7776720" y="4694400"/>
              <a:ext cx="20124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806076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8344440" y="469440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777672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8344440" y="4978440"/>
              <a:ext cx="20124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Line 38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740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5680" indent="-2919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905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6960" indent="-314280">
              <a:spcBef>
                <a:spcPts val="751"/>
              </a:spcBef>
              <a:buClr>
                <a:srgbClr val="330066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6960" indent="-3142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371160"/>
            <a:ext cx="678168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Pembahasan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4924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330066"/>
                </a:solidFill>
                <a:latin typeface="Arial Rounded MT Bold"/>
              </a:rPr>
              <a:t>Perangkat Lunak (Software) Kompu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-7815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Spreadsheet merupakan aplikasi yang berorientasi pada pengolah angka, 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Ca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ot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tar Office Spreadsh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GNumer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GNumeri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Picture 4" descr="C:\Users\Ginanjar\Desktop\600px-Office1en.png"/>
          <p:cNvPicPr/>
          <p:nvPr/>
        </p:nvPicPr>
        <p:blipFill>
          <a:blip r:embed="rId1"/>
          <a:stretch/>
        </p:blipFill>
        <p:spPr>
          <a:xfrm>
            <a:off x="642960" y="1643040"/>
            <a:ext cx="67150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-857160"/>
            <a:ext cx="75438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resentasi merupakan aplikasi yang berorientasi pada pembuatan presentasi</a:t>
            </a: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Power 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Imp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Adobe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re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lide Rock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Keyno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Prez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4" descr="C:\Users\Ginanjar\Desktop\prezi2.jpg"/>
          <p:cNvPicPr/>
          <p:nvPr/>
        </p:nvPicPr>
        <p:blipFill>
          <a:blip r:embed="rId1"/>
          <a:stretch/>
        </p:blipFill>
        <p:spPr>
          <a:xfrm>
            <a:off x="428760" y="1285920"/>
            <a:ext cx="7143480" cy="52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-3243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Database merupakan aplikasi yang berorientasi pada pengolah data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4648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y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pen Office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Mongo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QL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ostgreSQ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10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1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Orac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Picture 4" descr="C:\Users\Ginanjar\Desktop\Software-Database-Oracle.gif"/>
          <p:cNvPicPr/>
          <p:nvPr/>
        </p:nvPicPr>
        <p:blipFill>
          <a:blip r:embed="rId1"/>
          <a:stretch/>
        </p:blipFill>
        <p:spPr>
          <a:xfrm>
            <a:off x="42876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75438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Design Grafis merupakan aplikasi yang berorientasi pada pengolah</a:t>
            </a:r>
            <a:r>
              <a:rPr b="1" lang="id-ID" sz="2800" spc="-1" strike="noStrike">
                <a:solidFill>
                  <a:srgbClr val="330066"/>
                </a:solidFill>
                <a:latin typeface="Arial"/>
              </a:rPr>
              <a:t>an</a:t>
            </a: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 gambar</a:t>
            </a:r>
            <a:r>
              <a:rPr b="1" lang="id-ID" sz="2800" spc="-1" strike="noStrike">
                <a:solidFill>
                  <a:srgbClr val="330066"/>
                </a:solidFill>
                <a:latin typeface="Arial"/>
              </a:rPr>
              <a:t> dan pendukungnya</a:t>
            </a: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,Contohnya 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7758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Tata Letak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dobe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Frame Maker, Adobe PageMaker, Quark Xpre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Vektor/Garis (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orel Draw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, Adobe Illustrator, Macromedia Freehan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ngolah Gambar (Adobe Photoshop, Corel Photo Paint, Microsoft Photo Edit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dobe Photoshop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rel Dra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-857160"/>
            <a:ext cx="75438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AD (Computer Aid Design) merupakan aplikasi yang berorientasi pada rancangan bangunan dan mesin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445840"/>
            <a:ext cx="5257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Free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LibreC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ketch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47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 Rounded MT Bold"/>
              </a:rPr>
              <a:t>Perangkat Lunak (Software) Kompute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Tahoma"/>
              </a:rPr>
              <a:t>Adalah program yang berisi intruksi/perintah untuk melakukan proses pengolaha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SketchU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2" descr="C:\Users\Ginanjar\Desktop\Apa-itu-Sketchup.jpg"/>
          <p:cNvPicPr/>
          <p:nvPr/>
        </p:nvPicPr>
        <p:blipFill>
          <a:blip r:embed="rId1"/>
          <a:stretch/>
        </p:blipFill>
        <p:spPr>
          <a:xfrm>
            <a:off x="500040" y="1643040"/>
            <a:ext cx="68594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Multimedia </a:t>
            </a:r>
            <a:r>
              <a:rPr b="1" lang="id-ID" sz="3200" spc="-1" strike="noStrike">
                <a:solidFill>
                  <a:srgbClr val="330066"/>
                </a:solidFill>
                <a:latin typeface="Arial"/>
              </a:rPr>
              <a:t>merupakan aplikasi yang berorientasi pada banyak media beserta pendukungnya</a:t>
            </a: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,Contohnya  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31600"/>
            <a:ext cx="7758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Film/Video (Ulead Video Studio, Pinnacle Studio Plus, Adobe After Effect, Power Dire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Multimedia (Macromedia Director, Macromedia Flash, Macromedia Bui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Pengolah Suara (Adobe Audition, WavePad, Auda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Aplikasi Multimedia (Winamp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l Player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yberlink Power DVD</a:t>
            </a: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, GOM P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Adobe After Eff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C:\Users\Ginanjar\Desktop\adobe-after-effects-screenshot.jpg"/>
          <p:cNvPicPr/>
          <p:nvPr/>
        </p:nvPicPr>
        <p:blipFill>
          <a:blip r:embed="rId1"/>
          <a:stretch/>
        </p:blipFill>
        <p:spPr>
          <a:xfrm>
            <a:off x="928800" y="1604880"/>
            <a:ext cx="6958080" cy="411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Adobe Flas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2" descr="C:\Users\Ginanjar\Desktop\images.jpg"/>
          <p:cNvPicPr/>
          <p:nvPr/>
        </p:nvPicPr>
        <p:blipFill>
          <a:blip r:embed="rId1"/>
          <a:stretch/>
        </p:blipFill>
        <p:spPr>
          <a:xfrm>
            <a:off x="714240" y="1469880"/>
            <a:ext cx="7000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243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id-ID" sz="3500" spc="-1" strike="noStrike">
                <a:solidFill>
                  <a:srgbClr val="330066"/>
                </a:solidFill>
                <a:latin typeface="Arial"/>
              </a:rPr>
              <a:t>Web Browser yang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merupakan aplikasi yang digunakan mencari informasi lewat internet,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445840"/>
            <a:ext cx="74008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ozilla fireFo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Saf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Safa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4" descr="C:\Users\Ginanjar\Desktop\004-safari-browser-navigator-presentation-screen-web-psd.jpg"/>
          <p:cNvPicPr/>
          <p:nvPr/>
        </p:nvPicPr>
        <p:blipFill>
          <a:blip r:embed="rId1"/>
          <a:stretch/>
        </p:blipFill>
        <p:spPr>
          <a:xfrm>
            <a:off x="538200" y="1643040"/>
            <a:ext cx="708192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Pemograma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untuk membuat program  k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09160"/>
            <a:ext cx="754380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Bahasa pemograman dibagi menjadi 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6972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9880" indent="0">
              <a:spcBef>
                <a:spcPts val="751"/>
              </a:spcBef>
              <a:buNone/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-5698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</a:t>
            </a:r>
            <a:r>
              <a:rPr b="0" lang="id-ID" sz="3000" spc="-1" strike="noStrike">
                <a:solidFill>
                  <a:srgbClr val="000000"/>
                </a:solidFill>
                <a:latin typeface="Arial"/>
              </a:rPr>
              <a:t>pemrograman generasi ke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751"/>
              </a:spcBef>
              <a:buNone/>
              <a:tabLst>
                <a:tab algn="l" pos="0"/>
                <a:tab algn="l" pos="1139760"/>
                <a:tab algn="l" pos="2054160"/>
                <a:tab algn="l" pos="2968560"/>
                <a:tab algn="l" pos="3882960"/>
                <a:tab algn="l" pos="4797360"/>
                <a:tab algn="l" pos="5711760"/>
                <a:tab algn="l" pos="6626160"/>
                <a:tab algn="l" pos="7540560"/>
                <a:tab algn="l" pos="8454960"/>
                <a:tab algn="l" pos="9369360"/>
                <a:tab algn="l" pos="1028376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Generasi Ke 1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but juga dengan bahasa mesin, </a:t>
            </a: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yaitu memberikan perintah kepada komputer dengan memakai kode bahasa biner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0 d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000" spc="-1" strike="noStrike">
                <a:solidFill>
                  <a:srgbClr val="330066"/>
                </a:solidFill>
                <a:latin typeface="Arial"/>
              </a:rPr>
              <a:t>Pemrograman Generasi Ke 2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71680" y="3000240"/>
            <a:ext cx="664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Disebut dengan istilah bahasa rakitan (bah.Inggris 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Assembly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), yaitu memberikan perintah kepada komputer dengan memakai kode-kode singkat (kode </a:t>
            </a:r>
            <a:r>
              <a:rPr b="1" i="1" lang="id-ID" sz="2400" spc="-1" strike="noStrike">
                <a:solidFill>
                  <a:srgbClr val="000000"/>
                </a:solidFill>
                <a:latin typeface="Arial"/>
              </a:rPr>
              <a:t>mnemonic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</a:rPr>
              <a:t>), contohnya kode mesin MOV, SUB, CMP, JMP, JGE, JL, LOOP, dsb. Contoh = Bahasa Pemrograman Assemb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1924200"/>
            <a:ext cx="7543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erangkat lunak terbagi menjadi 4 macam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istem operasi (Operating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am aplikasi (Application Programs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hasa pemograman (Programming Language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gram bantu System (Utility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Generasi ke 3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80880" y="3049560"/>
            <a:ext cx="6716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isebut  bahasa mesin yang sudah diterjemahkan ke dalam bahasa manusia(inggris)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atau </a:t>
            </a:r>
            <a:r>
              <a:rPr b="0" i="1" lang="id-ID" sz="3200" spc="-1" strike="noStrike">
                <a:solidFill>
                  <a:srgbClr val="000000"/>
                </a:solidFill>
                <a:latin typeface="Arial"/>
              </a:rPr>
              <a:t>high level programming languag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oh :C</a:t>
            </a:r>
            <a:r>
              <a:rPr b="0" lang="id-ID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Pas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913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Bahasa 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pemrograman </a:t>
            </a: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generasi ke</a:t>
            </a:r>
            <a:r>
              <a:rPr b="1" lang="id-ID" sz="4800" spc="-1" strike="noStrike">
                <a:solidFill>
                  <a:srgbClr val="330066"/>
                </a:solidFill>
                <a:latin typeface="Arial"/>
              </a:rPr>
              <a:t> 4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0040" y="3049560"/>
            <a:ext cx="721512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Bahasa komputer yang memakai instruksi berasal dari unsur kata-kata bahasa manusia, contohnya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begin, end, if, for, while, and, or, dsb.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Komputer dapat mengerti bahasa manusia itu diperlukan program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atau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interpreter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Contoh :Visual Basic, Delphi,Visual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5720" y="465120"/>
            <a:ext cx="677988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Bahasa Pemrograman Generasi Ke 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00040" y="3049560"/>
            <a:ext cx="721512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nal deng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Language Based Object Oriented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contoh : PHP, Java, Rub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amp; Web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Program bantu Sistem operasi (Utility System)</a:t>
            </a:r>
            <a:br>
              <a:rPr sz="4400"/>
            </a:b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 untuk membantu meningkatkan kinerja sistem 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13906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 utility system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94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rton Comander merupakan utility untuk mengelola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Arial"/>
              </a:rPr>
              <a:t>CCleaner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merupakan utility untuk membantu mengecek hardisk yang rusa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nzip merupakan utility untuk mengompres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uneUp Utilities merupakan utility untuk meningkatkan kinerja sistem oper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nti Virus merupakan utility untuk menjaga keamanan kompu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6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nti virus A</a:t>
            </a: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V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2101320" y="200016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gramming Language Based Object 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C:\Users\Ginanjar\Desktop\avg-antivirus-screenshot-01.png"/>
          <p:cNvPicPr/>
          <p:nvPr/>
        </p:nvPicPr>
        <p:blipFill>
          <a:blip r:embed="rId1"/>
          <a:stretch/>
        </p:blipFill>
        <p:spPr>
          <a:xfrm>
            <a:off x="905040" y="1330200"/>
            <a:ext cx="6738840" cy="52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CClea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C:\Users\Ginanjar\Desktop\ccleaner-screenshot.jpg.png"/>
          <p:cNvPicPr/>
          <p:nvPr/>
        </p:nvPicPr>
        <p:blipFill>
          <a:blip r:embed="rId1"/>
          <a:stretch/>
        </p:blipFill>
        <p:spPr>
          <a:xfrm>
            <a:off x="762120" y="1231920"/>
            <a:ext cx="7024680" cy="52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236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Latih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00040" y="1714680"/>
            <a:ext cx="807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2060"/>
                </a:solidFill>
                <a:latin typeface="Arial"/>
              </a:rPr>
              <a:t>Jalankan salah satu File ISO Linux / Hackintosh dengan menggunakan virtual machine, contoh virtual machine : VMWare, Virtual PC, Virtual Bo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d-ID" sz="3200" spc="-1" strike="noStrike">
                <a:solidFill>
                  <a:srgbClr val="002060"/>
                </a:solidFill>
                <a:latin typeface="Arial"/>
              </a:rPr>
              <a:t>Tu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d-ID" sz="3200" spc="-1" strike="noStrike">
                <a:solidFill>
                  <a:srgbClr val="002060"/>
                </a:solidFill>
                <a:latin typeface="Arial"/>
              </a:rPr>
              <a:t>Tulis dan praktekan minimal 10 fungsi / perintah Command Prompt (MS.D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6080" y="46476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Sistem operasi (Operating System)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  <a:ea typeface="Arial"/>
              </a:rPr>
              <a:t>‏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untuk mengendalikan kerja k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-13906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Contoh sistem operasi, yaitu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S-Dos (Microsoft Operating System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icrosoft Wind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nu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2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330066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Program aplikasi (Application Programs)</a:t>
            </a:r>
            <a:br>
              <a:rPr sz="4400"/>
            </a:br>
            <a:r>
              <a:rPr b="1" lang="en-GB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dalah program yang digunakan khusus untuk tujuan ter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2076480"/>
            <a:ext cx="75438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Program aplikasi dibagi menjadi : 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d Processing (Pengolah kat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readsheet (Pengolah angk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esenta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atabase (Pengolah data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sign Grafis (Pengolah Gambar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AD (Computer Aid Design)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781560"/>
            <a:ext cx="7543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500"/>
            </a:br>
            <a:br>
              <a:rPr sz="3500"/>
            </a:b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GB" sz="3500" spc="-1" strike="noStrike">
                <a:solidFill>
                  <a:srgbClr val="330066"/>
                </a:solidFill>
                <a:latin typeface="Arial"/>
              </a:rPr>
              <a:t>Word Processing merupakan aplikasi yang berorientasi pada pengolah kata, Contohnya  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1148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Office 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Libr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 Per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i 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d-ID" sz="3900" spc="-1" strike="noStrike">
                <a:solidFill>
                  <a:srgbClr val="330066"/>
                </a:solidFill>
                <a:latin typeface="Arial"/>
              </a:rPr>
              <a:t>Libre Office Wri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4" descr="C:\Users\Ginanjar\Desktop\libreoffice-screenshot.jpg.png"/>
          <p:cNvPicPr/>
          <p:nvPr/>
        </p:nvPicPr>
        <p:blipFill>
          <a:blip r:embed="rId1"/>
          <a:stretch/>
        </p:blipFill>
        <p:spPr>
          <a:xfrm>
            <a:off x="428760" y="1714680"/>
            <a:ext cx="7215120" cy="4338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c4010</dc:creator>
  <dc:description/>
  <dc:language>en-US</dc:language>
  <cp:lastModifiedBy>User</cp:lastModifiedBy>
  <dcterms:modified xsi:type="dcterms:W3CDTF">2017-09-15T15:32:26Z</dcterms:modified>
  <cp:revision>30</cp:revision>
  <dc:subject/>
  <dc:title>Perangkat Lunak (Software) Komputer</dc:title>
</cp:coreProperties>
</file>