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325-F9E8-447C-908A-52FCA0CB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F69-8C96-46F6-AE11-081A43D0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DBE-BEA0-400E-A081-672C59EE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2F6-0686-427D-B8FB-ADF1C46C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E437-DF55-4C5F-91C0-2E158EBF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9599-7AE4-40FD-AC72-3EC99E6C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D4AB-F95E-4D5D-9A14-633B1DE7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7AA1-F5B0-4B54-9F0F-6F938D04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F215-9827-48D9-BD35-33393373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23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A9BD-82F0-46FD-9550-37E0D5D7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70DA-35F6-4B4C-9235-BA47A091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BDA-1405-461D-9E62-C9CD6A39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5C1B-F0CD-459B-940A-D6E4234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6798-1CA0-4B9C-8113-648AF6C2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B922-B673-436D-8DCD-6C9BB14B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7585-0CF4-4324-B89B-94A53964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0AC4-D8E0-456D-8084-B746F795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A4A-E7CF-4731-B81D-039D5BC1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6B8-E799-4E5C-BCF6-7CCE8280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23B-776D-40DC-82A4-CB295B4B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23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832-FF33-4BCC-82D7-DE2E022B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155-5B7B-415A-89F5-B1737E9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B75-7600-4A62-B551-3265245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9CD-4153-46F0-9902-4663614B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4280"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4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4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6249B-FED2-46C5-9622-9458FDA32B13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8153280" y="152280"/>
            <a:ext cx="790200" cy="1293480"/>
            <a:chOff x="8153280" y="152280"/>
            <a:chExt cx="790200" cy="1293480"/>
          </a:xfrm>
        </p:grpSpPr>
        <p:sp>
          <p:nvSpPr>
            <p:cNvPr id="7" name="Oval 8"/>
            <p:cNvSpPr/>
            <p:nvPr/>
          </p:nvSpPr>
          <p:spPr>
            <a:xfrm>
              <a:off x="815328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2104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848880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8153280" y="32040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8321040" y="32040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8488800" y="32040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8655120" y="32040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153280" y="48816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8321040" y="48816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8488800" y="48816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8655120" y="48816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8823240" y="48816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8153280" y="65484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8321040" y="65484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8488800" y="65484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8655120" y="65484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8153280" y="82296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21040" y="82296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8488800" y="82296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8655120" y="82296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8823240" y="82296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8153280" y="99072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8321040" y="99072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8488800" y="99072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8655120" y="99072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8153280" y="1159200"/>
              <a:ext cx="12024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8321040" y="1159200"/>
              <a:ext cx="12024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8488800" y="1159200"/>
              <a:ext cx="120240" cy="1184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8655120" y="1159200"/>
              <a:ext cx="120240" cy="1184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8321040" y="1326960"/>
              <a:ext cx="120240" cy="1188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655120" y="1326960"/>
              <a:ext cx="120240" cy="1188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5720" y="465120"/>
            <a:ext cx="67798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990AC-29A2-4E5E-9F77-6F2017E067B1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7493040" y="2992320"/>
            <a:ext cx="1336320" cy="2187360"/>
            <a:chOff x="7493040" y="2992320"/>
            <a:chExt cx="1336320" cy="2187360"/>
          </a:xfrm>
        </p:grpSpPr>
        <p:sp>
          <p:nvSpPr>
            <p:cNvPr id="80" name="Oval 7"/>
            <p:cNvSpPr/>
            <p:nvPr/>
          </p:nvSpPr>
          <p:spPr>
            <a:xfrm>
              <a:off x="749304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"/>
            <p:cNvSpPr/>
            <p:nvPr/>
          </p:nvSpPr>
          <p:spPr>
            <a:xfrm>
              <a:off x="777672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806076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749304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777672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2"/>
            <p:cNvSpPr/>
            <p:nvPr/>
          </p:nvSpPr>
          <p:spPr>
            <a:xfrm>
              <a:off x="806076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8344440" y="327636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7493040" y="356004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7776720" y="356004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16"/>
            <p:cNvSpPr/>
            <p:nvPr/>
          </p:nvSpPr>
          <p:spPr>
            <a:xfrm>
              <a:off x="8060760" y="356004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>
              <a:off x="8344440" y="356004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>
              <a:off x="8628120" y="356004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7493040" y="3842640"/>
              <a:ext cx="201240" cy="2026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0"/>
            <p:cNvSpPr/>
            <p:nvPr/>
          </p:nvSpPr>
          <p:spPr>
            <a:xfrm>
              <a:off x="7776720" y="3842640"/>
              <a:ext cx="20124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1"/>
            <p:cNvSpPr/>
            <p:nvPr/>
          </p:nvSpPr>
          <p:spPr>
            <a:xfrm>
              <a:off x="8060760" y="3842640"/>
              <a:ext cx="20124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8344440" y="3842640"/>
              <a:ext cx="201240" cy="202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3"/>
            <p:cNvSpPr/>
            <p:nvPr/>
          </p:nvSpPr>
          <p:spPr>
            <a:xfrm>
              <a:off x="7493040" y="41263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24"/>
            <p:cNvSpPr/>
            <p:nvPr/>
          </p:nvSpPr>
          <p:spPr>
            <a:xfrm>
              <a:off x="7776720" y="41263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25"/>
            <p:cNvSpPr/>
            <p:nvPr/>
          </p:nvSpPr>
          <p:spPr>
            <a:xfrm>
              <a:off x="8060760" y="41263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26"/>
            <p:cNvSpPr/>
            <p:nvPr/>
          </p:nvSpPr>
          <p:spPr>
            <a:xfrm>
              <a:off x="8344440" y="41263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27"/>
            <p:cNvSpPr/>
            <p:nvPr/>
          </p:nvSpPr>
          <p:spPr>
            <a:xfrm>
              <a:off x="8628120" y="4126320"/>
              <a:ext cx="20124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8"/>
            <p:cNvSpPr/>
            <p:nvPr/>
          </p:nvSpPr>
          <p:spPr>
            <a:xfrm>
              <a:off x="7493040" y="441072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9"/>
            <p:cNvSpPr/>
            <p:nvPr/>
          </p:nvSpPr>
          <p:spPr>
            <a:xfrm>
              <a:off x="7776720" y="441072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0"/>
            <p:cNvSpPr/>
            <p:nvPr/>
          </p:nvSpPr>
          <p:spPr>
            <a:xfrm>
              <a:off x="8060760" y="441072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1"/>
            <p:cNvSpPr/>
            <p:nvPr/>
          </p:nvSpPr>
          <p:spPr>
            <a:xfrm>
              <a:off x="8344440" y="441072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2"/>
            <p:cNvSpPr/>
            <p:nvPr/>
          </p:nvSpPr>
          <p:spPr>
            <a:xfrm>
              <a:off x="7493040" y="469440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3"/>
            <p:cNvSpPr/>
            <p:nvPr/>
          </p:nvSpPr>
          <p:spPr>
            <a:xfrm>
              <a:off x="7776720" y="469440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34"/>
            <p:cNvSpPr/>
            <p:nvPr/>
          </p:nvSpPr>
          <p:spPr>
            <a:xfrm>
              <a:off x="8060760" y="469440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35"/>
            <p:cNvSpPr/>
            <p:nvPr/>
          </p:nvSpPr>
          <p:spPr>
            <a:xfrm>
              <a:off x="8344440" y="469440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36"/>
            <p:cNvSpPr/>
            <p:nvPr/>
          </p:nvSpPr>
          <p:spPr>
            <a:xfrm>
              <a:off x="7776720" y="497844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37"/>
            <p:cNvSpPr/>
            <p:nvPr/>
          </p:nvSpPr>
          <p:spPr>
            <a:xfrm>
              <a:off x="8344440" y="497844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Line 38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4280"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4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4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371160"/>
            <a:ext cx="678168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Pembahasan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4924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330066"/>
                </a:solidFill>
                <a:latin typeface="Arial Rounded MT Bold"/>
              </a:rPr>
              <a:t>Perangkat Lunak (Software) Kompu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-78156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Spreadsheet merupakan aplikasi yang berorientasi pada pengolah angka, 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648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pen Office Ca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r Office Spreadsh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GNumer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GNumer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Picture 4" descr="C:\Users\Ginanjar\Desktop\600px-Office1en.png"/>
          <p:cNvPicPr/>
          <p:nvPr/>
        </p:nvPicPr>
        <p:blipFill>
          <a:blip r:embed="rId1"/>
          <a:stretch/>
        </p:blipFill>
        <p:spPr>
          <a:xfrm>
            <a:off x="642960" y="1643040"/>
            <a:ext cx="671508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-857160"/>
            <a:ext cx="754380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Presentasi merupakan aplikasi yang berorientasi pada pembuatan presentasi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4648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crosoft Power Po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pen Office Imp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Adob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re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lide Roc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Key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Prez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4" descr="C:\Users\Ginanjar\Desktop\prezi2.jpg"/>
          <p:cNvPicPr/>
          <p:nvPr/>
        </p:nvPicPr>
        <p:blipFill>
          <a:blip r:embed="rId1"/>
          <a:stretch/>
        </p:blipFill>
        <p:spPr>
          <a:xfrm>
            <a:off x="428760" y="1285920"/>
            <a:ext cx="7143480" cy="526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-32436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atabase merupakan aplikasi yang berorientasi pada pengolah data,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4648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pen Office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Mongo D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QL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Orac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4" descr="C:\Users\Ginanjar\Desktop\Software-Database-Oracle.gif"/>
          <p:cNvPicPr/>
          <p:nvPr/>
        </p:nvPicPr>
        <p:blipFill>
          <a:blip r:embed="rId1"/>
          <a:stretch/>
        </p:blipFill>
        <p:spPr>
          <a:xfrm>
            <a:off x="428760" y="1214280"/>
            <a:ext cx="714348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Design Grafis merupakan aplikasi yang berorientasi pada pengolah</a:t>
            </a:r>
            <a:r>
              <a:rPr b="1" lang="id-ID" sz="2800" spc="-1" strike="noStrike">
                <a:solidFill>
                  <a:srgbClr val="330066"/>
                </a:solidFill>
                <a:latin typeface="Arial"/>
              </a:rPr>
              <a:t>an</a:t>
            </a: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 gambar</a:t>
            </a:r>
            <a:r>
              <a:rPr b="1" lang="id-ID" sz="2800" spc="-1" strike="noStrike">
                <a:solidFill>
                  <a:srgbClr val="330066"/>
                </a:solidFill>
                <a:latin typeface="Arial"/>
              </a:rPr>
              <a:t> dan pendukungnya</a:t>
            </a: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,Contohnya  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7758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ngolah Tata Letak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obe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Frame Maker, Adobe PageMaker, Quark Xpre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ngolah Vektor/Garis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rel Draw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, Adobe Illustrator, Macromedia Freehan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ngolah Gambar (Adobe Photoshop, Corel Photo Paint, Microsoft Photo Edit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dobe Photoshop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orel Dra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-857160"/>
            <a:ext cx="754380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D (Computer Aid Design) merupakan aplikasi yang berorientasi pada rancangan bangunan dan mesin,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2445840"/>
            <a:ext cx="5257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FreeC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LibreC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ketch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476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 Rounded MT Bold"/>
              </a:rPr>
              <a:t>Perangkat Lunak (Software) Komputer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0066"/>
                </a:solidFill>
                <a:latin typeface="Tahoma"/>
              </a:rPr>
              <a:t>Adalah program yang berisi intruksi/perintah untuk melakukan proses pengolaha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SketchU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Picture 2" descr="C:\Users\Ginanjar\Desktop\Apa-itu-Sketchup.jpg"/>
          <p:cNvPicPr/>
          <p:nvPr/>
        </p:nvPicPr>
        <p:blipFill>
          <a:blip r:embed="rId1"/>
          <a:stretch/>
        </p:blipFill>
        <p:spPr>
          <a:xfrm>
            <a:off x="500040" y="1643040"/>
            <a:ext cx="6859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330066"/>
                </a:solidFill>
                <a:latin typeface="Arial"/>
              </a:rPr>
              <a:t>Multimedia </a:t>
            </a:r>
            <a:r>
              <a:rPr b="1" lang="id-ID" sz="3200" spc="-1" strike="noStrike">
                <a:solidFill>
                  <a:srgbClr val="330066"/>
                </a:solidFill>
                <a:latin typeface="Arial"/>
              </a:rPr>
              <a:t>merupakan aplikasi yang berorientasi pada banyak media beserta pendukungnya</a:t>
            </a:r>
            <a:r>
              <a:rPr b="1" lang="en-GB" sz="3200" spc="-1" strike="noStrike">
                <a:solidFill>
                  <a:srgbClr val="330066"/>
                </a:solidFill>
                <a:latin typeface="Arial"/>
              </a:rPr>
              <a:t>,Contohnya  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31600"/>
            <a:ext cx="7758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golah Film/Video (Ulead Video Studio, Pinnacle Studio Plus, Adobe After Effect, Power Direc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golah Multimedia (Macromedia Director, Macromedia Flash, Macromedia Buil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golah Suara (Adobe Audition, WavePad, Auda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Aplikasi Multimedia (Winamp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 Player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yberlink Power DVD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, GOM P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Adobe After Eff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C:\Users\Ginanjar\Desktop\adobe-after-effects-screenshot.jpg"/>
          <p:cNvPicPr/>
          <p:nvPr/>
        </p:nvPicPr>
        <p:blipFill>
          <a:blip r:embed="rId1"/>
          <a:stretch/>
        </p:blipFill>
        <p:spPr>
          <a:xfrm>
            <a:off x="928800" y="1604880"/>
            <a:ext cx="6958080" cy="41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Adobe Flas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2" descr="C:\Users\Ginanjar\Desktop\images.jpg"/>
          <p:cNvPicPr/>
          <p:nvPr/>
        </p:nvPicPr>
        <p:blipFill>
          <a:blip r:embed="rId1"/>
          <a:stretch/>
        </p:blipFill>
        <p:spPr>
          <a:xfrm>
            <a:off x="714240" y="1469880"/>
            <a:ext cx="70009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32436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id-ID" sz="3500" spc="-1" strike="noStrike">
                <a:solidFill>
                  <a:srgbClr val="330066"/>
                </a:solidFill>
                <a:latin typeface="Arial"/>
              </a:rPr>
              <a:t>Web Browser yang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merupakan aplikasi yang digunakan mencari informasi lewat internet,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74008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zilla fireF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Safar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Picture 4" descr="C:\Users\Ginanjar\Desktop\004-safari-browser-navigator-presentation-screen-web-psd.jpg"/>
          <p:cNvPicPr/>
          <p:nvPr/>
        </p:nvPicPr>
        <p:blipFill>
          <a:blip r:embed="rId1"/>
          <a:stretch/>
        </p:blipFill>
        <p:spPr>
          <a:xfrm>
            <a:off x="538200" y="1643040"/>
            <a:ext cx="708192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913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Bahasa Pemograma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alah program yang digunakan untuk membuat program  k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09160"/>
            <a:ext cx="75438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Bahasa pemograman dibagi menjadi 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6972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0">
              <a:spcBef>
                <a:spcPts val="751"/>
              </a:spcBef>
              <a:buNone/>
              <a:tabLst>
                <a:tab algn="l" pos="0"/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hasa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mrograman generasi ke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hasa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mrograman generasi ke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hasa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mrograman generasi ke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hasa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mrograman generasi ke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751"/>
              </a:spcBef>
              <a:buNone/>
              <a:tabLst>
                <a:tab algn="l" pos="0"/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913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Bahasa </a:t>
            </a:r>
            <a:r>
              <a:rPr b="1" lang="id-ID" sz="4800" spc="-1" strike="noStrike">
                <a:solidFill>
                  <a:srgbClr val="330066"/>
                </a:solidFill>
                <a:latin typeface="Arial"/>
              </a:rPr>
              <a:t>Pemrograman Generasi Ke 1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ebut juga dengan bahasa mesin,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yaitu memberikan perintah kepada komputer dengan memakai kode bahasa biner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id-ID" sz="3200" spc="-1" strike="noStrike">
                <a:solidFill>
                  <a:srgbClr val="000000"/>
                </a:solidFill>
                <a:latin typeface="Tahoma"/>
              </a:rPr>
              <a:t> 0 da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5720" y="465120"/>
            <a:ext cx="67798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330066"/>
                </a:solidFill>
                <a:latin typeface="Arial"/>
              </a:rPr>
              <a:t>Bahasa </a:t>
            </a:r>
            <a:r>
              <a:rPr b="1" lang="id-ID" sz="4000" spc="-1" strike="noStrike">
                <a:solidFill>
                  <a:srgbClr val="330066"/>
                </a:solidFill>
                <a:latin typeface="Arial"/>
              </a:rPr>
              <a:t>Pemrograman Generasi Ke 2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571680" y="3000240"/>
            <a:ext cx="664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Disebut dengan istilah bahasa rakitan (bah.Inggris </a:t>
            </a: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), yaitu memberikan perintah kepada komputer dengan memakai kode-kode singkat (kode </a:t>
            </a: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mnemonic</a:t>
            </a: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), contohnya kode mesin MOV, SUB, CMP, JMP, JGE, JL, LOOP, dsb. Contoh = Bahasa Pemrograman Assemb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1924200"/>
            <a:ext cx="7543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Perangkat lunak terbagi menjadi 4 macam, yaitu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stem operasi (Operating System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gram aplikasi (Application Programs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hasa pemograman (Programming Language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gram bantu System (Utility System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913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Bahasa </a:t>
            </a:r>
            <a:r>
              <a:rPr b="1" lang="id-ID" sz="4800" spc="-1" strike="noStrike">
                <a:solidFill>
                  <a:srgbClr val="330066"/>
                </a:solidFill>
                <a:latin typeface="Arial"/>
              </a:rPr>
              <a:t>Pemrograman Generasi ke 3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80880" y="3049560"/>
            <a:ext cx="6716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ebut  bahasa mesin yang sudah diterjemahkan ke dalam bahasa manusia(inggris)</a:t>
            </a:r>
            <a:r>
              <a:rPr b="0" lang="id-ID" sz="3200" spc="-1" strike="noStrike">
                <a:solidFill>
                  <a:srgbClr val="000000"/>
                </a:solidFill>
                <a:latin typeface="Tahoma"/>
              </a:rPr>
              <a:t> atau </a:t>
            </a:r>
            <a:r>
              <a:rPr b="0" i="1" lang="id-ID" sz="3200" spc="-1" strike="noStrike">
                <a:solidFill>
                  <a:srgbClr val="000000"/>
                </a:solidFill>
                <a:latin typeface="Arial"/>
              </a:rPr>
              <a:t>high level programming languag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d-ID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toh :C</a:t>
            </a:r>
            <a:r>
              <a:rPr b="0" lang="id-ID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Pas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913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Bahasa </a:t>
            </a:r>
            <a:r>
              <a:rPr b="1" lang="id-ID" sz="4800" spc="-1" strike="noStrike">
                <a:solidFill>
                  <a:srgbClr val="330066"/>
                </a:solidFill>
                <a:latin typeface="Arial"/>
              </a:rPr>
              <a:t>pemrograman </a:t>
            </a: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generasi ke</a:t>
            </a:r>
            <a:r>
              <a:rPr b="1" lang="id-ID" sz="4800" spc="-1" strike="noStrike">
                <a:solidFill>
                  <a:srgbClr val="330066"/>
                </a:solidFill>
                <a:latin typeface="Arial"/>
              </a:rPr>
              <a:t> 4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0040" y="3049560"/>
            <a:ext cx="721512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Bahasa komputer yang memakai instruksi berasal dari unsur kata-kata bahasa manusia, contohnya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begin, end, if, for, while, and, or, dsb.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Komputer dapat mengerti bahasa manusia itu diperlukan program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atau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interpreter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Contoh :Visual Basic, Delphi,Visual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5720" y="465120"/>
            <a:ext cx="67798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Bahasa Pemrograman Generasi Ke 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500040" y="3049560"/>
            <a:ext cx="721512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Dikenal deng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Language Based Object Oriented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contoh : PHP, Java, Ruby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&amp; Web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0066"/>
                </a:solidFill>
                <a:latin typeface="Arial"/>
              </a:rPr>
              <a:t>Program bantu Sistem operasi (Utility System)</a:t>
            </a:r>
            <a:br>
              <a:rPr sz="4400"/>
            </a:br>
            <a:r>
              <a:rPr b="1" lang="en-GB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alah program yang digunakan  untuk membantu meningkatkan kinerja sistem 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-1390680"/>
            <a:ext cx="7543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ontoh utility system, yaitu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rton Comander merupakan utility untuk mengelola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Arial"/>
              </a:rPr>
              <a:t>CCleane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merupakan utility untuk membantu mengecek hardisk yang rusa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inzip merupakan utility untuk mengompres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uneUp Utilities merupakan utility untuk meningkatkan kinerja sistem opera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ti Virus merupakan utility untuk menjaga keamanan kompu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nti virus A</a:t>
            </a: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V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101320" y="200016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gramming Language Based Object 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C:\Users\Ginanjar\Desktop\avg-antivirus-screenshot-01.png"/>
          <p:cNvPicPr/>
          <p:nvPr/>
        </p:nvPicPr>
        <p:blipFill>
          <a:blip r:embed="rId1"/>
          <a:stretch/>
        </p:blipFill>
        <p:spPr>
          <a:xfrm>
            <a:off x="905040" y="1330200"/>
            <a:ext cx="6738840" cy="524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CClea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4" descr="C:\Users\Ginanjar\Desktop\ccleaner-screenshot.jpg.png"/>
          <p:cNvPicPr/>
          <p:nvPr/>
        </p:nvPicPr>
        <p:blipFill>
          <a:blip r:embed="rId1"/>
          <a:stretch/>
        </p:blipFill>
        <p:spPr>
          <a:xfrm>
            <a:off x="762120" y="1231920"/>
            <a:ext cx="7024680" cy="52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Latih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00040" y="1714680"/>
            <a:ext cx="8072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2060"/>
                </a:solidFill>
                <a:latin typeface="Arial"/>
              </a:rPr>
              <a:t>Jalankan salah satu File ISO Linux / Hackintosh dengan menggunakan virtual machine, contoh virtual machine : VMWare, Virtual PC, Virtual Bo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002060"/>
                </a:solidFill>
                <a:latin typeface="Arial"/>
              </a:rPr>
              <a:t>Tu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2060"/>
                </a:solidFill>
                <a:latin typeface="Arial"/>
              </a:rPr>
              <a:t>Tulis dan praktekan minimal 10 fungsi / perintah Command Prompt (MS.D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6080" y="46476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Sistem operasi (Operating System)</a:t>
            </a:r>
            <a:r>
              <a:rPr b="1" lang="ar-SA" sz="4800" spc="-1" strike="noStrike">
                <a:solidFill>
                  <a:srgbClr val="330066"/>
                </a:solidFill>
                <a:latin typeface="Arial"/>
                <a:ea typeface="Arial"/>
              </a:rPr>
              <a:t>‏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alah program yang digunakan untuk mengendalikan kerja k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-1390680"/>
            <a:ext cx="7543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ontoh sistem operasi, yaitu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S-Dos (Microsoft Operating System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crosoft Wind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0066"/>
                </a:solidFill>
                <a:latin typeface="Arial"/>
              </a:rPr>
              <a:t>Program aplikasi (Application Programs)</a:t>
            </a:r>
            <a:br>
              <a:rPr sz="4400"/>
            </a:br>
            <a:r>
              <a:rPr b="1" lang="en-GB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alah program yang digunakan khusus untuk tujuan tert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-2076480"/>
            <a:ext cx="7543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Program aplikasi dibagi menjadi :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d Processing (Pengolah kata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preadsheet (Pengolah angka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senta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abase (Pengolah data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ign Grafis (Pengolah Gambar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D (Computer Aid Design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78156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Word Processing merupakan aplikasi yang berorientasi pada pengolah kata, 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Office 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Libr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 Per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i 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Libre Office Wri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4" descr="C:\Users\Ginanjar\Desktop\libreoffice-screenshot.jpg.png"/>
          <p:cNvPicPr/>
          <p:nvPr/>
        </p:nvPicPr>
        <p:blipFill>
          <a:blip r:embed="rId1"/>
          <a:stretch/>
        </p:blipFill>
        <p:spPr>
          <a:xfrm>
            <a:off x="428760" y="1714680"/>
            <a:ext cx="7215120" cy="433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c4010</dc:creator>
  <dc:description/>
  <dc:language>en-US</dc:language>
  <cp:lastModifiedBy>User</cp:lastModifiedBy>
  <dcterms:modified xsi:type="dcterms:W3CDTF">2017-09-15T15:32:26Z</dcterms:modified>
  <cp:revision>30</cp:revision>
  <dc:subject/>
  <dc:title>Perangkat Lunak (Software) Komputer</dc:title>
</cp:coreProperties>
</file>