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A7D-EC50-4787-B29D-1A2A563F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021C-755F-4BD6-A1C5-86AFE01A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01C5-E1AB-4534-B86D-0A65047F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E541-9A67-4B8E-8DAA-DFB22FB9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940D-02B2-4877-937E-81D1512A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DA6-9369-4737-8865-3F9CFE63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63A9-64F7-4770-80C0-F6AD315D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40AD-4202-44C4-BDE5-4F1D1AA1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665A-C1BA-474D-BB58-A17C8D71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0CC-2DD0-464E-A553-CD2700F2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F6B5-32C5-4F75-BC02-8F2A6EEB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82A2-9CC3-4B83-9859-EBAF0AE0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6557-AA4E-41B8-9EB9-5FBC584DF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05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30T02:21:22Z</dcterms:created>
  <dc:creator>EndUser</dc:creator>
  <dc:description/>
  <dc:language>en-US</dc:language>
  <cp:lastModifiedBy>EndUser</cp:lastModifiedBy>
  <dcterms:modified xsi:type="dcterms:W3CDTF">2014-05-30T02:44:27Z</dcterms:modified>
  <cp:revision>7</cp:revision>
  <dc:subject/>
  <dc:title>Slide 1</dc:title>
</cp:coreProperties>
</file>