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3B0F-2593-4491-A7B1-26DA7D84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0E6-3EFF-45B7-B991-A72B02EB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0B0-1096-4930-A92E-1BE028BA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837-AE60-42E3-A4FE-5B970F89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AE9-DF3D-4EDB-8FC9-4589DDD0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DA2-197C-4113-862E-7AF7CF8B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414-7F30-474E-A19C-D34BB662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218-D132-4B2E-B992-E41F96F0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5BC-E3DB-4851-AA17-94532CFB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68B-4041-4AE6-BE64-F0FBE859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EA0-9551-4435-984D-151F8739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EBB-89E7-4039-AD13-617D1568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E322-AD5B-4DD9-80BA-CF68EF97E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05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0T02:21:22Z</dcterms:created>
  <dc:creator>EndUser</dc:creator>
  <dc:description/>
  <dc:language>en-US</dc:language>
  <cp:lastModifiedBy>EndUser</cp:lastModifiedBy>
  <dcterms:modified xsi:type="dcterms:W3CDTF">2014-05-30T02:44:27Z</dcterms:modified>
  <cp:revision>7</cp:revision>
  <dc:subject/>
  <dc:title>Slide 1</dc:title>
</cp:coreProperties>
</file>