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A78-86E9-48D5-A445-CF8FE622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B61-1700-4ADB-9F2E-D939B341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737-CB9C-45CF-8C86-3C5F9DDA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585-F141-43CE-A777-0A34ADA9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DCE-D463-4376-8E6A-81E4EA57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2D9-4D6F-46BA-9546-0C223870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858-8466-43EC-A5D1-88BC0910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3ED-53C4-4B38-84A7-18741BE4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ABB-2F88-42D3-94E3-B7216616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21B-7752-4381-A7B7-A8CD578B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297-9558-4907-91DE-2D57496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ABB-E8F6-4C60-AA33-E6799B06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C077-C241-42BC-9638-0C2981AB08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424720" cy="518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148360" y="0"/>
            <a:ext cx="38512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بللت فراشي بدموعي المر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0"/>
            <a:ext cx="39574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وعاهدت إلهي دي أخر مر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3640" y="5877000"/>
            <a:ext cx="3816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هاثبت في حبك وأثبت كالصخر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4869000"/>
            <a:ext cx="252072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من كل قلبي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1128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مش راجع تا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128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Times New Roman"/>
              </a:rPr>
              <a:t>مش راجع تاني</a:t>
            </a:r>
            <a:endParaRPr b="1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مش راجع تاني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7993080" cy="4741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219640" y="-27000"/>
            <a:ext cx="396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وجات عليّ الحرب قوي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200" y="-27000"/>
            <a:ext cx="39610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ورجعت تاني لعمق الخطي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59280" y="5886360"/>
            <a:ext cx="42847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فبكيت من قلبي بتوبة نقي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5013360"/>
            <a:ext cx="2303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لكن لمد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788000" y="189000"/>
            <a:ext cx="417672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قويت إرادتي كترت عهود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89440" y="1557360"/>
            <a:ext cx="410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من فرط غروري زودت عهود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88000" y="3284640"/>
            <a:ext cx="403200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واثق بعزيمتي واثق بجهاد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940360" y="4869000"/>
            <a:ext cx="287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خانتني نفس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12000" y="5877000"/>
            <a:ext cx="2736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012000" y="5834160"/>
            <a:ext cx="2736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12000" y="5834160"/>
            <a:ext cx="2736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392720" y="44280"/>
            <a:ext cx="47512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فصرخت بشدة وقلت إرحم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2720" y="4221000"/>
            <a:ext cx="47512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القوة منك من فوق مش م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65800" y="5734080"/>
            <a:ext cx="33098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طول ما أنت معايا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5805360"/>
            <a:ext cx="33098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مش هارجع تا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56000" y="1449360"/>
            <a:ext cx="47516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أنا عارف ضعفي يارب أع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5805360"/>
            <a:ext cx="33098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Times New Roman"/>
              </a:rPr>
              <a:t>مش هارجع تاني</a:t>
            </a:r>
            <a:endParaRPr b="1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5805360"/>
            <a:ext cx="33098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مش هارجع تاني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23:27:20Z</dcterms:created>
  <dc:creator>Alexander</dc:creator>
  <dc:description/>
  <dc:language>en-US</dc:language>
  <cp:lastModifiedBy>Alexander</cp:lastModifiedBy>
  <dcterms:modified xsi:type="dcterms:W3CDTF">2003-07-23T12:21:16Z</dcterms:modified>
  <cp:revision>14</cp:revision>
  <dc:subject/>
  <dc:title>Slide 1</dc:title>
</cp:coreProperties>
</file>