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F36E-3480-4B0F-8A5E-83B7AAD62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1B2D-8F34-418C-AB49-1E2E9BD2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EC14-C662-4003-9D6B-C7083D0A5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733F-4BED-44AD-B61F-AF8F0F4BF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35F8-4DEC-490B-8150-6DB798AA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3E0B-4FC6-4310-A57F-8D47EBAC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D6A4-3D29-46FD-921D-13704267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2063-B10D-4B58-B1D6-975558E4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E94D-E9AB-4CEB-8A8E-11920EDE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3859-A928-4B60-9C82-20ABF83A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15CC-1E51-46D1-894D-78EC3753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514D-E7D9-480F-AA7E-62761CB5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A1EB-2B9D-4769-BC74-EAE38145C53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8424720" cy="5184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5148360" y="0"/>
            <a:ext cx="3851280" cy="9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بللت فراشي بدموعي المرة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4000" y="0"/>
            <a:ext cx="3957480" cy="9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وعاهدت إلهي دي أخر مرة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003640" y="5877000"/>
            <a:ext cx="381636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هاثبت في حبك وأثبت كالصخرة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11280" y="4869000"/>
            <a:ext cx="2520720" cy="8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من كل قلبي 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11280" y="5877000"/>
            <a:ext cx="273672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مش راجع تاني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11280" y="5877000"/>
            <a:ext cx="273672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ccff"/>
                  </a:solidFill>
                  <a:miter/>
                </a:ln>
                <a:solidFill>
                  <a:srgbClr val="ffccff"/>
                </a:solidFill>
                <a:latin typeface="Times New Roman"/>
              </a:rPr>
              <a:t>مش راجع تاني</a:t>
            </a:r>
            <a:endParaRPr b="1" lang="en-US" sz="1800" spc="1" strike="noStrike">
              <a:ln w="9360">
                <a:solidFill>
                  <a:srgbClr val="ffccff"/>
                </a:solidFill>
                <a:miter/>
              </a:ln>
              <a:solidFill>
                <a:srgbClr val="ffccff"/>
              </a:solidFill>
              <a:latin typeface="Times New Roman"/>
              <a:ea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11280" y="5877000"/>
            <a:ext cx="273672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مش راجع تاني</a:t>
            </a:r>
            <a:endParaRPr b="1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2560" y="907920"/>
            <a:ext cx="7993080" cy="4741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5219640" y="-27000"/>
            <a:ext cx="3960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وجات عليّ الحرب قوية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06200" y="-27000"/>
            <a:ext cx="3961080" cy="9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ورجعت تاني لعمق الخطية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859280" y="5886360"/>
            <a:ext cx="428472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فبكيت من قلبي بتوبة نقية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5280" y="5013360"/>
            <a:ext cx="230364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لكن لمدة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24000" y="5877000"/>
            <a:ext cx="273672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ورجعت تاني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4000" y="5877000"/>
            <a:ext cx="273672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ccff"/>
                  </a:solidFill>
                  <a:miter/>
                </a:ln>
                <a:solidFill>
                  <a:srgbClr val="ffccff"/>
                </a:solidFill>
                <a:latin typeface="Times New Roman"/>
              </a:rPr>
              <a:t>ورجعت تاني</a:t>
            </a:r>
            <a:endParaRPr b="1" lang="en-US" sz="1800" spc="1" strike="noStrike">
              <a:ln w="9360">
                <a:solidFill>
                  <a:srgbClr val="ffccff"/>
                </a:solidFill>
                <a:miter/>
              </a:ln>
              <a:solidFill>
                <a:srgbClr val="ffcc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24000" y="5877000"/>
            <a:ext cx="273672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ورجعت تاني</a:t>
            </a:r>
            <a:endParaRPr b="1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</p:spTree>
  </p:cSld>
  <p:transition>
    <p:cover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788000" y="189000"/>
            <a:ext cx="4176720" cy="8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قويت إرادتي كترت عهودي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789440" y="1557360"/>
            <a:ext cx="4103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من فرط غروري زودت عهودي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788000" y="3284640"/>
            <a:ext cx="4032000" cy="97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واثق بعزيمتي واثق بجهادي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940360" y="4869000"/>
            <a:ext cx="2879640" cy="8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خانتني نفسي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012000" y="5877000"/>
            <a:ext cx="273672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ورجعت تاني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6012000" y="5834160"/>
            <a:ext cx="273672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ورجعت تاني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012000" y="5834160"/>
            <a:ext cx="273672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ورجعت تاني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diamond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4392720" y="44280"/>
            <a:ext cx="475128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فصرخت بشدة وقلت إرحمني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392720" y="4221000"/>
            <a:ext cx="475128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القوة منك من فوق مش مني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365800" y="5734080"/>
            <a:ext cx="330984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طول ما أنت معايا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5805360"/>
            <a:ext cx="330984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مش هارجع تاني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356000" y="1449360"/>
            <a:ext cx="475164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أنا عارف ضعفي يارب أعني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8360" y="5805360"/>
            <a:ext cx="330984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ccff"/>
                  </a:solidFill>
                  <a:miter/>
                </a:ln>
                <a:solidFill>
                  <a:srgbClr val="ffccff"/>
                </a:solidFill>
                <a:latin typeface="Times New Roman"/>
              </a:rPr>
              <a:t>مش هارجع تاني</a:t>
            </a:r>
            <a:endParaRPr b="1" lang="en-US" sz="1800" spc="1" strike="noStrike">
              <a:ln w="9360">
                <a:solidFill>
                  <a:srgbClr val="ffccff"/>
                </a:solidFill>
                <a:miter/>
              </a:ln>
              <a:solidFill>
                <a:srgbClr val="ffccff"/>
              </a:solidFill>
              <a:latin typeface="Times New Roman"/>
              <a:ea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5805360"/>
            <a:ext cx="330984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مش هارجع تاني</a:t>
            </a:r>
            <a:endParaRPr b="1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</p:spTree>
  </p:cSld>
  <p:transition>
    <p:cover dir="ld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9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9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9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2T23:27:20Z</dcterms:created>
  <dc:creator>Alexander</dc:creator>
  <dc:description/>
  <dc:language>en-US</dc:language>
  <cp:lastModifiedBy>Alexander</cp:lastModifiedBy>
  <dcterms:modified xsi:type="dcterms:W3CDTF">2003-07-23T12:21:16Z</dcterms:modified>
  <cp:revision>14</cp:revision>
  <dc:subject/>
  <dc:title>Slide 1</dc:title>
</cp:coreProperties>
</file>