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B5951-7FDA-495B-8929-D292A7326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22C5B-328D-42B7-8CD3-E5DF93AA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59E58-97F0-4DB7-BC6D-10EA0F862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CC3BA-4F6A-43F6-ABBA-4188DAAC5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A8B9-2036-4BF0-ACF1-0DD780D7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01A2-4814-473B-BA6C-4B029A7F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2112-28EC-4086-9F98-A1075435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40AF-D85F-43BB-8874-0ECF3A75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F3E3-74D2-4D20-BACB-019D20CD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F0E8-6DA1-44A7-9E3A-3DEB50BD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DCB3-E9EC-41B3-B8D5-792AF6D4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31BE-FD2E-4661-A2FE-F9C844D91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13DA-82AC-4466-AE8C-5744BB35A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7560" y="357120"/>
            <a:ext cx="9058320" cy="16797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3300"/>
                </a:solidFill>
                <a:latin typeface="Arial"/>
              </a:rPr>
              <a:t>Corso</a:t>
            </a:r>
            <a:r>
              <a:rPr b="0" lang="en-US" sz="4600" spc="-1" strike="noStrike">
                <a:solidFill>
                  <a:srgbClr val="ff3300"/>
                </a:solidFill>
                <a:latin typeface="Arial"/>
              </a:rPr>
              <a:t> </a:t>
            </a:r>
            <a:r>
              <a:rPr b="0" lang="en-US" sz="5900" spc="-1" strike="noStrike">
                <a:solidFill>
                  <a:srgbClr val="ff3300"/>
                </a:solidFill>
                <a:latin typeface="Arial"/>
              </a:rPr>
              <a:t>di fotografia digitale</a:t>
            </a:r>
            <a:br>
              <a:rPr sz="5900"/>
            </a:br>
            <a:r>
              <a:rPr b="0" lang="en-US" sz="4500" spc="-1" strike="noStrike">
                <a:solidFill>
                  <a:srgbClr val="ff3300"/>
                </a:solidFill>
                <a:latin typeface="Arial"/>
              </a:rPr>
              <a:t>(linee guida)</a:t>
            </a:r>
            <a:endParaRPr b="0" lang="en-US" sz="4500" spc="-1" strike="noStrike">
              <a:solidFill>
                <a:srgbClr val="000000"/>
              </a:solidFill>
              <a:latin typeface="Times New Roman"/>
            </a:endParaRPr>
          </a:p>
        </p:txBody>
      </p:sp>
      <p:sp>
        <p:nvSpPr>
          <p:cNvPr id="42" name="PlaceHolder 2"/>
          <p:cNvSpPr>
            <a:spLocks noGrp="1"/>
          </p:cNvSpPr>
          <p:nvPr>
            <p:ph type="subTitle"/>
          </p:nvPr>
        </p:nvSpPr>
        <p:spPr>
          <a:xfrm>
            <a:off x="536400" y="2030400"/>
            <a:ext cx="4407120" cy="100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 cura di Patanè Vincenzo</a:t>
            </a:r>
            <a:endParaRPr b="0" lang="en-US" sz="2400" spc="-1" strike="noStrike">
              <a:solidFill>
                <a:srgbClr val="000000"/>
              </a:solidFill>
              <a:latin typeface="Times New Roman"/>
            </a:endParaRPr>
          </a:p>
        </p:txBody>
      </p:sp>
      <p:pic>
        <p:nvPicPr>
          <p:cNvPr id="43" name="" descr=""/>
          <p:cNvPicPr/>
          <p:nvPr/>
        </p:nvPicPr>
        <p:blipFill>
          <a:blip r:embed="rId2"/>
          <a:stretch/>
        </p:blipFill>
        <p:spPr>
          <a:xfrm>
            <a:off x="5375160" y="3794040"/>
            <a:ext cx="4389480" cy="3098880"/>
          </a:xfrm>
          <a:prstGeom prst="rect">
            <a:avLst/>
          </a:prstGeom>
          <a:ln w="0">
            <a:noFill/>
          </a:ln>
        </p:spPr>
      </p:pic>
      <p:pic>
        <p:nvPicPr>
          <p:cNvPr id="44" name="" descr=""/>
          <p:cNvPicPr/>
          <p:nvPr/>
        </p:nvPicPr>
        <p:blipFill>
          <a:blip r:embed="rId3"/>
          <a:stretch/>
        </p:blipFill>
        <p:spPr>
          <a:xfrm>
            <a:off x="487440" y="3794040"/>
            <a:ext cx="4205160" cy="30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160" y="55440"/>
            <a:ext cx="10083600" cy="1300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6° lezione</a:t>
            </a:r>
            <a:br>
              <a:rPr sz="4800"/>
            </a:br>
            <a:r>
              <a:rPr b="0" lang="en-US" sz="4800" spc="-1" strike="noStrike">
                <a:solidFill>
                  <a:srgbClr val="ffe701"/>
                </a:solidFill>
                <a:latin typeface="Arial"/>
              </a:rPr>
              <a:t>rumore di fondo</a:t>
            </a:r>
            <a:endParaRPr b="0" lang="en-US" sz="4800" spc="-1" strike="noStrike">
              <a:solidFill>
                <a:srgbClr val="000000"/>
              </a:solidFill>
              <a:latin typeface="Times New Roman"/>
            </a:endParaRPr>
          </a:p>
        </p:txBody>
      </p:sp>
      <p:sp>
        <p:nvSpPr>
          <p:cNvPr id="62" name="PlaceHolder 2"/>
          <p:cNvSpPr>
            <a:spLocks noGrp="1"/>
          </p:cNvSpPr>
          <p:nvPr>
            <p:ph type="subTitle"/>
          </p:nvPr>
        </p:nvSpPr>
        <p:spPr>
          <a:xfrm>
            <a:off x="237960" y="1863720"/>
            <a:ext cx="9684000" cy="4888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a:t>
            </a:r>
            <a:r>
              <a:rPr b="0" i="1" lang="en-US" sz="2400" spc="-1" strike="noStrike">
                <a:solidFill>
                  <a:srgbClr val="3366ff"/>
                </a:solidFill>
                <a:latin typeface="Arial"/>
              </a:rPr>
              <a:t> </a:t>
            </a:r>
            <a:r>
              <a:rPr b="0" i="1" lang="en-US" sz="2400" spc="-1" strike="noStrike">
                <a:solidFill>
                  <a:srgbClr val="ccffff"/>
                </a:solidFill>
                <a:latin typeface="Arial"/>
              </a:rPr>
              <a:t>- quando si scattano foto, con tempi uguali o superiori a ¼ di secondo o con una sensibilità di 400/800 iso, si può verificare un fenomeno per cui le stesse sono piene di puntini colorati, specialmente nelle zone scure e diffusi su tutta l’immagi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questo fenomeno si chiama “ rumore di fondo “ ed è eliminabile attivando, sulla macchina fotografica, la funzione “ noise reduction “ o riduzione del rumore di fondo che comporta un’allungamento dei tempi di salvataggio sulla scheda ma è molto ut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7560" y="357120"/>
            <a:ext cx="905832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7° lezione</a:t>
            </a:r>
            <a:br>
              <a:rPr sz="4800"/>
            </a:br>
            <a:r>
              <a:rPr b="0" lang="en-US" sz="4800" spc="-1" strike="noStrike">
                <a:solidFill>
                  <a:srgbClr val="ffe701"/>
                </a:solidFill>
                <a:latin typeface="Arial"/>
              </a:rPr>
              <a:t>archiviazione</a:t>
            </a:r>
            <a:endParaRPr b="0" lang="en-US" sz="4800" spc="-1" strike="noStrike">
              <a:solidFill>
                <a:srgbClr val="000000"/>
              </a:solidFill>
              <a:latin typeface="Times New Roman"/>
            </a:endParaRPr>
          </a:p>
        </p:txBody>
      </p:sp>
      <p:sp>
        <p:nvSpPr>
          <p:cNvPr id="64" name="PlaceHolder 2"/>
          <p:cNvSpPr>
            <a:spLocks noGrp="1"/>
          </p:cNvSpPr>
          <p:nvPr>
            <p:ph type="subTitle"/>
          </p:nvPr>
        </p:nvSpPr>
        <p:spPr>
          <a:xfrm>
            <a:off x="237960" y="2504880"/>
            <a:ext cx="9684000" cy="3490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i="1" lang="en-US" sz="2400" spc="-1" strike="noStrike">
                <a:solidFill>
                  <a:srgbClr val="ccffff"/>
                </a:solidFill>
                <a:latin typeface="Arial"/>
              </a:rPr>
              <a:t>- con un programma di fotoritocco e usando le cartelle di windows, è possibile archiviare le foto in modo da ritrovarle facilmente e velocement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Se si è in possesso di un masterizzatore, conviene ogni tanto copiare i file delle foto su CD in quanto si è sicuri di non perderle in caso di problemi vari con il PC.</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Indicativamente si tenga presente che su un CD si possono caricare circa 1000/1200 foto scattate con una macchina da 2 mpx, con una risoluzione di 1600x1200 e salvate con una compressione JPEG di 1/8.</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i possono eventualmente cancellare o spostare foto tra le varie cart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7° lezione</a:t>
            </a:r>
            <a:br>
              <a:rPr sz="4800"/>
            </a:br>
            <a:r>
              <a:rPr b="0" lang="en-US" sz="4800" spc="-1" strike="noStrike">
                <a:solidFill>
                  <a:srgbClr val="ffe701"/>
                </a:solidFill>
                <a:latin typeface="Arial"/>
              </a:rPr>
              <a:t>archiviazione</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237960" y="1863720"/>
            <a:ext cx="9684000" cy="50896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ccffff"/>
                </a:solidFill>
                <a:uFillTx/>
                <a:latin typeface="Arial"/>
              </a:rPr>
              <a:t>Archiviare con windows</a:t>
            </a:r>
            <a:endParaRPr b="0" lang="en-US" sz="29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a:t>
            </a:r>
            <a:r>
              <a:rPr b="0" i="1" lang="en-US" sz="2900" spc="-1" strike="noStrike">
                <a:solidFill>
                  <a:srgbClr val="ccffff"/>
                </a:solidFill>
                <a:latin typeface="Arial"/>
              </a:rPr>
              <a:t> </a:t>
            </a:r>
            <a:r>
              <a:rPr b="0" i="1" lang="en-US" sz="2400" spc="-1" strike="noStrike">
                <a:solidFill>
                  <a:srgbClr val="ccffff"/>
                </a:solidFill>
                <a:latin typeface="Arial"/>
              </a:rPr>
              <a:t>creare una cartella “ immagini “ ( o altro nome a piacere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a:t>
            </a:r>
            <a:r>
              <a:rPr b="0" i="1" lang="en-US" sz="2900" spc="-1" strike="noStrike">
                <a:solidFill>
                  <a:srgbClr val="ccffff"/>
                </a:solidFill>
                <a:latin typeface="Arial"/>
              </a:rPr>
              <a:t> </a:t>
            </a:r>
            <a:r>
              <a:rPr b="0" i="1" lang="en-US" sz="2400" spc="-1" strike="noStrike">
                <a:solidFill>
                  <a:srgbClr val="ccffff"/>
                </a:solidFill>
                <a:latin typeface="Arial"/>
              </a:rPr>
              <a:t>dentro la cartella “ immagini “, creare altre cartelle con i nomi delle varie serie di foto che avete creato, tenendo presente che dentro ogni cartella possono essere contenute altre cartelle per suddividere ulteriormente le varie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tenete presente che ogni cartella o foto deve avere un unico “ NOME o NUMERO “ </a:t>
            </a:r>
            <a:r>
              <a:rPr b="0" i="1" lang="en-US" sz="2400" spc="-1" strike="noStrike" u="sng">
                <a:solidFill>
                  <a:srgbClr val="ccffff"/>
                </a:solidFill>
                <a:uFillTx/>
                <a:latin typeface="Arial"/>
              </a:rPr>
              <a:t>quindi non devono esistere</a:t>
            </a:r>
            <a:r>
              <a:rPr b="0" i="1" lang="en-US" sz="2400" spc="-1" strike="noStrike">
                <a:solidFill>
                  <a:srgbClr val="ccffff"/>
                </a:solidFill>
                <a:latin typeface="Arial"/>
              </a:rPr>
              <a:t> due cartelle o due foto con lo stesso nome o numero, comunque se cercate di dare un nome o un numero che già esiste, ad una cartella o foto, Windows vi avve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264600"/>
            <a:ext cx="9066240" cy="930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8° lezione</a:t>
            </a:r>
            <a:br>
              <a:rPr sz="5300"/>
            </a:br>
            <a:r>
              <a:rPr b="0" lang="en-US" sz="5300" spc="-1" strike="noStrike">
                <a:solidFill>
                  <a:srgbClr val="ffe701"/>
                </a:solidFill>
                <a:latin typeface="Arial"/>
              </a:rPr>
              <a:t>ritocco fotografico</a:t>
            </a:r>
            <a:endParaRPr b="0" lang="en-US" sz="5300" spc="-1" strike="noStrike">
              <a:solidFill>
                <a:srgbClr val="000000"/>
              </a:solidFill>
              <a:latin typeface="Times New Roman"/>
            </a:endParaRPr>
          </a:p>
        </p:txBody>
      </p:sp>
      <p:sp>
        <p:nvSpPr>
          <p:cNvPr id="68" name="PlaceHolder 2"/>
          <p:cNvSpPr>
            <a:spLocks noGrp="1"/>
          </p:cNvSpPr>
          <p:nvPr>
            <p:ph type="subTitle"/>
          </p:nvPr>
        </p:nvSpPr>
        <p:spPr>
          <a:xfrm>
            <a:off x="237960" y="1545840"/>
            <a:ext cx="9684000" cy="601812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con un programma di ritocco fotografico è possibile intervenire, se necessario, su diversi parametri tra cui luminosità, contrasto, colore, nitidezza, ritagliare parte della foto, intervenire su una singola parte della foto senza alterare tutto il resto, aggiungere cornici di vario tipo, ingrandire o rimpicciolire, ruotare e molti altri effetti, dipende dal programma che utilizziam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ovviamente la fotografia và sempre fatta al meglio in quanto i ritocchi conviene farli sempre in maniera leggera perché altrimenti si rischia di rovinare la foto stess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i possono preparare calendari con le proprie foto in diversi formati, effettuare composizioni tra le varie foto, trasferire un particolare da una foto all’altra, ad esempio un viso, far sparire particolari indesiderati dalla foto e molto altro secondo il programma in us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comunque, per sicurezza, prima di ritoccare una foto ed almeno fino a quando non si è presa un po’ di pratica, conviene fare prima una copia della foto e lavorare su questa in modo da non correre il rischio di rovinare l’origina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9° lezione</a:t>
            </a:r>
            <a:br>
              <a:rPr sz="4800"/>
            </a:br>
            <a:r>
              <a:rPr b="0" lang="en-US" sz="4800" spc="-1" strike="noStrike">
                <a:solidFill>
                  <a:srgbClr val="ffe701"/>
                </a:solidFill>
                <a:latin typeface="Arial"/>
              </a:rPr>
              <a:t>stampa</a:t>
            </a:r>
            <a:endParaRPr b="0" lang="en-US" sz="4800" spc="-1" strike="noStrike">
              <a:solidFill>
                <a:srgbClr val="000000"/>
              </a:solidFill>
              <a:latin typeface="Times New Roman"/>
            </a:endParaRPr>
          </a:p>
        </p:txBody>
      </p:sp>
      <p:sp>
        <p:nvSpPr>
          <p:cNvPr id="70" name="PlaceHolder 2"/>
          <p:cNvSpPr>
            <a:spLocks noGrp="1"/>
          </p:cNvSpPr>
          <p:nvPr>
            <p:ph type="subTitle"/>
          </p:nvPr>
        </p:nvSpPr>
        <p:spPr>
          <a:xfrm>
            <a:off x="237960" y="1623600"/>
            <a:ext cx="9684000" cy="5491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per la stampa delle foto occorre una buona stampante, per stampa fotografica, possibilmente che lavori in esacromia ( 6 colori ) con una definizione minima di 1440 x 720 dpi e si deve usare carta fotografica di buona qualità, tenendo presente che la normale carta tipo fotocopie non và bene perché assorbe l’inchiostro rendendo l’immagine poco definita e con colori sbiadit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prima di lanciare la stampa bisogna definire la misura e l’orientamento della carta, la misura e l’orientamento del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la misura della carta standard, sia normale che fotografica, è di mm. 210 x 297 ( formato A/4 ) per una stampante normale ma esistono anche stampanti e carte per formato A/3 di misura doppia e altri formati.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per la stampa di qualità è necessaria una densità di stampa di 300 dpi ( punti per pollice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5 - appena stampata, la foto, non và assolutamente toccata con le dita per almeno 15/20 minuti e per la completa asciugatura occorrono circa 12 ore</a:t>
            </a:r>
            <a:r>
              <a:rPr b="0" lang="en-US" sz="2400" spc="-1" strike="noStrike">
                <a:solidFill>
                  <a:srgbClr val="ccffff"/>
                </a:solidFill>
                <a:latin typeface="Arial"/>
              </a:rPr>
              <a:t> (</a:t>
            </a:r>
            <a:r>
              <a:rPr b="0" i="1" lang="en-US" sz="2400" spc="-1" strike="noStrike">
                <a:solidFill>
                  <a:srgbClr val="ccffff"/>
                </a:solidFill>
                <a:latin typeface="Arial"/>
              </a:rPr>
              <a:t>con una stampante a get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5920" y="425160"/>
            <a:ext cx="9040680" cy="1089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10° lezione</a:t>
            </a:r>
            <a:br>
              <a:rPr sz="4800"/>
            </a:br>
            <a:r>
              <a:rPr b="0" lang="en-US" sz="4800" spc="-1" strike="noStrike">
                <a:solidFill>
                  <a:srgbClr val="ffe701"/>
                </a:solidFill>
                <a:latin typeface="Arial"/>
              </a:rPr>
              <a:t>strumentazione</a:t>
            </a:r>
            <a:endParaRPr b="0" lang="en-US" sz="4800" spc="-1" strike="noStrike">
              <a:solidFill>
                <a:srgbClr val="000000"/>
              </a:solidFill>
              <a:latin typeface="Times New Roman"/>
            </a:endParaRPr>
          </a:p>
        </p:txBody>
      </p:sp>
      <p:sp>
        <p:nvSpPr>
          <p:cNvPr id="72" name="PlaceHolder 2"/>
          <p:cNvSpPr>
            <a:spLocks noGrp="1"/>
          </p:cNvSpPr>
          <p:nvPr>
            <p:ph type="subTitle"/>
          </p:nvPr>
        </p:nvSpPr>
        <p:spPr>
          <a:xfrm>
            <a:off x="237960" y="1343160"/>
            <a:ext cx="9684000" cy="66052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INIMA SENZA PC</a:t>
            </a:r>
            <a:r>
              <a:rPr b="0" i="1" lang="en-US" sz="2400" spc="-1" strike="noStrike">
                <a:solidFill>
                  <a:srgbClr val="ccffff"/>
                </a:solidFill>
                <a:latin typeface="Arial"/>
              </a:rPr>
              <a:t> macchina fotografica digit. da 3 mpx e stampare presso un fotograf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INIMA CON PC</a:t>
            </a:r>
            <a:r>
              <a:rPr b="0" i="1" lang="en-US" sz="2400" spc="-1" strike="noStrike">
                <a:solidFill>
                  <a:srgbClr val="ccffff"/>
                </a:solidFill>
                <a:latin typeface="Arial"/>
              </a:rPr>
              <a:t>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acchina fotografica digit. da 3 mpx, PC con proc.Pentium 3 da 1000 MB, Ram da 128/256 MB, stampante a getto per stampa fotografica e programma di fotoritoc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CONSIGLIAT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acchina fotografica digit. da 5 o 6 mpx, PC con proc. Pentium 4 da 2000 MB o più, Ram da 256/512 MB, stampante a getto per stampa fotografica e programma di fotoritocc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ACCHINA FOTOGRAFICA DIGITALE</a:t>
            </a:r>
            <a:r>
              <a:rPr b="0" i="1" lang="en-US" sz="2400" spc="-1" strike="noStrike">
                <a:solidFill>
                  <a:srgbClr val="ccffff"/>
                </a:solidFill>
                <a:latin typeface="Arial"/>
              </a:rPr>
              <a:t> ( di buona qualità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di marca conosciuta in campo fotografico, con zoom ottico da 3 x o più, molte hanno anche un ulteriore ingrandimento digitale ma che in effetti è poco utilizzabile in quanto comporta un decadimento della qualità dell’immagine, con possibilità di intervenire sui parametri di ripresa anche manualmente in quanto gli automatismi non sono adatti a tutte le condizioni di ripresa per cui a volte è necessario intervenire</a:t>
            </a:r>
            <a:r>
              <a:rPr b="0" i="1" lang="en-US" sz="2400" spc="-1" strike="noStrike">
                <a:solidFill>
                  <a:srgbClr val="ffffff"/>
                </a:solidFill>
                <a:latin typeface="Arial"/>
              </a:rPr>
              <a:t> </a:t>
            </a:r>
            <a:r>
              <a:rPr b="0" i="1" lang="en-US" sz="2400" spc="-1" strike="noStrike">
                <a:solidFill>
                  <a:srgbClr val="ccffff"/>
                </a:solidFill>
                <a:latin typeface="Arial"/>
              </a:rPr>
              <a:t>manualmente per adattare i comandi alla situazione del mo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75920" y="425160"/>
            <a:ext cx="9040680" cy="1089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10° lezione</a:t>
            </a:r>
            <a:br>
              <a:rPr sz="4800"/>
            </a:br>
            <a:r>
              <a:rPr b="0" lang="en-US" sz="4800" spc="-1" strike="noStrike">
                <a:solidFill>
                  <a:srgbClr val="ffe701"/>
                </a:solidFill>
                <a:latin typeface="Arial"/>
              </a:rPr>
              <a:t>strumentazione</a:t>
            </a:r>
            <a:endParaRPr b="0" lang="en-US" sz="4800" spc="-1" strike="noStrike">
              <a:solidFill>
                <a:srgbClr val="000000"/>
              </a:solidFill>
              <a:latin typeface="Times New Roman"/>
            </a:endParaRPr>
          </a:p>
        </p:txBody>
      </p:sp>
      <p:sp>
        <p:nvSpPr>
          <p:cNvPr id="74" name="PlaceHolder 2"/>
          <p:cNvSpPr>
            <a:spLocks noGrp="1"/>
          </p:cNvSpPr>
          <p:nvPr>
            <p:ph type="subTitle"/>
          </p:nvPr>
        </p:nvSpPr>
        <p:spPr>
          <a:xfrm>
            <a:off x="237960" y="1465200"/>
            <a:ext cx="9684000" cy="63705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funzione macro, attacco per flash esterno, filettatura sull’obiettivo per l’aggiunta di teleobbiettivo o grandangolar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ossibilmente anche la funzione VR ( riduzione vibrazione ) che oltre a stabilizzare l’immagine in caso di leggero tremolio delle mani, consente di fotografare con tempi lenti a mano libera ( di circa 3 stop in men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oltre l’automatico, priorità di tempi e priorità di diaframmi.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essa a fuoco all’infinito e manual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apertura minima 2.6 o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47560" y="357120"/>
            <a:ext cx="905832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cc99"/>
                </a:solidFill>
                <a:latin typeface="Arial"/>
              </a:rPr>
              <a:t>Indice</a:t>
            </a:r>
            <a:endParaRPr b="0" lang="en-US" sz="5300" spc="-1" strike="noStrike">
              <a:solidFill>
                <a:srgbClr val="000000"/>
              </a:solidFill>
              <a:latin typeface="Times New Roman"/>
            </a:endParaRPr>
          </a:p>
        </p:txBody>
      </p:sp>
      <p:sp>
        <p:nvSpPr>
          <p:cNvPr id="76" name="PlaceHolder 2"/>
          <p:cNvSpPr>
            <a:spLocks noGrp="1"/>
          </p:cNvSpPr>
          <p:nvPr>
            <p:ph type="subTitle"/>
          </p:nvPr>
        </p:nvSpPr>
        <p:spPr>
          <a:xfrm>
            <a:off x="547560" y="1830240"/>
            <a:ext cx="9058320" cy="4888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2/3/4: Principali differenz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5: Controindicazion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6: Compensazione del bian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7/8: Modalità di ripres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9: Risoluzione del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0: Rumore di fond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1/12: Archiviazio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3: Ritocco fotografi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4: Stamp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5/16: Strument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17160" y="357120"/>
            <a:ext cx="928836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46" name="PlaceHolder 2"/>
          <p:cNvSpPr>
            <a:spLocks noGrp="1"/>
          </p:cNvSpPr>
          <p:nvPr>
            <p:ph type="subTitle"/>
          </p:nvPr>
        </p:nvSpPr>
        <p:spPr>
          <a:xfrm>
            <a:off x="398520" y="1785960"/>
            <a:ext cx="9523440" cy="484992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 - </a:t>
            </a:r>
            <a:r>
              <a:rPr b="0" i="1" lang="en-US" sz="2400" spc="-1" strike="noStrike">
                <a:solidFill>
                  <a:srgbClr val="ccffff"/>
                </a:solidFill>
                <a:latin typeface="Arial"/>
              </a:rPr>
              <a:t>possibilità</a:t>
            </a:r>
            <a:r>
              <a:rPr b="0" lang="en-US" sz="2400" spc="-1" strike="noStrike">
                <a:solidFill>
                  <a:srgbClr val="ccffff"/>
                </a:solidFill>
                <a:latin typeface="Arial"/>
              </a:rPr>
              <a:t> </a:t>
            </a:r>
            <a:r>
              <a:rPr b="0" i="1" lang="en-US" sz="2400" spc="-1" strike="noStrike">
                <a:solidFill>
                  <a:srgbClr val="ccffff"/>
                </a:solidFill>
                <a:latin typeface="Arial"/>
              </a:rPr>
              <a:t>di vedere immediatamente la foto scattata ed eventualmente cancellarla e rifarl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modificare la “ sensibilità della pellicola “ anche per una solo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ritoccare eventualmente le foto intervenendo su colore, luminosità, contrasto, nitidezza, eliminare particolari indesiderati e tanto altr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stampare solo le foto desiderate in qualsiasi misura e n.ro di copie, dopo averle osservate attentamente a vide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5 - stampare biglietti di auguri, foto con didascalie, calendari, ecc. con le nostre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6 - macchina sempre pronta, anche per una so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7 - zero costi per pellicole e svilupp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8 - possibilità di “ fotocopiare “ fotografie o documenti in gener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8520" y="357120"/>
            <a:ext cx="920736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48" name="PlaceHolder 2"/>
          <p:cNvSpPr>
            <a:spLocks noGrp="1"/>
          </p:cNvSpPr>
          <p:nvPr>
            <p:ph type="subTitle"/>
          </p:nvPr>
        </p:nvSpPr>
        <p:spPr>
          <a:xfrm>
            <a:off x="237960" y="1829880"/>
            <a:ext cx="9684000" cy="5364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9 - le macchine fotografiche digitali di buona qualità hanno uno zoom ottico, già incorporato, di 3/4 X ed in più hanno un ulteriore ingrandimento digitale, di 3/4/5 X, per cui con una macchina compatta si può già disporre di un escursione focale che può andare dai 35/38 mm ai 200/280 mm corrispondenti di una macchina tradizionale, molto più pesante ed ingombrante, con possibilità comunque di aggiungere tele o grandangol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0 - possibilità di fare fotografie in bianco e nero o, con un programma di fotoritocco, far diventare, una foto a colori, in bianco e ner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1 - bilanciamento del bianco in modo da adattarlo al tipo di luce presente al momento, solare, incandescente, neon, per avere colori reali anche con luce artificial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2 - ritoccare vecchie foto togliendo macchie e graffi ed, entro certi limiti, ricostruire parti mancant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3 - possibilità di archiviare una grande quantità di foto in poco spazio e ritrovarle veloce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357120"/>
            <a:ext cx="920736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50" name="PlaceHolder 2"/>
          <p:cNvSpPr>
            <a:spLocks noGrp="1"/>
          </p:cNvSpPr>
          <p:nvPr>
            <p:ph type="subTitle"/>
          </p:nvPr>
        </p:nvSpPr>
        <p:spPr>
          <a:xfrm>
            <a:off x="237960" y="1829880"/>
            <a:ext cx="9684000" cy="5364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4 - informazioni immediate sul display relative alla foto appena scattata con “ tempo / diaframma / lunghezza focale / sensibilità / uso del flash (si/no) / tipo di esposizione / tipo di messa a fuoco / eventuali correzioni di esposizione / ecc. ecc.</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5 - possibilità di vedere le foto sul televisor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6 - registrare foto su CD come copia di sicurezza e archivio a lungo termine o da far vedere ad amici in possesso di un lettore CD.</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7 - registrare su una scheda vuota della machina fotografica con un lettore di schede o su pen drive, come supporti portati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2° lezione</a:t>
            </a:r>
            <a:br>
              <a:rPr sz="4800"/>
            </a:br>
            <a:r>
              <a:rPr b="0" lang="en-US" sz="4800" spc="-1" strike="noStrike">
                <a:solidFill>
                  <a:srgbClr val="ffe701"/>
                </a:solidFill>
                <a:latin typeface="Arial"/>
              </a:rPr>
              <a:t>controindicazioni</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237600" y="1785960"/>
            <a:ext cx="9604440" cy="54086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Costo delle stampe un po’ più care se stampate in casa, che dal fotografo, per 10 x 15 e 13 x 18, le stampe da 20 x 30 costano meno (carta fotografica ed inchiostr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se si fanno viaggi lunghi e si prevede di fare molte foto o in caso di malfunzionamento della scheda, è bene comprare una seconda o terza scheda, i cui prezzi sono scesi parecchio, perchè quando la stessa è piena bisogna scaricarla sul computer quindi cancellare tutte le foto e ricominciare a registrarne altre, ma siccome quando si viaggia non si porta dietro il computer di casa, bisogna munirsi di altre schede per poter registrare altre foto. Esistono in commercio apparecchi portatili che consentono di scaricare le schede senza computer ma dato che i prezzi sono piuttosto alti, conviene comprare 1 o 2 schede in più, a meno che non si pensi di dover fare migliaia di foto durante la vacanz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portare sempre un set di batterie di scorta perché le macchine digitali consumano più corrente delle macchine tradizionali dato che hanno il display e tutti i comandi elettron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3° lezione</a:t>
            </a:r>
            <a:br>
              <a:rPr sz="4800"/>
            </a:br>
            <a:r>
              <a:rPr b="0" lang="en-US" sz="4800" spc="-1" strike="noStrike">
                <a:solidFill>
                  <a:srgbClr val="ffe701"/>
                </a:solidFill>
                <a:latin typeface="Arial"/>
              </a:rPr>
              <a:t>compensazione del bianco</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547560" y="1829880"/>
            <a:ext cx="9058320" cy="53643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1</a:t>
            </a:r>
            <a:r>
              <a:rPr b="0" lang="en-US" sz="2700" spc="-1" strike="noStrike">
                <a:solidFill>
                  <a:srgbClr val="ffffff"/>
                </a:solidFill>
                <a:latin typeface="Arial"/>
              </a:rPr>
              <a:t> </a:t>
            </a:r>
            <a:r>
              <a:rPr b="0" i="1" lang="en-US" sz="2700" spc="-1" strike="noStrike">
                <a:solidFill>
                  <a:srgbClr val="ccffff"/>
                </a:solidFill>
                <a:latin typeface="Arial"/>
              </a:rPr>
              <a:t>- la compensazione del bianco ( white balance ) significa adeguare il tipo di luce, attualmente in uso, al sistema esposimetrico della macchina.</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2 - facendo un paragone con la pellicola tradizionale, la stessa è disponibile per luce solare ( quella più comunemente usata e che è tarata a 5.500 gradi kelvin ) o per luce artificiale ( tarata per 3.400 gradi kelvin ) che poi con opportuni filtri viene adattata alle lampade ad incandescenza (lampadine), o al neon con diverse sfumature di color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3 - la fotocamera digitale dà la possibilità di ottenere gli stessi risultati ( anche per una sola foto ) adattando il sistema esposimetrico al tipo di luce che stiamo usando in quel momento, quindi solare, lampadine o neon</a:t>
            </a:r>
            <a:r>
              <a:rPr b="0" lang="en-US" sz="2700" spc="-1" strike="noStrike">
                <a:solidFill>
                  <a:srgbClr val="ccffff"/>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47560" y="264600"/>
            <a:ext cx="9058320" cy="1009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4° lezione</a:t>
            </a:r>
            <a:br>
              <a:rPr sz="4800"/>
            </a:br>
            <a:r>
              <a:rPr b="0" lang="en-US" sz="4800" spc="-1" strike="noStrike">
                <a:solidFill>
                  <a:srgbClr val="ffe701"/>
                </a:solidFill>
                <a:latin typeface="Arial"/>
              </a:rPr>
              <a:t>modalità di ripresa</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237960" y="1465200"/>
            <a:ext cx="9684000" cy="58118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1 - Ci sono diverse modalità di definizione dell’immagine, secondo l’uso che si pensa di fare della foto.</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2 - per l’invio di foto tramite internet la risoluzione di 640 x 480 pixel è già sufficiente, a patto di non doverla stampar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3 - per la stampa di foto formato 10 x 15 di buona qualità la risoluzione da preferire è 1600 x 1200 ( 2 megapixel ).</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4 - per la stampa di foto formato 13 x 18 di alta qualità la risoluzione di 2000 x 1500 è da utilizzare ( 3 megapixel )</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5 - per la stampa di formato 20 x 30 di alta qualità, la risoluzione minima deve essere di almeno 2272 x 1704 ( corr. a 4 megapixel ) ma è da preferire 2500 x 2000 ( 5 megapixel).</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6 – naturalmente la diversa risoluzione utilizzata implica un maggiore o minore utilizzo dello spazio occupato sulla scheda di memoria e di conseguenza varia il numero delle foto registrabili sulla stess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47560" y="264600"/>
            <a:ext cx="9058320" cy="1009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4° lezione</a:t>
            </a:r>
            <a:br>
              <a:rPr sz="4800"/>
            </a:br>
            <a:r>
              <a:rPr b="0" lang="en-US" sz="4800" spc="-1" strike="noStrike">
                <a:solidFill>
                  <a:srgbClr val="ffe701"/>
                </a:solidFill>
                <a:latin typeface="Arial"/>
              </a:rPr>
              <a:t>modalità di ripresa</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237960" y="1704960"/>
            <a:ext cx="9684000" cy="5013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7 - vi è poi, sullo stesso livello di risoluzione, la possibilità di registrare le foto, sulla scheda, con tre livelli di compressione ( basso, medio, alto ) che anche in questo caso andranno a determinare lo spazio che occuperanno le foto sulla scheda, tenendo presente che ad un alto grado del livello di compressione corrisponde un sensibile deterioramento della qualità dell’immagine, l’uso del livello medio è consigliabil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8 - i livelli di compressione sono rispettivamente di 1/4 - 1/8 – 1/16.</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9 - Se si pensa di utilizzare solo una parte della foto è consigliabile una definizione alta (almeno 4 megapixel ) e una compressione bassa (1/4), tenendo presente che lo spazio occupato raddoppierà.</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55440"/>
            <a:ext cx="10083600" cy="1300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5° lezione</a:t>
            </a:r>
            <a:br>
              <a:rPr sz="4800"/>
            </a:br>
            <a:r>
              <a:rPr b="0" lang="en-US" sz="4800" spc="-1" strike="noStrike">
                <a:solidFill>
                  <a:srgbClr val="ffe701"/>
                </a:solidFill>
                <a:latin typeface="Arial"/>
              </a:rPr>
              <a:t>risoluzione della foto</a:t>
            </a:r>
            <a:endParaRPr b="0" lang="en-US" sz="4800" spc="-1" strike="noStrike">
              <a:solidFill>
                <a:srgbClr val="000000"/>
              </a:solidFill>
              <a:latin typeface="Times New Roman"/>
            </a:endParaRPr>
          </a:p>
        </p:txBody>
      </p:sp>
      <p:sp>
        <p:nvSpPr>
          <p:cNvPr id="60" name="PlaceHolder 2"/>
          <p:cNvSpPr>
            <a:spLocks noGrp="1"/>
          </p:cNvSpPr>
          <p:nvPr>
            <p:ph type="subTitle"/>
          </p:nvPr>
        </p:nvSpPr>
        <p:spPr>
          <a:xfrm>
            <a:off x="237960" y="1623960"/>
            <a:ext cx="9684000" cy="51278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la foto digitale è formata da moltissimi punti colorati ( pixel ) che formano l’immagi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ovviamente più punti formano l’immagine stessa e più aumenta la definizione e nitidezz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ono disponibili macchine con definizioni da 3 - 4 - 5 – 6 e più megapixel ma, per uso amatoriale anche di buon livello, una macchine da 5 o 6 megapixel è già più che sufficiente considerando che definizioni maggiori servono a fare stampe di grandi dimensioni. Tenete presente che è meglio avere un buon obiettivo e un buon software di elaborazione dell’immagine piuttosto che 10 megapixel.</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a:t>
            </a:r>
            <a:r>
              <a:rPr b="0" i="1" lang="en-US" sz="2400" spc="-1" strike="noStrike" u="sng">
                <a:solidFill>
                  <a:srgbClr val="ccffff"/>
                </a:solidFill>
                <a:uFillTx/>
                <a:latin typeface="Arial"/>
              </a:rPr>
              <a:t>elenco risoluzioni: </a:t>
            </a:r>
            <a:r>
              <a:rPr b="0" i="1" lang="en-US" sz="2400" spc="-1" strike="noStrike">
                <a:solidFill>
                  <a:srgbClr val="ccffff"/>
                </a:solidFill>
                <a:latin typeface="Arial"/>
              </a:rPr>
              <a:t>640 x 480 = 0,307 mpx – 1024 x 768 = 0,786 mpx – 1280 x 960 = 1,228 mpx – 1600 x 1200 = 2 mpx – 2274 x 1704 = 4 mpx – 2500 x 2000 = 5 mpx – 2830 x 2120 = 6 mpx - ec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