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8CC0-2C78-4EA6-A1E6-9CC36584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56F6-FC0F-4858-8310-E65BABE1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7BBD-B885-419F-874B-CABE36F3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982C-1B67-4785-A7C5-0DDCD787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100-07BA-4445-AB62-72012561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FAC1-F9BC-4B6A-AF42-F98B796A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48A-6EE8-45A7-96D4-8F580FF9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196D-2F22-49B5-8987-799998CF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689-2B5C-425B-AABD-9E3586C5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715-03DB-468E-9008-B4602218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FC1A-11AD-4ECB-AD94-E163AC7B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92E-9941-41E4-8C46-9F481EE2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A720-9D68-4334-89E6-DEB9EEBB0C1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7:17:59Z</dcterms:modified>
  <cp:revision>24</cp:revision>
  <dc:subject/>
  <dc:title>슬라이드 1</dc:title>
</cp:coreProperties>
</file>