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65C-A7C9-4501-859D-35156EA1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05D-B1CB-48F6-ACC5-85274841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4F6-8A15-4AE4-8E1D-4ACDDBA9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6C3E-A7D5-4C8A-9BBB-4A9847BA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E15-84C9-4E2B-BE6A-A4450E8E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FAF-E1CA-4897-9E0B-F7DC6539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7B0-9AE9-4B2A-A013-8032D68E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F66-CA18-436C-BE97-4DDD92B0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7BA-AE3F-47A3-820A-CD330AAF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63F-09CE-4460-B1B8-F55E0B48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E6B-0927-4B3A-953B-9E0563BF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B44-A4D4-437F-9F6E-79A5EE6C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B55A-96AB-4FC0-BF0B-CFBD72CEAEA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7:17:59Z</dcterms:modified>
  <cp:revision>24</cp:revision>
  <dc:subject/>
  <dc:title>슬라이드 1</dc:title>
</cp:coreProperties>
</file>